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7C2-DC4C-4BB5-B303-7C0E6335A5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1200" y="8745480"/>
            <a:ext cx="9986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2D18ABB-087A-4647-A96D-D0A730BB849C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../slides/slide46.xml"/><Relationship Id="rId3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body"/>
          </p:nvPr>
        </p:nvSpPr>
        <p:spPr>
          <a:xfrm>
            <a:off x="623880" y="4200480"/>
            <a:ext cx="5557680" cy="4151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makes an automated diagnostic system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ree components 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electro optical hard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posable panel for bio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derivatives  - all small, on all three system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rivatives character was aimed at increased functionality and features, which was counter to what the customer wanted.  They were giving them “more bells and whistl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single new platform in 7 to 8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four very small efforts designed to explore “next generation” 21st Century technologies - while competitors were investing 100s of millions of dol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tion to Next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one year of implementing, the company’s product development restructuring process had the following effect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 type="sldImg"/>
          </p:nvPr>
        </p:nvSpPr>
        <p:spPr>
          <a:xfrm>
            <a:off x="1146240" y="700200"/>
            <a:ext cx="4567320" cy="3423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body"/>
          </p:nvPr>
        </p:nvSpPr>
        <p:spPr>
          <a:xfrm>
            <a:off x="712440" y="4250880"/>
            <a:ext cx="551988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d all but one of the breakthrough projects, and subsequently eliminated all breakthroug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ventures between corporate parent to share development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joint corporate effort to think about next generation techn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d a lot of derivatives and feature enhancements that weren’t adding  value to custo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artnered platform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companies are doing the hardware and softwar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ompany is doing the bio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icient amount of resources have been allocated to ensure t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is adequately staffed to meet all project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Development efforts to be in line with core competencies and establish alliances to do all other tasks outside their own busi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R&amp;D spending from $65mm to $3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 type="sldImg"/>
          </p:nvPr>
        </p:nvSpPr>
        <p:spPr>
          <a:xfrm>
            <a:off x="1146240" y="700200"/>
            <a:ext cx="4567320" cy="3423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body"/>
          </p:nvPr>
        </p:nvSpPr>
        <p:spPr>
          <a:xfrm>
            <a:off x="902880" y="4365360"/>
            <a:ext cx="5049720" cy="412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focusing their innovation efforts they saw more product launches in 1993 than 1992, even though they had fewer projects and fewer dol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tion to Next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situation was also evident in a Scientific Instruments Manufactur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 type="sldImg"/>
          </p:nvPr>
        </p:nvSpPr>
        <p:spPr>
          <a:xfrm>
            <a:off x="1146240" y="700200"/>
            <a:ext cx="4567320" cy="3423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o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ve C/T matr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most helpful in the context of benchmarking Unilever projects versus the key competitors in the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ents Filings C/T matri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Unilever and competitive patent fi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 matr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splays planned launch timings by country over a 3 ye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Generation M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hows how high level projects can give rise to and be leveraged by one or more levels of derivative project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Overcommitment Ch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hows the project workload vs. resource for individu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y Chain Matri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used as a drill down from the shaded “no change” column on the category c/t matrix.  It illustrates the strategic relevance of th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pic>
        <p:nvPicPr>
          <p:cNvPr id="3955" name="" descr=""/>
          <p:cNvPicPr/>
          <p:nvPr/>
        </p:nvPicPr>
        <p:blipFill>
          <a:blip r:embed="rId1"/>
          <a:stretch/>
        </p:blipFill>
        <p:spPr>
          <a:xfrm>
            <a:off x="2647800" y="1397160"/>
            <a:ext cx="1405080" cy="98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-144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3884760" y="-144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-1440" y="8685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97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3B2-29FF-4932-9884-39260EE1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A9C-E4A2-4C67-947C-0D1BBEAA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03E-0F1A-4285-BA82-3C8FAF97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536-F412-4AB8-A906-154017F2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2B9-6070-4DF7-80EB-CDAC4FF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AC-DEAD-48FF-B48B-37981CA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62E-BFEC-4FEA-BFF4-4C2E99A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FF6-8BB6-4683-8DD9-A0319E4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A63-29C2-45E9-9D1C-1CD305B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5F2-12B5-49A4-BCE1-771C8B9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E95-18B7-4E02-B9F2-0B946B0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DF5-0600-49A7-BD7B-023524B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A9D-76A8-4505-961A-A7E1502D603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b05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053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2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b05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ctually </a:t>
            </a: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doing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Technology &amp; Product Strategy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fessor Rebecca Henderson, M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oup 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92840" y="126540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7720" y="3979800"/>
            <a:ext cx="824040" cy="501840"/>
          </a:xfrm>
          <a:custGeom>
            <a:avLst/>
            <a:gdLst/>
            <a:ahLst/>
            <a:rect l="l" t="t" r="r" b="b"/>
            <a:pathLst>
              <a:path w="519" h="316">
                <a:moveTo>
                  <a:pt x="0" y="0"/>
                </a:moveTo>
                <a:lnTo>
                  <a:pt x="518" y="0"/>
                </a:lnTo>
                <a:lnTo>
                  <a:pt x="518" y="315"/>
                </a:lnTo>
                <a:lnTo>
                  <a:pt x="0" y="31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943360" y="2908440"/>
            <a:ext cx="415800" cy="582480"/>
            <a:chOff x="2943360" y="2908440"/>
            <a:chExt cx="415800" cy="582480"/>
          </a:xfrm>
        </p:grpSpPr>
        <p:grpSp>
          <p:nvGrpSpPr>
            <p:cNvPr id="406" name=""/>
            <p:cNvGrpSpPr/>
            <p:nvPr/>
          </p:nvGrpSpPr>
          <p:grpSpPr>
            <a:xfrm>
              <a:off x="2943360" y="2908440"/>
              <a:ext cx="415800" cy="582480"/>
              <a:chOff x="2943360" y="2908440"/>
              <a:chExt cx="415800" cy="582480"/>
            </a:xfrm>
          </p:grpSpPr>
          <p:sp>
            <p:nvSpPr>
              <p:cNvPr id="407" name=""/>
              <p:cNvSpPr/>
              <p:nvPr/>
            </p:nvSpPr>
            <p:spPr>
              <a:xfrm>
                <a:off x="2943360" y="3016080"/>
                <a:ext cx="223560" cy="474840"/>
              </a:xfrm>
              <a:custGeom>
                <a:avLst/>
                <a:gdLst/>
                <a:ahLst/>
                <a:rect l="l" t="t" r="r" b="b"/>
                <a:pathLst>
                  <a:path w="141" h="299">
                    <a:moveTo>
                      <a:pt x="0" y="0"/>
                    </a:moveTo>
                    <a:lnTo>
                      <a:pt x="140" y="69"/>
                    </a:lnTo>
                    <a:lnTo>
                      <a:pt x="140" y="29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65480" y="3016080"/>
                <a:ext cx="193680" cy="47484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121" y="0"/>
                    </a:moveTo>
                    <a:lnTo>
                      <a:pt x="121" y="218"/>
                    </a:lnTo>
                    <a:lnTo>
                      <a:pt x="0" y="298"/>
                    </a:lnTo>
                    <a:lnTo>
                      <a:pt x="0" y="58"/>
                    </a:lnTo>
                    <a:lnTo>
                      <a:pt x="1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43360" y="2908440"/>
                <a:ext cx="415800" cy="218880"/>
              </a:xfrm>
              <a:custGeom>
                <a:avLst/>
                <a:gdLst/>
                <a:ahLst/>
                <a:rect l="l" t="t" r="r" b="b"/>
                <a:pathLst>
                  <a:path w="262" h="138">
                    <a:moveTo>
                      <a:pt x="0" y="68"/>
                    </a:moveTo>
                    <a:lnTo>
                      <a:pt x="120" y="0"/>
                    </a:lnTo>
                    <a:lnTo>
                      <a:pt x="261" y="68"/>
                    </a:lnTo>
                    <a:lnTo>
                      <a:pt x="140" y="137"/>
                    </a:lnTo>
                    <a:lnTo>
                      <a:pt x="9" y="68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006720" y="3132000"/>
              <a:ext cx="396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83040" y="3168720"/>
              <a:ext cx="363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6720" y="3259080"/>
              <a:ext cx="396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83040" y="3295800"/>
              <a:ext cx="363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957400" y="3743280"/>
            <a:ext cx="416160" cy="584280"/>
            <a:chOff x="2957400" y="3743280"/>
            <a:chExt cx="416160" cy="584280"/>
          </a:xfrm>
        </p:grpSpPr>
        <p:grpSp>
          <p:nvGrpSpPr>
            <p:cNvPr id="415" name=""/>
            <p:cNvGrpSpPr/>
            <p:nvPr/>
          </p:nvGrpSpPr>
          <p:grpSpPr>
            <a:xfrm>
              <a:off x="2957400" y="3743280"/>
              <a:ext cx="416160" cy="584280"/>
              <a:chOff x="2957400" y="3743280"/>
              <a:chExt cx="416160" cy="584280"/>
            </a:xfrm>
          </p:grpSpPr>
          <p:sp>
            <p:nvSpPr>
              <p:cNvPr id="416" name=""/>
              <p:cNvSpPr/>
              <p:nvPr/>
            </p:nvSpPr>
            <p:spPr>
              <a:xfrm>
                <a:off x="2957400" y="3852720"/>
                <a:ext cx="223920" cy="474840"/>
              </a:xfrm>
              <a:custGeom>
                <a:avLst/>
                <a:gdLst/>
                <a:ahLst/>
                <a:rect l="l" t="t" r="r" b="b"/>
                <a:pathLst>
                  <a:path w="141" h="299">
                    <a:moveTo>
                      <a:pt x="0" y="0"/>
                    </a:moveTo>
                    <a:lnTo>
                      <a:pt x="140" y="80"/>
                    </a:lnTo>
                    <a:lnTo>
                      <a:pt x="140" y="29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79880" y="3852720"/>
                <a:ext cx="193680" cy="47484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121" y="0"/>
                    </a:moveTo>
                    <a:lnTo>
                      <a:pt x="121" y="218"/>
                    </a:lnTo>
                    <a:lnTo>
                      <a:pt x="0" y="298"/>
                    </a:lnTo>
                    <a:lnTo>
                      <a:pt x="0" y="69"/>
                    </a:lnTo>
                    <a:lnTo>
                      <a:pt x="1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57400" y="3743280"/>
                <a:ext cx="416160" cy="238320"/>
              </a:xfrm>
              <a:custGeom>
                <a:avLst/>
                <a:gdLst/>
                <a:ahLst/>
                <a:rect l="l" t="t" r="r" b="b"/>
                <a:pathLst>
                  <a:path w="262" h="150">
                    <a:moveTo>
                      <a:pt x="0" y="69"/>
                    </a:moveTo>
                    <a:lnTo>
                      <a:pt x="121" y="0"/>
                    </a:lnTo>
                    <a:lnTo>
                      <a:pt x="261" y="69"/>
                    </a:lnTo>
                    <a:lnTo>
                      <a:pt x="140" y="149"/>
                    </a:lnTo>
                    <a:lnTo>
                      <a:pt x="9" y="69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3006720" y="3968640"/>
              <a:ext cx="396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67200" y="4078440"/>
              <a:ext cx="3780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11480" y="4186080"/>
              <a:ext cx="381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317600" y="2222640"/>
            <a:ext cx="660600" cy="487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19560" y="1895400"/>
            <a:ext cx="66024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7640" y="3368520"/>
            <a:ext cx="660240" cy="48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84400" y="4514760"/>
            <a:ext cx="660240" cy="48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30360" y="5495760"/>
            <a:ext cx="658800" cy="48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646000" y="2709720"/>
            <a:ext cx="1074960" cy="2136600"/>
            <a:chOff x="2646000" y="2709720"/>
            <a:chExt cx="1074960" cy="2136600"/>
          </a:xfrm>
        </p:grpSpPr>
        <p:sp>
          <p:nvSpPr>
            <p:cNvPr id="428" name=""/>
            <p:cNvSpPr/>
            <p:nvPr/>
          </p:nvSpPr>
          <p:spPr>
            <a:xfrm>
              <a:off x="2646000" y="2709720"/>
              <a:ext cx="107316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9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9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47800" y="2709720"/>
              <a:ext cx="1073160" cy="21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4"/>
                  </a:moveTo>
                  <a:arcTo wR="10800" hR="10800" stAng="-10794888" swAng="5384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4"/>
                  </a:moveTo>
                  <a:arcTo wR="10800" hR="10800" stAng="-10794888" swAng="5384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47800" y="2711880"/>
              <a:ext cx="107280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5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51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6360" y="3765960"/>
              <a:ext cx="1072800" cy="107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8"/>
                  </a:moveTo>
                  <a:arcTo wR="10800" hR="10800" stAng="-10096" swAng="5410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8"/>
                  </a:moveTo>
                  <a:arcTo wR="10800" hR="10800" stAng="-10096" swAng="54100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714840" y="2708280"/>
            <a:ext cx="134244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21600"/>
                </a:moveTo>
                <a:arcTo wR="10800" hR="10800" stAng="5408136" swAng="5391864"/>
                <a:lnTo>
                  <a:pt x="10800" y="10800"/>
                </a:lnTo>
                <a:close/>
              </a:path>
              <a:path fill="none" w="21600" h="21600">
                <a:moveTo>
                  <a:pt x="10774" y="21600"/>
                </a:moveTo>
                <a:arcTo wR="10800" hR="10800" stAng="5408136" swAng="539186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16280" y="3854520"/>
            <a:ext cx="13395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93"/>
                </a:moveTo>
                <a:arcTo wR="10800" hR="10800" stAng="-10733976" swAng="5325840"/>
                <a:lnTo>
                  <a:pt x="10800" y="10800"/>
                </a:lnTo>
                <a:close/>
              </a:path>
              <a:path fill="none" w="21600" h="21600">
                <a:moveTo>
                  <a:pt x="2" y="10593"/>
                </a:moveTo>
                <a:arcTo wR="10800" hR="10800" stAng="-10733976" swAng="532584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83000" y="3363840"/>
            <a:ext cx="1073160" cy="66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94"/>
                </a:moveTo>
                <a:arcTo wR="10800" hR="10800" stAng="-10734311" swAng="5324155"/>
                <a:lnTo>
                  <a:pt x="10800" y="10800"/>
                </a:lnTo>
                <a:close/>
              </a:path>
              <a:path fill="none" w="21600" h="21600">
                <a:moveTo>
                  <a:pt x="2" y="10594"/>
                </a:moveTo>
                <a:arcTo wR="10800" hR="10800" stAng="-10734311" swAng="532415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7040" y="3363840"/>
            <a:ext cx="122184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16560" y="3527280"/>
            <a:ext cx="806040" cy="33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96"/>
                </a:moveTo>
                <a:arcTo wR="10800" hR="10800" stAng="-10735145" swAng="5321611"/>
                <a:lnTo>
                  <a:pt x="10800" y="10800"/>
                </a:lnTo>
                <a:close/>
              </a:path>
              <a:path fill="none" w="21600" h="21600">
                <a:moveTo>
                  <a:pt x="2" y="10596"/>
                </a:moveTo>
                <a:arcTo wR="10800" hR="10800" stAng="-10735145" swAng="532161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16200" y="3527280"/>
            <a:ext cx="806400" cy="33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34" swAng="5348423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34" swAng="534842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81560" y="3527280"/>
            <a:ext cx="1342440" cy="66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21600"/>
                </a:moveTo>
                <a:arcTo wR="10800" hR="10800" stAng="5408136" swAng="5457572"/>
                <a:lnTo>
                  <a:pt x="10800" y="10800"/>
                </a:lnTo>
                <a:close/>
              </a:path>
              <a:path fill="none" w="21600" h="21600">
                <a:moveTo>
                  <a:pt x="10774" y="21600"/>
                </a:moveTo>
                <a:arcTo wR="10800" hR="10800" stAng="5408136" swAng="545757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16560" y="3691080"/>
            <a:ext cx="8060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6485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6485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2600" y="3616200"/>
            <a:ext cx="563760" cy="420840"/>
          </a:xfrm>
          <a:custGeom>
            <a:avLst/>
            <a:gdLst/>
            <a:ahLst/>
            <a:rect l="l" t="t" r="r" b="b"/>
            <a:pathLst>
              <a:path w="355" h="265">
                <a:moveTo>
                  <a:pt x="140" y="252"/>
                </a:moveTo>
                <a:lnTo>
                  <a:pt x="93" y="218"/>
                </a:lnTo>
                <a:lnTo>
                  <a:pt x="56" y="195"/>
                </a:lnTo>
                <a:lnTo>
                  <a:pt x="18" y="161"/>
                </a:lnTo>
                <a:lnTo>
                  <a:pt x="9" y="115"/>
                </a:lnTo>
                <a:lnTo>
                  <a:pt x="0" y="80"/>
                </a:lnTo>
                <a:lnTo>
                  <a:pt x="18" y="46"/>
                </a:lnTo>
                <a:lnTo>
                  <a:pt x="47" y="23"/>
                </a:lnTo>
                <a:lnTo>
                  <a:pt x="93" y="23"/>
                </a:lnTo>
                <a:lnTo>
                  <a:pt x="167" y="0"/>
                </a:lnTo>
                <a:lnTo>
                  <a:pt x="251" y="23"/>
                </a:lnTo>
                <a:lnTo>
                  <a:pt x="307" y="69"/>
                </a:lnTo>
                <a:lnTo>
                  <a:pt x="335" y="115"/>
                </a:lnTo>
                <a:lnTo>
                  <a:pt x="354" y="184"/>
                </a:lnTo>
                <a:lnTo>
                  <a:pt x="335" y="206"/>
                </a:lnTo>
                <a:lnTo>
                  <a:pt x="326" y="229"/>
                </a:lnTo>
                <a:lnTo>
                  <a:pt x="317" y="241"/>
                </a:lnTo>
                <a:lnTo>
                  <a:pt x="307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54600" y="3708360"/>
            <a:ext cx="282600" cy="273240"/>
          </a:xfrm>
          <a:custGeom>
            <a:avLst/>
            <a:gdLst/>
            <a:ahLst/>
            <a:rect l="l" t="t" r="r" b="b"/>
            <a:pathLst>
              <a:path w="178" h="172">
                <a:moveTo>
                  <a:pt x="121" y="160"/>
                </a:moveTo>
                <a:lnTo>
                  <a:pt x="140" y="148"/>
                </a:lnTo>
                <a:lnTo>
                  <a:pt x="167" y="137"/>
                </a:lnTo>
                <a:lnTo>
                  <a:pt x="177" y="91"/>
                </a:lnTo>
                <a:lnTo>
                  <a:pt x="167" y="57"/>
                </a:lnTo>
                <a:lnTo>
                  <a:pt x="121" y="22"/>
                </a:lnTo>
                <a:lnTo>
                  <a:pt x="83" y="0"/>
                </a:lnTo>
                <a:lnTo>
                  <a:pt x="47" y="0"/>
                </a:lnTo>
                <a:lnTo>
                  <a:pt x="9" y="34"/>
                </a:lnTo>
                <a:lnTo>
                  <a:pt x="0" y="80"/>
                </a:lnTo>
                <a:lnTo>
                  <a:pt x="28" y="114"/>
                </a:lnTo>
                <a:lnTo>
                  <a:pt x="65" y="137"/>
                </a:lnTo>
                <a:lnTo>
                  <a:pt x="93" y="148"/>
                </a:lnTo>
                <a:lnTo>
                  <a:pt x="121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3908520"/>
            <a:ext cx="163800" cy="128520"/>
          </a:xfrm>
          <a:custGeom>
            <a:avLst/>
            <a:gdLst/>
            <a:ahLst/>
            <a:rect l="l" t="t" r="r" b="b"/>
            <a:pathLst>
              <a:path w="103" h="81">
                <a:moveTo>
                  <a:pt x="0" y="80"/>
                </a:moveTo>
                <a:lnTo>
                  <a:pt x="45" y="68"/>
                </a:lnTo>
                <a:lnTo>
                  <a:pt x="74" y="34"/>
                </a:lnTo>
                <a:lnTo>
                  <a:pt x="92" y="11"/>
                </a:lnTo>
                <a:lnTo>
                  <a:pt x="10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3962520"/>
            <a:ext cx="106560" cy="74520"/>
          </a:xfrm>
          <a:custGeom>
            <a:avLst/>
            <a:gdLst/>
            <a:ahLst/>
            <a:rect l="l" t="t" r="r" b="b"/>
            <a:pathLst>
              <a:path w="67" h="47">
                <a:moveTo>
                  <a:pt x="0" y="0"/>
                </a:moveTo>
                <a:lnTo>
                  <a:pt x="27" y="23"/>
                </a:lnTo>
                <a:lnTo>
                  <a:pt x="66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0680" y="4016520"/>
            <a:ext cx="311040" cy="147600"/>
          </a:xfrm>
          <a:custGeom>
            <a:avLst/>
            <a:gdLst/>
            <a:ahLst/>
            <a:rect l="l" t="t" r="r" b="b"/>
            <a:pathLst>
              <a:path w="196" h="93">
                <a:moveTo>
                  <a:pt x="0" y="0"/>
                </a:moveTo>
                <a:lnTo>
                  <a:pt x="55" y="23"/>
                </a:lnTo>
                <a:lnTo>
                  <a:pt x="102" y="46"/>
                </a:lnTo>
                <a:lnTo>
                  <a:pt x="148" y="80"/>
                </a:lnTo>
                <a:lnTo>
                  <a:pt x="195" y="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14760" y="368928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15040" y="3689280"/>
            <a:ext cx="46080" cy="238320"/>
          </a:xfrm>
          <a:custGeom>
            <a:avLst/>
            <a:gdLst/>
            <a:ahLst/>
            <a:rect l="l" t="t" r="r" b="b"/>
            <a:pathLst>
              <a:path w="29" h="150">
                <a:moveTo>
                  <a:pt x="0" y="0"/>
                </a:moveTo>
                <a:lnTo>
                  <a:pt x="18" y="57"/>
                </a:lnTo>
                <a:lnTo>
                  <a:pt x="28" y="115"/>
                </a:lnTo>
                <a:lnTo>
                  <a:pt x="9" y="1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54600" y="3711600"/>
            <a:ext cx="6886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6"/>
                </a:moveTo>
                <a:arcTo wR="10800" hR="10800" stAng="-23627" swAng="5423627"/>
                <a:lnTo>
                  <a:pt x="10800" y="10800"/>
                </a:lnTo>
                <a:close/>
              </a:path>
              <a:path fill="none" w="21600" h="21600">
                <a:moveTo>
                  <a:pt x="21600" y="10726"/>
                </a:moveTo>
                <a:arcTo wR="10800" hR="10800" stAng="-23627" swAng="542362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38960" y="3562560"/>
            <a:ext cx="62784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54800" y="3817800"/>
            <a:ext cx="628200" cy="24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1"/>
                </a:moveTo>
                <a:arcTo wR="10800" hR="10800" stAng="-10755645" swAng="5338393"/>
                <a:lnTo>
                  <a:pt x="10800" y="10800"/>
                </a:lnTo>
                <a:close/>
              </a:path>
              <a:path fill="none" w="21600" h="21600">
                <a:moveTo>
                  <a:pt x="1" y="10661"/>
                </a:moveTo>
                <a:arcTo wR="10800" hR="10800" stAng="-10755645" swAng="533839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523480" y="3562560"/>
            <a:ext cx="641880" cy="502560"/>
            <a:chOff x="5523480" y="3562560"/>
            <a:chExt cx="641880" cy="502560"/>
          </a:xfrm>
        </p:grpSpPr>
        <p:sp>
          <p:nvSpPr>
            <p:cNvPr id="451" name=""/>
            <p:cNvSpPr/>
            <p:nvPr/>
          </p:nvSpPr>
          <p:spPr>
            <a:xfrm>
              <a:off x="5523480" y="3562560"/>
              <a:ext cx="6278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37160" y="3817800"/>
              <a:ext cx="628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55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5564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132600" y="3581280"/>
            <a:ext cx="761400" cy="24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1"/>
                </a:moveTo>
                <a:arcTo wR="10800" hR="10800" stAng="-10755736" swAng="5341534"/>
                <a:lnTo>
                  <a:pt x="10800" y="10800"/>
                </a:lnTo>
                <a:close/>
              </a:path>
              <a:path fill="none" w="21600" h="21600">
                <a:moveTo>
                  <a:pt x="1" y="10661"/>
                </a:moveTo>
                <a:arcTo wR="10800" hR="10800" stAng="-10755736" swAng="534153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46640" y="3799080"/>
            <a:ext cx="76212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64360" y="3581280"/>
            <a:ext cx="761400" cy="24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56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564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64360" y="3780000"/>
            <a:ext cx="761400" cy="24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61"/>
                </a:moveTo>
                <a:arcTo wR="10800" hR="10800" stAng="-44355" swAng="5444355"/>
                <a:lnTo>
                  <a:pt x="10800" y="10800"/>
                </a:lnTo>
                <a:close/>
              </a:path>
              <a:path fill="none" w="21600" h="21600">
                <a:moveTo>
                  <a:pt x="21599" y="10661"/>
                </a:moveTo>
                <a:arcTo wR="10800" hR="10800" stAng="-44355" swAng="544435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07000" y="2914560"/>
            <a:ext cx="142920" cy="17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37280" y="3873600"/>
            <a:ext cx="628200" cy="13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" y="10546"/>
                </a:moveTo>
                <a:arcTo wR="10800" hR="10800" stAng="-10719127" swAng="5301966"/>
                <a:lnTo>
                  <a:pt x="10800" y="10800"/>
                </a:lnTo>
                <a:close/>
              </a:path>
              <a:path fill="none" w="21600" h="21600">
                <a:moveTo>
                  <a:pt x="3" y="10546"/>
                </a:moveTo>
                <a:arcTo wR="10800" hR="10800" stAng="-10719127" swAng="530196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1440" y="3616200"/>
            <a:ext cx="62784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97840" y="3325680"/>
            <a:ext cx="259920" cy="42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19"/>
                </a:moveTo>
                <a:arcTo wR="10800" hR="10800" stAng="-25717" swAng="5468053"/>
                <a:lnTo>
                  <a:pt x="10800" y="10800"/>
                </a:lnTo>
                <a:close/>
              </a:path>
              <a:path fill="none" w="21600" h="21600">
                <a:moveTo>
                  <a:pt x="21600" y="10719"/>
                </a:moveTo>
                <a:arcTo wR="10800" hR="10800" stAng="-25717" swAng="546805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00720" y="3873600"/>
            <a:ext cx="25704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8" y="1"/>
                </a:moveTo>
                <a:arcTo wR="10800" hR="10800" stAng="-5442023" swAng="5416306"/>
                <a:lnTo>
                  <a:pt x="10800" y="10800"/>
                </a:lnTo>
                <a:close/>
              </a:path>
              <a:path fill="none" w="21600" h="21600">
                <a:moveTo>
                  <a:pt x="10668" y="1"/>
                </a:moveTo>
                <a:arcTo wR="10800" hR="10800" stAng="-5442023" swAng="541630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7450200" y="3543480"/>
            <a:ext cx="652320" cy="0"/>
            <a:chOff x="7450200" y="3543480"/>
            <a:chExt cx="652320" cy="0"/>
          </a:xfrm>
        </p:grpSpPr>
        <p:sp>
          <p:nvSpPr>
            <p:cNvPr id="463" name=""/>
            <p:cNvSpPr/>
            <p:nvPr/>
          </p:nvSpPr>
          <p:spPr>
            <a:xfrm>
              <a:off x="7450200" y="354348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16960" y="354348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83360" y="354348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464600" y="4071960"/>
            <a:ext cx="801360" cy="0"/>
            <a:chOff x="7464600" y="4071960"/>
            <a:chExt cx="801360" cy="0"/>
          </a:xfrm>
        </p:grpSpPr>
        <p:sp>
          <p:nvSpPr>
            <p:cNvPr id="467" name=""/>
            <p:cNvSpPr/>
            <p:nvPr/>
          </p:nvSpPr>
          <p:spPr>
            <a:xfrm>
              <a:off x="7464600" y="407196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31000" y="407196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97760" y="407196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50120" y="40719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033880" y="4143240"/>
            <a:ext cx="60480" cy="38160"/>
          </a:xfrm>
          <a:custGeom>
            <a:avLst/>
            <a:gdLst/>
            <a:ahLst/>
            <a:rect l="l" t="t" r="r" b="b"/>
            <a:pathLst>
              <a:path w="38" h="24">
                <a:moveTo>
                  <a:pt x="0" y="23"/>
                </a:moveTo>
                <a:lnTo>
                  <a:pt x="9" y="23"/>
                </a:lnTo>
                <a:lnTo>
                  <a:pt x="18" y="23"/>
                </a:lnTo>
                <a:lnTo>
                  <a:pt x="27" y="23"/>
                </a:lnTo>
                <a:lnTo>
                  <a:pt x="27" y="12"/>
                </a:lnTo>
                <a:lnTo>
                  <a:pt x="27" y="0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81640" y="2540160"/>
            <a:ext cx="35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14840" y="2540160"/>
            <a:ext cx="329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33280" y="2540160"/>
            <a:ext cx="365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75920" y="3613320"/>
            <a:ext cx="342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94360" y="3613320"/>
            <a:ext cx="305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7680" y="3613320"/>
            <a:ext cx="305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2440" y="3613320"/>
            <a:ext cx="244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48520" y="3613320"/>
            <a:ext cx="244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02720" y="4622760"/>
            <a:ext cx="80640" cy="8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43880" y="468936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136000" y="4691160"/>
            <a:ext cx="151920" cy="8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82" y="2"/>
                </a:moveTo>
                <a:arcTo wR="10800" hR="10800" stAng="-5469509" swAng="5333362"/>
                <a:lnTo>
                  <a:pt x="10800" y="10800"/>
                </a:lnTo>
                <a:close/>
              </a:path>
              <a:path fill="none" w="21600" h="21600">
                <a:moveTo>
                  <a:pt x="10582" y="2"/>
                </a:moveTo>
                <a:arcTo wR="10800" hR="10800" stAng="-5469509" swAng="533336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0" y="4692600"/>
            <a:ext cx="152280" cy="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0381"/>
                </a:moveTo>
                <a:arcTo wR="10800" hR="10800" stAng="-10666629" swAng="5197120"/>
                <a:lnTo>
                  <a:pt x="10800" y="10800"/>
                </a:lnTo>
                <a:close/>
              </a:path>
              <a:path fill="none" w="21600" h="21600">
                <a:moveTo>
                  <a:pt x="8" y="10381"/>
                </a:moveTo>
                <a:arcTo wR="10800" hR="10800" stAng="-10666629" swAng="519712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500960" y="4749840"/>
            <a:ext cx="868320" cy="6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72320" y="56721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94480" y="4816440"/>
            <a:ext cx="17640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177040" y="4821120"/>
            <a:ext cx="176400" cy="84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8040" y="4889520"/>
            <a:ext cx="11592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7080" y="4894200"/>
            <a:ext cx="7308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970400" y="4908600"/>
            <a:ext cx="73080" cy="61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071920" y="4908600"/>
            <a:ext cx="119160" cy="61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20640" y="3927600"/>
            <a:ext cx="599040" cy="64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02920" y="3816360"/>
            <a:ext cx="716760" cy="7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997760" y="4525920"/>
            <a:ext cx="208080" cy="119160"/>
            <a:chOff x="7997760" y="4525920"/>
            <a:chExt cx="208080" cy="119160"/>
          </a:xfrm>
        </p:grpSpPr>
        <p:sp>
          <p:nvSpPr>
            <p:cNvPr id="495" name=""/>
            <p:cNvSpPr/>
            <p:nvPr/>
          </p:nvSpPr>
          <p:spPr>
            <a:xfrm>
              <a:off x="7997760" y="4525920"/>
              <a:ext cx="201600" cy="119160"/>
            </a:xfrm>
            <a:custGeom>
              <a:avLst/>
              <a:gdLst/>
              <a:ahLst/>
              <a:rect l="l" t="t" r="r" b="b"/>
              <a:pathLst>
                <a:path w="127" h="75">
                  <a:moveTo>
                    <a:pt x="0" y="64"/>
                  </a:moveTo>
                  <a:lnTo>
                    <a:pt x="116" y="0"/>
                  </a:lnTo>
                  <a:lnTo>
                    <a:pt x="126" y="31"/>
                  </a:lnTo>
                  <a:lnTo>
                    <a:pt x="126" y="74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8132760" y="4581000"/>
              <a:ext cx="73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986200" y="4944960"/>
            <a:ext cx="4558680" cy="11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40040" y="5546880"/>
            <a:ext cx="4870440" cy="5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42" swAng="5527032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42" swAng="552703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733840" y="5672160"/>
            <a:ext cx="156960" cy="228600"/>
            <a:chOff x="2733840" y="5672160"/>
            <a:chExt cx="156960" cy="228600"/>
          </a:xfrm>
        </p:grpSpPr>
        <p:sp>
          <p:nvSpPr>
            <p:cNvPr id="500" name=""/>
            <p:cNvSpPr/>
            <p:nvPr/>
          </p:nvSpPr>
          <p:spPr>
            <a:xfrm>
              <a:off x="2733840" y="567216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0" y="0"/>
                  </a:moveTo>
                  <a:lnTo>
                    <a:pt x="98" y="87"/>
                  </a:lnTo>
                  <a:lnTo>
                    <a:pt x="71" y="121"/>
                  </a:lnTo>
                  <a:lnTo>
                    <a:pt x="53" y="1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79560" y="5745240"/>
              <a:ext cx="73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3090960" y="4835520"/>
            <a:ext cx="10296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424240" y="4690800"/>
            <a:ext cx="488880" cy="9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319040" y="4000320"/>
            <a:ext cx="13273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785960" y="4304880"/>
            <a:ext cx="9223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95560" y="3352680"/>
            <a:ext cx="14810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284120" y="3708000"/>
            <a:ext cx="13622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90720" y="2271600"/>
            <a:ext cx="103680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95440" y="2705040"/>
            <a:ext cx="12542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7720" y="2125800"/>
            <a:ext cx="488880" cy="43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9800" y="2035080"/>
            <a:ext cx="8748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832200" y="2452680"/>
            <a:ext cx="2365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5760" y="162864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94920" y="16286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3840" y="16286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57280" y="162864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85720" y="162864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31080" y="162864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61320" y="16286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35840" y="162864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76480" y="18288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79080" y="18288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68000" y="18288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56560" y="182880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85360" y="18288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45840" y="18288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19280" y="182880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2265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02600" y="2265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77120" y="226548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51640" y="2265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40560" y="2265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15440" y="226548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73760" y="226548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8640" y="2265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4080" y="34290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8480" y="3429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7040" y="342900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0120" y="342900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6200" y="3429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99640" y="3429000"/>
            <a:ext cx="33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8440" y="3429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07360" y="34290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2520" y="4519440"/>
            <a:ext cx="33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61320" y="45194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1680" y="451944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94520" y="451944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69400" y="45194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59400" y="451944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02960" y="451944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32840" y="45194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21760" y="45194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95920" y="451944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2520" y="471960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692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144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9280" y="471960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4060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2808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0260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92960" y="47196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36160" y="471960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16604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54960" y="4719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38240" y="56833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26080" y="568332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1080" y="568332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5360" y="56833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03920" y="568332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48920" y="56833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23440" y="56833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10920" y="568332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42240" y="56833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15320" y="568332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38240" y="58831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26800" y="588312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71080" y="5883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44160" y="5883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34520" y="5883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09400" y="5883120"/>
            <a:ext cx="224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37840" y="5883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26400" y="5883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-minute exercise: Funnels You Have Know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34640" y="2284200"/>
            <a:ext cx="7728120" cy="121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does the innovation funnel you have been involved in look like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ing Choices in Practi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chnology Strategy in Practi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egies are worthless unless they are linked to real resource allocation decis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o will make the decis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oft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y what criteri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048120" y="1263600"/>
            <a:ext cx="2387520" cy="95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01840" y="5632560"/>
            <a:ext cx="39099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5440" y="2044800"/>
            <a:ext cx="2063520" cy="12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52960" y="2025720"/>
            <a:ext cx="2063880" cy="12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52880" y="3301920"/>
            <a:ext cx="2309760" cy="14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6764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derstand Capac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49560" y="1341360"/>
            <a:ext cx="2260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Identify the Functions Mos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Involved in New 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Development and Understand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their Staffing Structure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4920" y="5767560"/>
            <a:ext cx="1887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3400" y="2236680"/>
            <a:ext cx="1919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Estimate the Deman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of Product Suppor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nd Administration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Efforts by Functions over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15160" y="2179800"/>
            <a:ext cx="2003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Estimate the Resourc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Requirements of 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New Product Develop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Project by Breakin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Out Project Task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99000" y="1752480"/>
            <a:ext cx="663840" cy="51444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379240" y="1695600"/>
            <a:ext cx="647640" cy="514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7240" y="3436920"/>
            <a:ext cx="2167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Consider the Curr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Portfolio of New Projects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nd the Continuing Deman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of non-NPD to Determin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Overall Demand fo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Development Resource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09760" y="3162240"/>
            <a:ext cx="838080" cy="83844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462280" y="3162240"/>
            <a:ext cx="857160" cy="857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14000" y="5703840"/>
            <a:ext cx="41079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Understand the Impact of Current Commitments Up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Resource Supply, Identify Bottlenecks and Over-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08480" y="4838760"/>
            <a:ext cx="0" cy="7621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ideal innovation funn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2438280"/>
            <a:ext cx="518148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05120" y="4343040"/>
            <a:ext cx="518148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8120" y="2133720"/>
            <a:ext cx="0" cy="3657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48320" y="2133720"/>
            <a:ext cx="0" cy="3657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2133720"/>
            <a:ext cx="0" cy="3657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512720" y="3716280"/>
            <a:ext cx="5646960" cy="335880"/>
            <a:chOff x="1512720" y="3716280"/>
            <a:chExt cx="5646960" cy="335880"/>
          </a:xfrm>
        </p:grpSpPr>
        <p:sp>
          <p:nvSpPr>
            <p:cNvPr id="621" name=""/>
            <p:cNvSpPr/>
            <p:nvPr/>
          </p:nvSpPr>
          <p:spPr>
            <a:xfrm>
              <a:off x="1512720" y="3716280"/>
              <a:ext cx="87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hase I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65560" y="371628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hase II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08080" y="3716280"/>
              <a:ext cx="986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hase III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08640" y="3716280"/>
              <a:ext cx="85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aunch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Ideal Innovation Funnel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ined separation between stages: Clearly defined criteria: a way to kill “living dead” projec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nior managers engag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t the right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ure ideas from everywhere, manage ideas in an organized way so that they turn into produc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ontinuous process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oes this fit with our strategy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icture of the business: an overview of the shape of the pipelin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ive teams the freedom they need between gat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0600" y="209520"/>
            <a:ext cx="824724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Innovation Funnel Example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001880" y="1943280"/>
            <a:ext cx="6805440" cy="799920"/>
            <a:chOff x="1001880" y="1943280"/>
            <a:chExt cx="6805440" cy="799920"/>
          </a:xfrm>
        </p:grpSpPr>
        <p:sp>
          <p:nvSpPr>
            <p:cNvPr id="635" name=""/>
            <p:cNvSpPr/>
            <p:nvPr/>
          </p:nvSpPr>
          <p:spPr>
            <a:xfrm>
              <a:off x="1001880" y="1943280"/>
              <a:ext cx="5433840" cy="799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53360" y="274320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001880" y="4133880"/>
            <a:ext cx="6805440" cy="799920"/>
            <a:chOff x="1001880" y="4133880"/>
            <a:chExt cx="6805440" cy="799920"/>
          </a:xfrm>
        </p:grpSpPr>
        <p:sp>
          <p:nvSpPr>
            <p:cNvPr id="638" name=""/>
            <p:cNvSpPr/>
            <p:nvPr/>
          </p:nvSpPr>
          <p:spPr>
            <a:xfrm flipH="1">
              <a:off x="1001880" y="4133880"/>
              <a:ext cx="5433840" cy="799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53360" y="413388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58760" y="3371760"/>
            <a:ext cx="1282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itial marketing and technical concep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76960" y="2495520"/>
            <a:ext cx="0" cy="1809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38760" y="1816200"/>
            <a:ext cx="1060560" cy="67284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21280" y="1568520"/>
            <a:ext cx="1060200" cy="67320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56000" y="1397160"/>
            <a:ext cx="1060200" cy="67284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21480" y="4254480"/>
            <a:ext cx="1130040" cy="61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001880" y="1886040"/>
            <a:ext cx="6805440" cy="799920"/>
            <a:chOff x="1001880" y="1886040"/>
            <a:chExt cx="6805440" cy="799920"/>
          </a:xfrm>
        </p:grpSpPr>
        <p:sp>
          <p:nvSpPr>
            <p:cNvPr id="647" name=""/>
            <p:cNvSpPr/>
            <p:nvPr/>
          </p:nvSpPr>
          <p:spPr>
            <a:xfrm>
              <a:off x="1001880" y="1886040"/>
              <a:ext cx="5433840" cy="799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53360" y="268596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001880" y="4076640"/>
            <a:ext cx="6805440" cy="800280"/>
            <a:chOff x="1001880" y="4076640"/>
            <a:chExt cx="6805440" cy="800280"/>
          </a:xfrm>
        </p:grpSpPr>
        <p:sp>
          <p:nvSpPr>
            <p:cNvPr id="650" name=""/>
            <p:cNvSpPr/>
            <p:nvPr/>
          </p:nvSpPr>
          <p:spPr>
            <a:xfrm flipH="1">
              <a:off x="1001880" y="4076640"/>
              <a:ext cx="5433840" cy="800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3360" y="407664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1424160" y="1866960"/>
            <a:ext cx="0" cy="3124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76560" y="2057400"/>
            <a:ext cx="0" cy="2724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03440" y="4768920"/>
            <a:ext cx="1130400" cy="61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51040" y="5016600"/>
            <a:ext cx="1130040" cy="61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59480" y="2266920"/>
            <a:ext cx="0" cy="2228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86360" y="4483080"/>
            <a:ext cx="1317600" cy="61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33360" y="2670120"/>
            <a:ext cx="11905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Ide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38240" y="5162400"/>
            <a:ext cx="82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harte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90640" y="4915080"/>
            <a:ext cx="104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55920" y="4572000"/>
            <a:ext cx="1001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aunch Proposa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91040" y="4210200"/>
            <a:ext cx="825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ost Launch Review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84240" y="1390680"/>
            <a:ext cx="12254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38440" y="1600200"/>
            <a:ext cx="10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02280" y="1771560"/>
            <a:ext cx="113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38840" y="2019240"/>
            <a:ext cx="117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04960" y="2808360"/>
            <a:ext cx="93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Feasibilit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65280" y="321948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ncept refinement and prototype cre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6560" y="3219480"/>
            <a:ext cx="1284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duct optimiz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83240" y="3219480"/>
            <a:ext cx="164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mmercialization Production &amp; Distribu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52960" y="280836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Capabilit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05360" y="2716200"/>
            <a:ext cx="933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Launch &amp; Rollou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03240" y="1187280"/>
            <a:ext cx="1060560" cy="67320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5676840"/>
            <a:ext cx="1828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One page description of proposed project including objective, rationale and development routes.  Early Commercial Assessmen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32240" y="5505480"/>
            <a:ext cx="15825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ross-functional development plan including project plan as contract between team and Gatekeeper.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32440" y="5276880"/>
            <a:ext cx="147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aunch Plan including CEP approval request.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9920" y="4952880"/>
            <a:ext cx="1336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Tracks success of and key learnings from launched produc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238880" y="5543640"/>
            <a:ext cx="1717920" cy="922680"/>
            <a:chOff x="7238880" y="5543640"/>
            <a:chExt cx="1717920" cy="922680"/>
          </a:xfrm>
        </p:grpSpPr>
        <p:sp>
          <p:nvSpPr>
            <p:cNvPr id="679" name=""/>
            <p:cNvSpPr/>
            <p:nvPr/>
          </p:nvSpPr>
          <p:spPr>
            <a:xfrm>
              <a:off x="7245360" y="5835600"/>
              <a:ext cx="492120" cy="254160"/>
            </a:xfrm>
            <a:prstGeom prst="diamond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05840" y="6235560"/>
              <a:ext cx="374400" cy="19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38880" y="5543640"/>
              <a:ext cx="662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05800" y="5829480"/>
              <a:ext cx="914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= GAT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11920" y="6191280"/>
              <a:ext cx="124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= DOCUMEN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889760" y="3300480"/>
            <a:ext cx="0" cy="1111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90560" y="3300480"/>
            <a:ext cx="0" cy="1111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73480" y="3300480"/>
            <a:ext cx="0" cy="1111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15000" y="3300480"/>
            <a:ext cx="0" cy="1111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13200" y="3300480"/>
            <a:ext cx="0" cy="1111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ample:  The Key Questions Answered By Each Pha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09640" y="1916280"/>
            <a:ext cx="0" cy="1960560"/>
          </a:xfrm>
          <a:prstGeom prst="line">
            <a:avLst/>
          </a:prstGeom>
          <a:ln w="25560">
            <a:solidFill>
              <a:srgbClr val="fb05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9680" y="2395440"/>
            <a:ext cx="0" cy="14241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05640" y="2486160"/>
            <a:ext cx="0" cy="1298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81400" y="2309760"/>
            <a:ext cx="0" cy="1700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16200" y="1641600"/>
            <a:ext cx="1130400" cy="67284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view 1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53040" y="1738440"/>
            <a:ext cx="1130040" cy="67284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view 2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49800" y="1811160"/>
            <a:ext cx="1130400" cy="67320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view 3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27160" y="1422360"/>
            <a:ext cx="1130400" cy="67320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ortfolio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view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00800" y="2755800"/>
            <a:ext cx="1280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Phase 1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vestig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20800" y="2862360"/>
            <a:ext cx="105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Phase 2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Feasibilit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12720" y="2832120"/>
            <a:ext cx="1298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Phase 3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89880" y="2755800"/>
            <a:ext cx="10983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Phase 4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os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88320" y="2446200"/>
            <a:ext cx="0" cy="1140120"/>
          </a:xfrm>
          <a:prstGeom prst="line">
            <a:avLst/>
          </a:prstGeom>
          <a:ln w="25560">
            <a:solidFill>
              <a:srgbClr val="fb05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23240" y="2635200"/>
            <a:ext cx="10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1960" y="2092320"/>
            <a:ext cx="7869240" cy="547560"/>
          </a:xfrm>
          <a:custGeom>
            <a:avLst/>
            <a:gdLst/>
            <a:ahLst/>
            <a:rect l="l" t="t" r="r" b="b"/>
            <a:pathLst>
              <a:path w="4957" h="345">
                <a:moveTo>
                  <a:pt x="0" y="0"/>
                </a:moveTo>
                <a:lnTo>
                  <a:pt x="2" y="10"/>
                </a:lnTo>
                <a:lnTo>
                  <a:pt x="9" y="20"/>
                </a:lnTo>
                <a:lnTo>
                  <a:pt x="18" y="30"/>
                </a:lnTo>
                <a:lnTo>
                  <a:pt x="34" y="40"/>
                </a:lnTo>
                <a:lnTo>
                  <a:pt x="52" y="50"/>
                </a:lnTo>
                <a:lnTo>
                  <a:pt x="75" y="59"/>
                </a:lnTo>
                <a:lnTo>
                  <a:pt x="102" y="69"/>
                </a:lnTo>
                <a:lnTo>
                  <a:pt x="134" y="79"/>
                </a:lnTo>
                <a:lnTo>
                  <a:pt x="170" y="89"/>
                </a:lnTo>
                <a:lnTo>
                  <a:pt x="209" y="99"/>
                </a:lnTo>
                <a:lnTo>
                  <a:pt x="252" y="108"/>
                </a:lnTo>
                <a:lnTo>
                  <a:pt x="300" y="118"/>
                </a:lnTo>
                <a:lnTo>
                  <a:pt x="350" y="127"/>
                </a:lnTo>
                <a:lnTo>
                  <a:pt x="407" y="136"/>
                </a:lnTo>
                <a:lnTo>
                  <a:pt x="465" y="145"/>
                </a:lnTo>
                <a:lnTo>
                  <a:pt x="527" y="155"/>
                </a:lnTo>
                <a:lnTo>
                  <a:pt x="594" y="163"/>
                </a:lnTo>
                <a:lnTo>
                  <a:pt x="664" y="172"/>
                </a:lnTo>
                <a:lnTo>
                  <a:pt x="738" y="181"/>
                </a:lnTo>
                <a:lnTo>
                  <a:pt x="815" y="189"/>
                </a:lnTo>
                <a:lnTo>
                  <a:pt x="896" y="197"/>
                </a:lnTo>
                <a:lnTo>
                  <a:pt x="981" y="206"/>
                </a:lnTo>
                <a:lnTo>
                  <a:pt x="1069" y="213"/>
                </a:lnTo>
                <a:lnTo>
                  <a:pt x="1159" y="221"/>
                </a:lnTo>
                <a:lnTo>
                  <a:pt x="1254" y="229"/>
                </a:lnTo>
                <a:lnTo>
                  <a:pt x="1351" y="236"/>
                </a:lnTo>
                <a:lnTo>
                  <a:pt x="1451" y="243"/>
                </a:lnTo>
                <a:lnTo>
                  <a:pt x="1556" y="251"/>
                </a:lnTo>
                <a:lnTo>
                  <a:pt x="1662" y="257"/>
                </a:lnTo>
                <a:lnTo>
                  <a:pt x="1770" y="264"/>
                </a:lnTo>
                <a:lnTo>
                  <a:pt x="1882" y="270"/>
                </a:lnTo>
                <a:lnTo>
                  <a:pt x="1998" y="276"/>
                </a:lnTo>
                <a:lnTo>
                  <a:pt x="2114" y="282"/>
                </a:lnTo>
                <a:lnTo>
                  <a:pt x="2233" y="288"/>
                </a:lnTo>
                <a:lnTo>
                  <a:pt x="2354" y="293"/>
                </a:lnTo>
                <a:lnTo>
                  <a:pt x="2479" y="298"/>
                </a:lnTo>
                <a:lnTo>
                  <a:pt x="2604" y="303"/>
                </a:lnTo>
                <a:lnTo>
                  <a:pt x="2732" y="308"/>
                </a:lnTo>
                <a:lnTo>
                  <a:pt x="2862" y="312"/>
                </a:lnTo>
                <a:lnTo>
                  <a:pt x="2994" y="316"/>
                </a:lnTo>
                <a:lnTo>
                  <a:pt x="3127" y="320"/>
                </a:lnTo>
                <a:lnTo>
                  <a:pt x="3262" y="323"/>
                </a:lnTo>
                <a:lnTo>
                  <a:pt x="3398" y="327"/>
                </a:lnTo>
                <a:lnTo>
                  <a:pt x="3536" y="330"/>
                </a:lnTo>
                <a:lnTo>
                  <a:pt x="3675" y="332"/>
                </a:lnTo>
                <a:lnTo>
                  <a:pt x="3813" y="335"/>
                </a:lnTo>
                <a:lnTo>
                  <a:pt x="3955" y="337"/>
                </a:lnTo>
                <a:lnTo>
                  <a:pt x="4096" y="339"/>
                </a:lnTo>
                <a:lnTo>
                  <a:pt x="4238" y="341"/>
                </a:lnTo>
                <a:lnTo>
                  <a:pt x="4382" y="342"/>
                </a:lnTo>
                <a:lnTo>
                  <a:pt x="4526" y="343"/>
                </a:lnTo>
                <a:lnTo>
                  <a:pt x="4668" y="344"/>
                </a:lnTo>
                <a:lnTo>
                  <a:pt x="4813" y="344"/>
                </a:lnTo>
                <a:lnTo>
                  <a:pt x="4956" y="3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0160" y="3559320"/>
            <a:ext cx="7869240" cy="547560"/>
          </a:xfrm>
          <a:custGeom>
            <a:avLst/>
            <a:gdLst/>
            <a:ahLst/>
            <a:rect l="l" t="t" r="r" b="b"/>
            <a:pathLst>
              <a:path w="4957" h="345">
                <a:moveTo>
                  <a:pt x="0" y="344"/>
                </a:moveTo>
                <a:lnTo>
                  <a:pt x="2" y="334"/>
                </a:lnTo>
                <a:lnTo>
                  <a:pt x="9" y="324"/>
                </a:lnTo>
                <a:lnTo>
                  <a:pt x="18" y="314"/>
                </a:lnTo>
                <a:lnTo>
                  <a:pt x="34" y="304"/>
                </a:lnTo>
                <a:lnTo>
                  <a:pt x="52" y="294"/>
                </a:lnTo>
                <a:lnTo>
                  <a:pt x="75" y="285"/>
                </a:lnTo>
                <a:lnTo>
                  <a:pt x="102" y="275"/>
                </a:lnTo>
                <a:lnTo>
                  <a:pt x="134" y="265"/>
                </a:lnTo>
                <a:lnTo>
                  <a:pt x="170" y="255"/>
                </a:lnTo>
                <a:lnTo>
                  <a:pt x="209" y="245"/>
                </a:lnTo>
                <a:lnTo>
                  <a:pt x="252" y="236"/>
                </a:lnTo>
                <a:lnTo>
                  <a:pt x="300" y="226"/>
                </a:lnTo>
                <a:lnTo>
                  <a:pt x="350" y="217"/>
                </a:lnTo>
                <a:lnTo>
                  <a:pt x="407" y="208"/>
                </a:lnTo>
                <a:lnTo>
                  <a:pt x="465" y="199"/>
                </a:lnTo>
                <a:lnTo>
                  <a:pt x="527" y="189"/>
                </a:lnTo>
                <a:lnTo>
                  <a:pt x="594" y="181"/>
                </a:lnTo>
                <a:lnTo>
                  <a:pt x="664" y="172"/>
                </a:lnTo>
                <a:lnTo>
                  <a:pt x="738" y="163"/>
                </a:lnTo>
                <a:lnTo>
                  <a:pt x="815" y="155"/>
                </a:lnTo>
                <a:lnTo>
                  <a:pt x="896" y="147"/>
                </a:lnTo>
                <a:lnTo>
                  <a:pt x="981" y="138"/>
                </a:lnTo>
                <a:lnTo>
                  <a:pt x="1069" y="131"/>
                </a:lnTo>
                <a:lnTo>
                  <a:pt x="1159" y="123"/>
                </a:lnTo>
                <a:lnTo>
                  <a:pt x="1254" y="115"/>
                </a:lnTo>
                <a:lnTo>
                  <a:pt x="1351" y="108"/>
                </a:lnTo>
                <a:lnTo>
                  <a:pt x="1451" y="101"/>
                </a:lnTo>
                <a:lnTo>
                  <a:pt x="1556" y="93"/>
                </a:lnTo>
                <a:lnTo>
                  <a:pt x="1662" y="87"/>
                </a:lnTo>
                <a:lnTo>
                  <a:pt x="1770" y="80"/>
                </a:lnTo>
                <a:lnTo>
                  <a:pt x="1882" y="74"/>
                </a:lnTo>
                <a:lnTo>
                  <a:pt x="1998" y="68"/>
                </a:lnTo>
                <a:lnTo>
                  <a:pt x="2114" y="62"/>
                </a:lnTo>
                <a:lnTo>
                  <a:pt x="2233" y="56"/>
                </a:lnTo>
                <a:lnTo>
                  <a:pt x="2354" y="51"/>
                </a:lnTo>
                <a:lnTo>
                  <a:pt x="2479" y="46"/>
                </a:lnTo>
                <a:lnTo>
                  <a:pt x="2604" y="41"/>
                </a:lnTo>
                <a:lnTo>
                  <a:pt x="2732" y="36"/>
                </a:lnTo>
                <a:lnTo>
                  <a:pt x="2862" y="32"/>
                </a:lnTo>
                <a:lnTo>
                  <a:pt x="2994" y="28"/>
                </a:lnTo>
                <a:lnTo>
                  <a:pt x="3127" y="24"/>
                </a:lnTo>
                <a:lnTo>
                  <a:pt x="3262" y="21"/>
                </a:lnTo>
                <a:lnTo>
                  <a:pt x="3398" y="17"/>
                </a:lnTo>
                <a:lnTo>
                  <a:pt x="3536" y="14"/>
                </a:lnTo>
                <a:lnTo>
                  <a:pt x="3675" y="12"/>
                </a:lnTo>
                <a:lnTo>
                  <a:pt x="3813" y="9"/>
                </a:lnTo>
                <a:lnTo>
                  <a:pt x="3955" y="7"/>
                </a:lnTo>
                <a:lnTo>
                  <a:pt x="4096" y="5"/>
                </a:lnTo>
                <a:lnTo>
                  <a:pt x="4238" y="3"/>
                </a:lnTo>
                <a:lnTo>
                  <a:pt x="4382" y="2"/>
                </a:lnTo>
                <a:lnTo>
                  <a:pt x="4526" y="1"/>
                </a:lnTo>
                <a:lnTo>
                  <a:pt x="4668" y="0"/>
                </a:lnTo>
                <a:lnTo>
                  <a:pt x="4813" y="0"/>
                </a:lnTo>
                <a:lnTo>
                  <a:pt x="49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436400" y="2751120"/>
            <a:ext cx="6800400" cy="744120"/>
            <a:chOff x="1436400" y="2751120"/>
            <a:chExt cx="6800400" cy="744120"/>
          </a:xfrm>
        </p:grpSpPr>
        <p:sp>
          <p:nvSpPr>
            <p:cNvPr id="707" name=""/>
            <p:cNvSpPr/>
            <p:nvPr/>
          </p:nvSpPr>
          <p:spPr>
            <a:xfrm>
              <a:off x="1436400" y="2751120"/>
              <a:ext cx="29124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53120" y="2786040"/>
              <a:ext cx="2836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638440" y="4049640"/>
            <a:ext cx="1266840" cy="2233800"/>
          </a:xfrm>
          <a:custGeom>
            <a:avLst/>
            <a:gdLst>
              <a:gd name="textAreaLeft" fmla="*/ 46080 w 1266840"/>
              <a:gd name="textAreaRight" fmla="*/ 1220760 w 1266840"/>
              <a:gd name="textAreaTop" fmla="*/ 46080 h 2233800"/>
              <a:gd name="textAreaBottom" fmla="*/ 2187720 h 2233800"/>
            </a:gdLst>
            <a:ahLst/>
            <a:rect l="textAreaLeft" t="textAreaTop" r="textAreaRight" b="textAreaBottom"/>
            <a:pathLst>
              <a:path w="21600" h="38082">
                <a:moveTo>
                  <a:pt x="2699" y="0"/>
                </a:moveTo>
                <a:arcTo wR="2699" hR="2699" stAng="16200000" swAng="-5400000"/>
                <a:lnTo>
                  <a:pt x="0" y="35383"/>
                </a:lnTo>
                <a:arcTo wR="2699" hR="2699" stAng="10800000" swAng="-5400000"/>
                <a:lnTo>
                  <a:pt x="18901" y="3808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Does the product make sense from marketing, technical &amp; financial perspectives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f yes, the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oncep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pprov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 full team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llocat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89320" y="4049640"/>
            <a:ext cx="1339920" cy="2233800"/>
          </a:xfrm>
          <a:custGeom>
            <a:avLst/>
            <a:gdLst>
              <a:gd name="textAreaLeft" fmla="*/ 48960 w 1339920"/>
              <a:gd name="textAreaRight" fmla="*/ 1290960 w 1339920"/>
              <a:gd name="textAreaTop" fmla="*/ 48960 h 2233800"/>
              <a:gd name="textAreaBottom" fmla="*/ 2184840 h 2233800"/>
            </a:gdLst>
            <a:ahLst/>
            <a:rect l="textAreaLeft" t="textAreaTop" r="textAreaRight" b="textAreaBottom"/>
            <a:pathLst>
              <a:path w="21600" h="36006">
                <a:moveTo>
                  <a:pt x="2699" y="0"/>
                </a:moveTo>
                <a:arcTo wR="2699" hR="2699" stAng="16200000" swAng="-5400000"/>
                <a:lnTo>
                  <a:pt x="0" y="33307"/>
                </a:lnTo>
                <a:arcTo wR="2699" hR="2699" stAng="10800000" swAng="-5400000"/>
                <a:lnTo>
                  <a:pt x="18901" y="3600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What is the product spec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an we develop it within budget and schedule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an we produce it at the required cost &amp; volume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f yes, the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rototyp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pprov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 full team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llocat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84920" y="4049640"/>
            <a:ext cx="1353960" cy="2233800"/>
          </a:xfrm>
          <a:custGeom>
            <a:avLst/>
            <a:gdLst>
              <a:gd name="textAreaLeft" fmla="*/ 49320 w 1353960"/>
              <a:gd name="textAreaRight" fmla="*/ 1304640 w 1353960"/>
              <a:gd name="textAreaTop" fmla="*/ 49320 h 2233800"/>
              <a:gd name="textAreaBottom" fmla="*/ 2184480 h 2233800"/>
            </a:gdLst>
            <a:ahLst/>
            <a:rect l="textAreaLeft" t="textAreaTop" r="textAreaRight" b="textAreaBottom"/>
            <a:pathLst>
              <a:path w="21600" h="35633">
                <a:moveTo>
                  <a:pt x="2699" y="0"/>
                </a:moveTo>
                <a:arcTo wR="2699" hR="2699" stAng="16200000" swAng="-5400000"/>
                <a:lnTo>
                  <a:pt x="0" y="32934"/>
                </a:lnTo>
                <a:arcTo wR="2699" hR="2699" stAng="10800000" swAng="-5400000"/>
                <a:lnTo>
                  <a:pt x="18901" y="3563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Has the product been fully verified and validated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Have production objectives been met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f yes, the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full manufacturing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pprov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 sub-team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llocat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49400" y="4049640"/>
            <a:ext cx="1266840" cy="2233800"/>
          </a:xfrm>
          <a:custGeom>
            <a:avLst/>
            <a:gdLst>
              <a:gd name="textAreaLeft" fmla="*/ 46080 w 1266840"/>
              <a:gd name="textAreaRight" fmla="*/ 1220760 w 1266840"/>
              <a:gd name="textAreaTop" fmla="*/ 46080 h 2233800"/>
              <a:gd name="textAreaBottom" fmla="*/ 2187720 h 2233800"/>
            </a:gdLst>
            <a:ahLst/>
            <a:rect l="textAreaLeft" t="textAreaTop" r="textAreaRight" b="textAreaBottom"/>
            <a:pathLst>
              <a:path w="21600" h="38082">
                <a:moveTo>
                  <a:pt x="2699" y="0"/>
                </a:moveTo>
                <a:arcTo wR="2699" hR="2699" stAng="16200000" swAng="-5400000"/>
                <a:lnTo>
                  <a:pt x="0" y="35383"/>
                </a:lnTo>
                <a:arcTo wR="2699" hR="2699" stAng="10800000" swAng="-5400000"/>
                <a:lnTo>
                  <a:pt x="18901" y="3808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Does the idea fit roughly with our strategy and resource availability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f yes, the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oncept documen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pprov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 sub-team allocat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43640" y="4049640"/>
            <a:ext cx="1266840" cy="2233800"/>
          </a:xfrm>
          <a:custGeom>
            <a:avLst/>
            <a:gdLst>
              <a:gd name="textAreaLeft" fmla="*/ 46080 w 1266840"/>
              <a:gd name="textAreaRight" fmla="*/ 1220760 w 1266840"/>
              <a:gd name="textAreaTop" fmla="*/ 46080 h 2233800"/>
              <a:gd name="textAreaBottom" fmla="*/ 2187720 h 2233800"/>
            </a:gdLst>
            <a:ahLst/>
            <a:rect l="textAreaLeft" t="textAreaTop" r="textAreaRight" b="textAreaBottom"/>
            <a:pathLst>
              <a:path w="21600" h="38082">
                <a:moveTo>
                  <a:pt x="2699" y="0"/>
                </a:moveTo>
                <a:arcTo wR="2699" hR="2699" stAng="16200000" swAng="-5400000"/>
                <a:lnTo>
                  <a:pt x="0" y="35383"/>
                </a:lnTo>
                <a:arcTo wR="2699" hR="2699" stAng="10800000" swAng="-5400000"/>
                <a:lnTo>
                  <a:pt x="18901" y="3808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57240" indent="-5724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s the product meeting safety, efficacy and business targets in the market?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If yes, the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closeou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approved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&amp; handoff to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roduct suppor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07280" y="1811160"/>
            <a:ext cx="1130400" cy="67320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has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Review 4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13400" y="950760"/>
            <a:ext cx="715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Phase progression indicates increasing investment and decreasing risk.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0" y="2665440"/>
            <a:ext cx="1263600" cy="2095560"/>
            <a:chOff x="14400" y="2665440"/>
            <a:chExt cx="1263600" cy="2095560"/>
          </a:xfrm>
        </p:grpSpPr>
        <p:sp>
          <p:nvSpPr>
            <p:cNvPr id="717" name=""/>
            <p:cNvSpPr/>
            <p:nvPr/>
          </p:nvSpPr>
          <p:spPr>
            <a:xfrm>
              <a:off x="14400" y="2665440"/>
              <a:ext cx="1263600" cy="1928880"/>
            </a:xfrm>
            <a:custGeom>
              <a:avLst/>
              <a:gdLst/>
              <a:ahLst/>
              <a:rect l="l" t="t" r="r" b="b"/>
              <a:pathLst>
                <a:path w="796" h="1215">
                  <a:moveTo>
                    <a:pt x="529" y="543"/>
                  </a:moveTo>
                  <a:lnTo>
                    <a:pt x="389" y="1214"/>
                  </a:lnTo>
                  <a:lnTo>
                    <a:pt x="265" y="543"/>
                  </a:lnTo>
                  <a:lnTo>
                    <a:pt x="99" y="543"/>
                  </a:lnTo>
                  <a:lnTo>
                    <a:pt x="97" y="542"/>
                  </a:lnTo>
                  <a:lnTo>
                    <a:pt x="95" y="542"/>
                  </a:lnTo>
                  <a:lnTo>
                    <a:pt x="93" y="542"/>
                  </a:lnTo>
                  <a:lnTo>
                    <a:pt x="92" y="542"/>
                  </a:lnTo>
                  <a:lnTo>
                    <a:pt x="90" y="542"/>
                  </a:lnTo>
                  <a:lnTo>
                    <a:pt x="88" y="542"/>
                  </a:lnTo>
                  <a:lnTo>
                    <a:pt x="86" y="542"/>
                  </a:lnTo>
                  <a:lnTo>
                    <a:pt x="85" y="542"/>
                  </a:lnTo>
                  <a:lnTo>
                    <a:pt x="83" y="542"/>
                  </a:lnTo>
                  <a:lnTo>
                    <a:pt x="81" y="541"/>
                  </a:lnTo>
                  <a:lnTo>
                    <a:pt x="80" y="541"/>
                  </a:lnTo>
                  <a:lnTo>
                    <a:pt x="78" y="541"/>
                  </a:lnTo>
                  <a:lnTo>
                    <a:pt x="76" y="541"/>
                  </a:lnTo>
                  <a:lnTo>
                    <a:pt x="75" y="541"/>
                  </a:lnTo>
                  <a:lnTo>
                    <a:pt x="73" y="540"/>
                  </a:lnTo>
                  <a:lnTo>
                    <a:pt x="71" y="540"/>
                  </a:lnTo>
                  <a:lnTo>
                    <a:pt x="70" y="540"/>
                  </a:lnTo>
                  <a:lnTo>
                    <a:pt x="68" y="539"/>
                  </a:lnTo>
                  <a:lnTo>
                    <a:pt x="66" y="539"/>
                  </a:lnTo>
                  <a:lnTo>
                    <a:pt x="65" y="538"/>
                  </a:lnTo>
                  <a:lnTo>
                    <a:pt x="63" y="538"/>
                  </a:lnTo>
                  <a:lnTo>
                    <a:pt x="61" y="538"/>
                  </a:lnTo>
                  <a:lnTo>
                    <a:pt x="60" y="537"/>
                  </a:lnTo>
                  <a:lnTo>
                    <a:pt x="58" y="537"/>
                  </a:lnTo>
                  <a:lnTo>
                    <a:pt x="57" y="536"/>
                  </a:lnTo>
                  <a:lnTo>
                    <a:pt x="55" y="536"/>
                  </a:lnTo>
                  <a:lnTo>
                    <a:pt x="54" y="535"/>
                  </a:lnTo>
                  <a:lnTo>
                    <a:pt x="52" y="535"/>
                  </a:lnTo>
                  <a:lnTo>
                    <a:pt x="51" y="534"/>
                  </a:lnTo>
                  <a:lnTo>
                    <a:pt x="49" y="534"/>
                  </a:lnTo>
                  <a:lnTo>
                    <a:pt x="48" y="533"/>
                  </a:lnTo>
                  <a:lnTo>
                    <a:pt x="46" y="532"/>
                  </a:lnTo>
                  <a:lnTo>
                    <a:pt x="45" y="532"/>
                  </a:lnTo>
                  <a:lnTo>
                    <a:pt x="43" y="531"/>
                  </a:lnTo>
                  <a:lnTo>
                    <a:pt x="42" y="530"/>
                  </a:lnTo>
                  <a:lnTo>
                    <a:pt x="40" y="530"/>
                  </a:lnTo>
                  <a:lnTo>
                    <a:pt x="39" y="529"/>
                  </a:lnTo>
                  <a:lnTo>
                    <a:pt x="38" y="528"/>
                  </a:lnTo>
                  <a:lnTo>
                    <a:pt x="36" y="528"/>
                  </a:lnTo>
                  <a:lnTo>
                    <a:pt x="35" y="527"/>
                  </a:lnTo>
                  <a:lnTo>
                    <a:pt x="34" y="526"/>
                  </a:lnTo>
                  <a:lnTo>
                    <a:pt x="32" y="525"/>
                  </a:lnTo>
                  <a:lnTo>
                    <a:pt x="31" y="525"/>
                  </a:lnTo>
                  <a:lnTo>
                    <a:pt x="30" y="524"/>
                  </a:lnTo>
                  <a:lnTo>
                    <a:pt x="28" y="523"/>
                  </a:lnTo>
                  <a:lnTo>
                    <a:pt x="27" y="522"/>
                  </a:lnTo>
                  <a:lnTo>
                    <a:pt x="26" y="521"/>
                  </a:lnTo>
                  <a:lnTo>
                    <a:pt x="25" y="520"/>
                  </a:lnTo>
                  <a:lnTo>
                    <a:pt x="24" y="519"/>
                  </a:lnTo>
                  <a:lnTo>
                    <a:pt x="23" y="519"/>
                  </a:lnTo>
                  <a:lnTo>
                    <a:pt x="22" y="518"/>
                  </a:lnTo>
                  <a:lnTo>
                    <a:pt x="20" y="517"/>
                  </a:lnTo>
                  <a:lnTo>
                    <a:pt x="19" y="516"/>
                  </a:lnTo>
                  <a:lnTo>
                    <a:pt x="18" y="515"/>
                  </a:lnTo>
                  <a:lnTo>
                    <a:pt x="17" y="514"/>
                  </a:lnTo>
                  <a:lnTo>
                    <a:pt x="16" y="513"/>
                  </a:lnTo>
                  <a:lnTo>
                    <a:pt x="15" y="512"/>
                  </a:lnTo>
                  <a:lnTo>
                    <a:pt x="15" y="511"/>
                  </a:lnTo>
                  <a:lnTo>
                    <a:pt x="14" y="510"/>
                  </a:lnTo>
                  <a:lnTo>
                    <a:pt x="13" y="509"/>
                  </a:lnTo>
                  <a:lnTo>
                    <a:pt x="12" y="508"/>
                  </a:lnTo>
                  <a:lnTo>
                    <a:pt x="11" y="507"/>
                  </a:lnTo>
                  <a:lnTo>
                    <a:pt x="10" y="506"/>
                  </a:lnTo>
                  <a:lnTo>
                    <a:pt x="10" y="505"/>
                  </a:lnTo>
                  <a:lnTo>
                    <a:pt x="9" y="504"/>
                  </a:lnTo>
                  <a:lnTo>
                    <a:pt x="8" y="503"/>
                  </a:lnTo>
                  <a:lnTo>
                    <a:pt x="7" y="502"/>
                  </a:lnTo>
                  <a:lnTo>
                    <a:pt x="7" y="501"/>
                  </a:lnTo>
                  <a:lnTo>
                    <a:pt x="6" y="500"/>
                  </a:lnTo>
                  <a:lnTo>
                    <a:pt x="5" y="498"/>
                  </a:lnTo>
                  <a:lnTo>
                    <a:pt x="5" y="497"/>
                  </a:lnTo>
                  <a:lnTo>
                    <a:pt x="4" y="496"/>
                  </a:lnTo>
                  <a:lnTo>
                    <a:pt x="4" y="495"/>
                  </a:lnTo>
                  <a:lnTo>
                    <a:pt x="3" y="494"/>
                  </a:lnTo>
                  <a:lnTo>
                    <a:pt x="3" y="493"/>
                  </a:lnTo>
                  <a:lnTo>
                    <a:pt x="2" y="492"/>
                  </a:lnTo>
                  <a:lnTo>
                    <a:pt x="2" y="491"/>
                  </a:lnTo>
                  <a:lnTo>
                    <a:pt x="2" y="489"/>
                  </a:lnTo>
                  <a:lnTo>
                    <a:pt x="1" y="488"/>
                  </a:lnTo>
                  <a:lnTo>
                    <a:pt x="1" y="487"/>
                  </a:lnTo>
                  <a:lnTo>
                    <a:pt x="1" y="486"/>
                  </a:lnTo>
                  <a:lnTo>
                    <a:pt x="0" y="485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0" y="481"/>
                  </a:lnTo>
                  <a:lnTo>
                    <a:pt x="0" y="480"/>
                  </a:lnTo>
                  <a:lnTo>
                    <a:pt x="0" y="479"/>
                  </a:lnTo>
                  <a:lnTo>
                    <a:pt x="0" y="478"/>
                  </a:lnTo>
                  <a:lnTo>
                    <a:pt x="0" y="477"/>
                  </a:lnTo>
                  <a:lnTo>
                    <a:pt x="0" y="476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30" y="18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8" y="5"/>
                  </a:lnTo>
                  <a:lnTo>
                    <a:pt x="60" y="5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695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1" y="0"/>
                  </a:lnTo>
                  <a:lnTo>
                    <a:pt x="713" y="1"/>
                  </a:lnTo>
                  <a:lnTo>
                    <a:pt x="714" y="1"/>
                  </a:lnTo>
                  <a:lnTo>
                    <a:pt x="716" y="1"/>
                  </a:lnTo>
                  <a:lnTo>
                    <a:pt x="718" y="1"/>
                  </a:lnTo>
                  <a:lnTo>
                    <a:pt x="719" y="1"/>
                  </a:lnTo>
                  <a:lnTo>
                    <a:pt x="721" y="2"/>
                  </a:lnTo>
                  <a:lnTo>
                    <a:pt x="723" y="2"/>
                  </a:lnTo>
                  <a:lnTo>
                    <a:pt x="724" y="2"/>
                  </a:lnTo>
                  <a:lnTo>
                    <a:pt x="726" y="3"/>
                  </a:lnTo>
                  <a:lnTo>
                    <a:pt x="728" y="3"/>
                  </a:lnTo>
                  <a:lnTo>
                    <a:pt x="729" y="4"/>
                  </a:lnTo>
                  <a:lnTo>
                    <a:pt x="731" y="4"/>
                  </a:lnTo>
                  <a:lnTo>
                    <a:pt x="733" y="4"/>
                  </a:lnTo>
                  <a:lnTo>
                    <a:pt x="734" y="5"/>
                  </a:lnTo>
                  <a:lnTo>
                    <a:pt x="736" y="5"/>
                  </a:lnTo>
                  <a:lnTo>
                    <a:pt x="737" y="6"/>
                  </a:lnTo>
                  <a:lnTo>
                    <a:pt x="739" y="6"/>
                  </a:lnTo>
                  <a:lnTo>
                    <a:pt x="740" y="7"/>
                  </a:lnTo>
                  <a:lnTo>
                    <a:pt x="742" y="7"/>
                  </a:lnTo>
                  <a:lnTo>
                    <a:pt x="743" y="8"/>
                  </a:lnTo>
                  <a:lnTo>
                    <a:pt x="745" y="8"/>
                  </a:lnTo>
                  <a:lnTo>
                    <a:pt x="746" y="9"/>
                  </a:lnTo>
                  <a:lnTo>
                    <a:pt x="748" y="10"/>
                  </a:lnTo>
                  <a:lnTo>
                    <a:pt x="749" y="10"/>
                  </a:lnTo>
                  <a:lnTo>
                    <a:pt x="751" y="11"/>
                  </a:lnTo>
                  <a:lnTo>
                    <a:pt x="752" y="12"/>
                  </a:lnTo>
                  <a:lnTo>
                    <a:pt x="754" y="12"/>
                  </a:lnTo>
                  <a:lnTo>
                    <a:pt x="755" y="13"/>
                  </a:lnTo>
                  <a:lnTo>
                    <a:pt x="756" y="14"/>
                  </a:lnTo>
                  <a:lnTo>
                    <a:pt x="758" y="14"/>
                  </a:lnTo>
                  <a:lnTo>
                    <a:pt x="759" y="15"/>
                  </a:lnTo>
                  <a:lnTo>
                    <a:pt x="760" y="16"/>
                  </a:lnTo>
                  <a:lnTo>
                    <a:pt x="762" y="17"/>
                  </a:lnTo>
                  <a:lnTo>
                    <a:pt x="763" y="17"/>
                  </a:lnTo>
                  <a:lnTo>
                    <a:pt x="764" y="18"/>
                  </a:lnTo>
                  <a:lnTo>
                    <a:pt x="766" y="19"/>
                  </a:lnTo>
                  <a:lnTo>
                    <a:pt x="767" y="20"/>
                  </a:lnTo>
                  <a:lnTo>
                    <a:pt x="768" y="21"/>
                  </a:lnTo>
                  <a:lnTo>
                    <a:pt x="769" y="22"/>
                  </a:lnTo>
                  <a:lnTo>
                    <a:pt x="770" y="23"/>
                  </a:lnTo>
                  <a:lnTo>
                    <a:pt x="771" y="23"/>
                  </a:lnTo>
                  <a:lnTo>
                    <a:pt x="772" y="24"/>
                  </a:lnTo>
                  <a:lnTo>
                    <a:pt x="774" y="25"/>
                  </a:lnTo>
                  <a:lnTo>
                    <a:pt x="775" y="26"/>
                  </a:lnTo>
                  <a:lnTo>
                    <a:pt x="776" y="27"/>
                  </a:lnTo>
                  <a:lnTo>
                    <a:pt x="777" y="28"/>
                  </a:lnTo>
                  <a:lnTo>
                    <a:pt x="778" y="29"/>
                  </a:lnTo>
                  <a:lnTo>
                    <a:pt x="779" y="30"/>
                  </a:lnTo>
                  <a:lnTo>
                    <a:pt x="779" y="31"/>
                  </a:lnTo>
                  <a:lnTo>
                    <a:pt x="780" y="32"/>
                  </a:lnTo>
                  <a:lnTo>
                    <a:pt x="781" y="33"/>
                  </a:lnTo>
                  <a:lnTo>
                    <a:pt x="782" y="34"/>
                  </a:lnTo>
                  <a:lnTo>
                    <a:pt x="783" y="35"/>
                  </a:lnTo>
                  <a:lnTo>
                    <a:pt x="784" y="36"/>
                  </a:lnTo>
                  <a:lnTo>
                    <a:pt x="784" y="37"/>
                  </a:lnTo>
                  <a:lnTo>
                    <a:pt x="785" y="38"/>
                  </a:lnTo>
                  <a:lnTo>
                    <a:pt x="786" y="39"/>
                  </a:lnTo>
                  <a:lnTo>
                    <a:pt x="787" y="40"/>
                  </a:lnTo>
                  <a:lnTo>
                    <a:pt x="787" y="41"/>
                  </a:lnTo>
                  <a:lnTo>
                    <a:pt x="788" y="42"/>
                  </a:lnTo>
                  <a:lnTo>
                    <a:pt x="789" y="44"/>
                  </a:lnTo>
                  <a:lnTo>
                    <a:pt x="789" y="45"/>
                  </a:lnTo>
                  <a:lnTo>
                    <a:pt x="790" y="46"/>
                  </a:lnTo>
                  <a:lnTo>
                    <a:pt x="790" y="47"/>
                  </a:lnTo>
                  <a:lnTo>
                    <a:pt x="791" y="48"/>
                  </a:lnTo>
                  <a:lnTo>
                    <a:pt x="791" y="49"/>
                  </a:lnTo>
                  <a:lnTo>
                    <a:pt x="792" y="50"/>
                  </a:lnTo>
                  <a:lnTo>
                    <a:pt x="792" y="51"/>
                  </a:lnTo>
                  <a:lnTo>
                    <a:pt x="792" y="53"/>
                  </a:lnTo>
                  <a:lnTo>
                    <a:pt x="793" y="54"/>
                  </a:lnTo>
                  <a:lnTo>
                    <a:pt x="793" y="55"/>
                  </a:lnTo>
                  <a:lnTo>
                    <a:pt x="793" y="56"/>
                  </a:lnTo>
                  <a:lnTo>
                    <a:pt x="794" y="57"/>
                  </a:lnTo>
                  <a:lnTo>
                    <a:pt x="794" y="58"/>
                  </a:lnTo>
                  <a:lnTo>
                    <a:pt x="794" y="59"/>
                  </a:lnTo>
                  <a:lnTo>
                    <a:pt x="794" y="61"/>
                  </a:lnTo>
                  <a:lnTo>
                    <a:pt x="794" y="62"/>
                  </a:lnTo>
                  <a:lnTo>
                    <a:pt x="794" y="63"/>
                  </a:lnTo>
                  <a:lnTo>
                    <a:pt x="794" y="64"/>
                  </a:lnTo>
                  <a:lnTo>
                    <a:pt x="794" y="65"/>
                  </a:lnTo>
                  <a:lnTo>
                    <a:pt x="795" y="66"/>
                  </a:lnTo>
                  <a:lnTo>
                    <a:pt x="795" y="476"/>
                  </a:lnTo>
                  <a:lnTo>
                    <a:pt x="794" y="477"/>
                  </a:lnTo>
                  <a:lnTo>
                    <a:pt x="794" y="478"/>
                  </a:lnTo>
                  <a:lnTo>
                    <a:pt x="794" y="479"/>
                  </a:lnTo>
                  <a:lnTo>
                    <a:pt x="794" y="480"/>
                  </a:lnTo>
                  <a:lnTo>
                    <a:pt x="794" y="481"/>
                  </a:lnTo>
                  <a:lnTo>
                    <a:pt x="794" y="483"/>
                  </a:lnTo>
                  <a:lnTo>
                    <a:pt x="794" y="484"/>
                  </a:lnTo>
                  <a:lnTo>
                    <a:pt x="794" y="485"/>
                  </a:lnTo>
                  <a:lnTo>
                    <a:pt x="793" y="486"/>
                  </a:lnTo>
                  <a:lnTo>
                    <a:pt x="793" y="487"/>
                  </a:lnTo>
                  <a:lnTo>
                    <a:pt x="793" y="488"/>
                  </a:lnTo>
                  <a:lnTo>
                    <a:pt x="792" y="489"/>
                  </a:lnTo>
                  <a:lnTo>
                    <a:pt x="792" y="491"/>
                  </a:lnTo>
                  <a:lnTo>
                    <a:pt x="792" y="492"/>
                  </a:lnTo>
                  <a:lnTo>
                    <a:pt x="791" y="493"/>
                  </a:lnTo>
                  <a:lnTo>
                    <a:pt x="791" y="494"/>
                  </a:lnTo>
                  <a:lnTo>
                    <a:pt x="790" y="495"/>
                  </a:lnTo>
                  <a:lnTo>
                    <a:pt x="790" y="496"/>
                  </a:lnTo>
                  <a:lnTo>
                    <a:pt x="789" y="497"/>
                  </a:lnTo>
                  <a:lnTo>
                    <a:pt x="789" y="498"/>
                  </a:lnTo>
                  <a:lnTo>
                    <a:pt x="788" y="500"/>
                  </a:lnTo>
                  <a:lnTo>
                    <a:pt x="787" y="501"/>
                  </a:lnTo>
                  <a:lnTo>
                    <a:pt x="787" y="502"/>
                  </a:lnTo>
                  <a:lnTo>
                    <a:pt x="786" y="503"/>
                  </a:lnTo>
                  <a:lnTo>
                    <a:pt x="785" y="504"/>
                  </a:lnTo>
                  <a:lnTo>
                    <a:pt x="784" y="505"/>
                  </a:lnTo>
                  <a:lnTo>
                    <a:pt x="784" y="506"/>
                  </a:lnTo>
                  <a:lnTo>
                    <a:pt x="783" y="507"/>
                  </a:lnTo>
                  <a:lnTo>
                    <a:pt x="782" y="508"/>
                  </a:lnTo>
                  <a:lnTo>
                    <a:pt x="781" y="509"/>
                  </a:lnTo>
                  <a:lnTo>
                    <a:pt x="780" y="510"/>
                  </a:lnTo>
                  <a:lnTo>
                    <a:pt x="779" y="511"/>
                  </a:lnTo>
                  <a:lnTo>
                    <a:pt x="779" y="512"/>
                  </a:lnTo>
                  <a:lnTo>
                    <a:pt x="778" y="513"/>
                  </a:lnTo>
                  <a:lnTo>
                    <a:pt x="777" y="514"/>
                  </a:lnTo>
                  <a:lnTo>
                    <a:pt x="776" y="515"/>
                  </a:lnTo>
                  <a:lnTo>
                    <a:pt x="775" y="516"/>
                  </a:lnTo>
                  <a:lnTo>
                    <a:pt x="774" y="517"/>
                  </a:lnTo>
                  <a:lnTo>
                    <a:pt x="772" y="518"/>
                  </a:lnTo>
                  <a:lnTo>
                    <a:pt x="771" y="519"/>
                  </a:lnTo>
                  <a:lnTo>
                    <a:pt x="770" y="519"/>
                  </a:lnTo>
                  <a:lnTo>
                    <a:pt x="769" y="520"/>
                  </a:lnTo>
                  <a:lnTo>
                    <a:pt x="768" y="521"/>
                  </a:lnTo>
                  <a:lnTo>
                    <a:pt x="767" y="522"/>
                  </a:lnTo>
                  <a:lnTo>
                    <a:pt x="766" y="523"/>
                  </a:lnTo>
                  <a:lnTo>
                    <a:pt x="764" y="524"/>
                  </a:lnTo>
                  <a:lnTo>
                    <a:pt x="763" y="525"/>
                  </a:lnTo>
                  <a:lnTo>
                    <a:pt x="762" y="525"/>
                  </a:lnTo>
                  <a:lnTo>
                    <a:pt x="760" y="526"/>
                  </a:lnTo>
                  <a:lnTo>
                    <a:pt x="759" y="527"/>
                  </a:lnTo>
                  <a:lnTo>
                    <a:pt x="758" y="528"/>
                  </a:lnTo>
                  <a:lnTo>
                    <a:pt x="756" y="528"/>
                  </a:lnTo>
                  <a:lnTo>
                    <a:pt x="755" y="529"/>
                  </a:lnTo>
                  <a:lnTo>
                    <a:pt x="754" y="530"/>
                  </a:lnTo>
                  <a:lnTo>
                    <a:pt x="752" y="530"/>
                  </a:lnTo>
                  <a:lnTo>
                    <a:pt x="751" y="531"/>
                  </a:lnTo>
                  <a:lnTo>
                    <a:pt x="749" y="532"/>
                  </a:lnTo>
                  <a:lnTo>
                    <a:pt x="748" y="532"/>
                  </a:lnTo>
                  <a:lnTo>
                    <a:pt x="746" y="533"/>
                  </a:lnTo>
                  <a:lnTo>
                    <a:pt x="745" y="534"/>
                  </a:lnTo>
                  <a:lnTo>
                    <a:pt x="743" y="534"/>
                  </a:lnTo>
                  <a:lnTo>
                    <a:pt x="742" y="535"/>
                  </a:lnTo>
                  <a:lnTo>
                    <a:pt x="740" y="535"/>
                  </a:lnTo>
                  <a:lnTo>
                    <a:pt x="739" y="536"/>
                  </a:lnTo>
                  <a:lnTo>
                    <a:pt x="737" y="536"/>
                  </a:lnTo>
                  <a:lnTo>
                    <a:pt x="736" y="537"/>
                  </a:lnTo>
                  <a:lnTo>
                    <a:pt x="734" y="537"/>
                  </a:lnTo>
                  <a:lnTo>
                    <a:pt x="733" y="538"/>
                  </a:lnTo>
                  <a:lnTo>
                    <a:pt x="731" y="538"/>
                  </a:lnTo>
                  <a:lnTo>
                    <a:pt x="729" y="538"/>
                  </a:lnTo>
                  <a:lnTo>
                    <a:pt x="728" y="539"/>
                  </a:lnTo>
                  <a:lnTo>
                    <a:pt x="726" y="539"/>
                  </a:lnTo>
                  <a:lnTo>
                    <a:pt x="724" y="540"/>
                  </a:lnTo>
                  <a:lnTo>
                    <a:pt x="723" y="540"/>
                  </a:lnTo>
                  <a:lnTo>
                    <a:pt x="721" y="540"/>
                  </a:lnTo>
                  <a:lnTo>
                    <a:pt x="719" y="541"/>
                  </a:lnTo>
                  <a:lnTo>
                    <a:pt x="718" y="541"/>
                  </a:lnTo>
                  <a:lnTo>
                    <a:pt x="716" y="541"/>
                  </a:lnTo>
                  <a:lnTo>
                    <a:pt x="714" y="541"/>
                  </a:lnTo>
                  <a:lnTo>
                    <a:pt x="713" y="541"/>
                  </a:lnTo>
                  <a:lnTo>
                    <a:pt x="711" y="542"/>
                  </a:lnTo>
                  <a:lnTo>
                    <a:pt x="709" y="542"/>
                  </a:lnTo>
                  <a:lnTo>
                    <a:pt x="708" y="542"/>
                  </a:lnTo>
                  <a:lnTo>
                    <a:pt x="706" y="542"/>
                  </a:lnTo>
                  <a:lnTo>
                    <a:pt x="704" y="542"/>
                  </a:lnTo>
                  <a:lnTo>
                    <a:pt x="702" y="542"/>
                  </a:lnTo>
                  <a:lnTo>
                    <a:pt x="701" y="542"/>
                  </a:lnTo>
                  <a:lnTo>
                    <a:pt x="699" y="542"/>
                  </a:lnTo>
                  <a:lnTo>
                    <a:pt x="697" y="542"/>
                  </a:lnTo>
                  <a:lnTo>
                    <a:pt x="696" y="543"/>
                  </a:lnTo>
                  <a:lnTo>
                    <a:pt x="529" y="5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4680" y="3635280"/>
              <a:ext cx="706320" cy="11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4400" y="2665440"/>
            <a:ext cx="126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Innovation Funnel in the Total Business 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30200" y="1365120"/>
            <a:ext cx="799956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urse Outline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y One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y have a strategy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Evolution of Technologies and Markets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king Money from Innovation: Understanding Competit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y Two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eading Change in Innovative Organiz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lly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o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Strateg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tes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84240" y="1428480"/>
            <a:ext cx="69292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 major mileston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 intended to allow passage of the projects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ore likely to succee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y sacrificing projects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ore likely to fai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 early as possi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cus decision-making.  At a gate, a decision is made to either: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tinue working on the project, moving it along to the next stage in the funnel; or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op working on the project, shelving it or canceling it; or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et additional information and reconsider the project for passage through the same gate once that information becomes avail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44680" y="5479920"/>
            <a:ext cx="812448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ample: Gate Selection Criteri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371600" y="2727360"/>
            <a:ext cx="6805440" cy="474480"/>
            <a:chOff x="1371600" y="2727360"/>
            <a:chExt cx="6805440" cy="474480"/>
          </a:xfrm>
        </p:grpSpPr>
        <p:sp>
          <p:nvSpPr>
            <p:cNvPr id="727" name=""/>
            <p:cNvSpPr/>
            <p:nvPr/>
          </p:nvSpPr>
          <p:spPr>
            <a:xfrm flipH="1">
              <a:off x="1371600" y="2727360"/>
              <a:ext cx="5433840" cy="47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23080" y="272736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371600" y="1422360"/>
            <a:ext cx="6805440" cy="476280"/>
            <a:chOff x="1371600" y="1422360"/>
            <a:chExt cx="6805440" cy="476280"/>
          </a:xfrm>
        </p:grpSpPr>
        <p:sp>
          <p:nvSpPr>
            <p:cNvPr id="730" name=""/>
            <p:cNvSpPr/>
            <p:nvPr/>
          </p:nvSpPr>
          <p:spPr>
            <a:xfrm>
              <a:off x="1371600" y="1422360"/>
              <a:ext cx="5433840" cy="476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23080" y="189864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647040" y="1751040"/>
            <a:ext cx="0" cy="1074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08840" y="1351080"/>
            <a:ext cx="1058760" cy="39348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91000" y="1204920"/>
            <a:ext cx="1058760" cy="39384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25720" y="1101600"/>
            <a:ext cx="1058760" cy="39384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1200" y="2800440"/>
            <a:ext cx="1130400" cy="36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371600" y="1389240"/>
            <a:ext cx="6805440" cy="474480"/>
            <a:chOff x="1371600" y="1389240"/>
            <a:chExt cx="6805440" cy="474480"/>
          </a:xfrm>
        </p:grpSpPr>
        <p:sp>
          <p:nvSpPr>
            <p:cNvPr id="738" name=""/>
            <p:cNvSpPr/>
            <p:nvPr/>
          </p:nvSpPr>
          <p:spPr>
            <a:xfrm>
              <a:off x="1371600" y="1389240"/>
              <a:ext cx="5433840" cy="47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3080" y="186372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371600" y="2692440"/>
            <a:ext cx="6805440" cy="476280"/>
            <a:chOff x="1371600" y="2692440"/>
            <a:chExt cx="6805440" cy="476280"/>
          </a:xfrm>
        </p:grpSpPr>
        <p:sp>
          <p:nvSpPr>
            <p:cNvPr id="741" name=""/>
            <p:cNvSpPr/>
            <p:nvPr/>
          </p:nvSpPr>
          <p:spPr>
            <a:xfrm flipH="1">
              <a:off x="1371600" y="2692440"/>
              <a:ext cx="5433840" cy="476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23080" y="2692440"/>
              <a:ext cx="1353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793880" y="1378080"/>
            <a:ext cx="0" cy="1857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46640" y="1492200"/>
            <a:ext cx="0" cy="1617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73520" y="3105000"/>
            <a:ext cx="11300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3252960"/>
            <a:ext cx="11300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29200" y="1617840"/>
            <a:ext cx="0" cy="1323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54640" y="2935440"/>
            <a:ext cx="11300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3440" y="1836720"/>
            <a:ext cx="12016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Ide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59080" y="3301920"/>
            <a:ext cx="826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hart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76560" y="3122640"/>
            <a:ext cx="82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06920" y="2897280"/>
            <a:ext cx="826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aunch Propos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19640" y="2801880"/>
            <a:ext cx="1108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ost Launch Review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53960" y="1076400"/>
            <a:ext cx="10843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006720" y="1201680"/>
            <a:ext cx="110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0" y="1303200"/>
            <a:ext cx="12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07120" y="1450800"/>
            <a:ext cx="118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atekeeper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75040" y="1919160"/>
            <a:ext cx="93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Feasibilit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22680" y="191916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Capabilit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75440" y="1865160"/>
            <a:ext cx="93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Launch &amp; Rollou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73320" y="977760"/>
            <a:ext cx="1058760" cy="393840"/>
          </a:xfrm>
          <a:prstGeom prst="diamond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871880" y="3740040"/>
            <a:ext cx="1773360" cy="2368800"/>
            <a:chOff x="4871880" y="3740040"/>
            <a:chExt cx="1773360" cy="2368800"/>
          </a:xfrm>
        </p:grpSpPr>
        <p:sp>
          <p:nvSpPr>
            <p:cNvPr id="763" name=""/>
            <p:cNvSpPr/>
            <p:nvPr/>
          </p:nvSpPr>
          <p:spPr>
            <a:xfrm>
              <a:off x="4871880" y="3740040"/>
              <a:ext cx="1764000" cy="254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71880" y="3740040"/>
              <a:ext cx="1764000" cy="23688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92840" y="3772080"/>
              <a:ext cx="1652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SELECTION CRITERIA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74840" y="3740040"/>
            <a:ext cx="1957320" cy="2762280"/>
            <a:chOff x="474840" y="3740040"/>
            <a:chExt cx="1957320" cy="2762280"/>
          </a:xfrm>
        </p:grpSpPr>
        <p:sp>
          <p:nvSpPr>
            <p:cNvPr id="767" name=""/>
            <p:cNvSpPr/>
            <p:nvPr/>
          </p:nvSpPr>
          <p:spPr>
            <a:xfrm>
              <a:off x="474840" y="3740040"/>
              <a:ext cx="1957320" cy="2762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4840" y="3740040"/>
              <a:ext cx="1957320" cy="298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6320" y="3784680"/>
              <a:ext cx="1630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SELECTION CRITERIA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15800" y="4006800"/>
            <a:ext cx="2127240" cy="26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Key consumer needs identified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roduct ideas meet identified consumer need, can be successfully communicated and delivered, and are perceived to be unique and different by consumer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Ideas pass strategic fit assessment: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Fits portfolio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otential to strengthen a priority brand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otential to be deliverable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an pass minimum financial criteria (NPS, PBI,Margin Contribution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roject fits product line architecture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611440" y="3727440"/>
            <a:ext cx="2077920" cy="2695320"/>
            <a:chOff x="2611440" y="3727440"/>
            <a:chExt cx="2077920" cy="2695320"/>
          </a:xfrm>
        </p:grpSpPr>
        <p:sp>
          <p:nvSpPr>
            <p:cNvPr id="772" name=""/>
            <p:cNvSpPr/>
            <p:nvPr/>
          </p:nvSpPr>
          <p:spPr>
            <a:xfrm>
              <a:off x="2665440" y="3727440"/>
              <a:ext cx="2023920" cy="290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5440" y="3727440"/>
              <a:ext cx="2023920" cy="26924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48040" y="3770280"/>
              <a:ext cx="1652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SELECTION CRITERIA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11440" y="3987720"/>
              <a:ext cx="196992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56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"/>
                </a:rPr>
                <a:t>Concept, product and packaging meeting agreed quantified action standards.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56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"/>
                </a:rPr>
                <a:t>Satisfactory assessment of practical feasibility, and financial viability of safe formulation, packaging, supply chain, customer and total project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56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"/>
                </a:rPr>
                <a:t>Capex proposal ready 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56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"/>
                </a:rPr>
                <a:t>Human resource and other resource requirements are acceptable.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56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"/>
                </a:rPr>
                <a:t>Defined and agreed action standards for consumer tests to pass Stage III.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11760" y="4000680"/>
            <a:ext cx="1846080" cy="18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roduct and Marketing mix elements successfully meet previously defined action standards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Safety requirements satisfied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apital proposal has been implemented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Key functional areas approve launch plan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Total project is commercially viable and fits company plan.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79240" y="3925800"/>
            <a:ext cx="184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y chan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pending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strategic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nt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Reality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ing a funnel work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mally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cing the funnel to the needs of the business, not the other way around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volving key decision makers earl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formally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eadership: tolerating “high respect, high conflict” debat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ust: “but this would only work if we told the truth…”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alytical Tools for Making Choic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alytical Tools for Making Choic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nancial Tool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RR &amp; NPV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isk vs Retur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rtfolio Concepts: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Aggregate Project Pla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enario Analys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RR and NPV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10960" y="1981080"/>
            <a:ext cx="378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rength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focus on the quantifiable costs and benefits of the projec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lows for easy ranking and comparis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975200" y="198108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eakness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ces a focus on “the numbers”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glects the role of uncertaint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glects strategic consider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gnores interdependency between project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07720" y="1401840"/>
            <a:ext cx="591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A great place to begin but a terrible place to finish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Risk vs. Return Matrix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19160" y="1146240"/>
            <a:ext cx="9164520" cy="5296680"/>
            <a:chOff x="119160" y="1146240"/>
            <a:chExt cx="9164520" cy="5296680"/>
          </a:xfrm>
        </p:grpSpPr>
        <p:sp>
          <p:nvSpPr>
            <p:cNvPr id="808" name=""/>
            <p:cNvSpPr/>
            <p:nvPr/>
          </p:nvSpPr>
          <p:spPr>
            <a:xfrm>
              <a:off x="3187800" y="6091200"/>
              <a:ext cx="26208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0"/>
                  <a:tab algn="l" pos="2635200"/>
                  <a:tab algn="l" pos="3952800"/>
                  <a:tab algn="l" pos="5270400"/>
                  <a:tab algn="l" pos="6588000"/>
                  <a:tab algn="l" pos="7905600"/>
                  <a:tab algn="l" pos="9223200"/>
                  <a:tab algn="l" pos="1054116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HelveticaNeue"/>
                </a:rPr>
                <a:t>Return (IRR)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6200000">
              <a:off x="-1049760" y="3244680"/>
              <a:ext cx="26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HelveticaNeue"/>
                </a:rPr>
                <a:t>Aggregate Project Risk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3280" y="3179880"/>
              <a:ext cx="2840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920" y="317808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HelveticaNeue"/>
                </a:rPr>
                <a:t>MOD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9640" y="5064120"/>
              <a:ext cx="2764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2200" y="5103720"/>
              <a:ext cx="1220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2800" y="51022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HelveticaNeue"/>
                </a:rPr>
                <a:t>H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5640" y="1660680"/>
              <a:ext cx="322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7400" y="1701720"/>
              <a:ext cx="169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5200" y="1701720"/>
              <a:ext cx="24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HelveticaNeue"/>
                </a:rPr>
                <a:t>LO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77840" y="1149480"/>
              <a:ext cx="6681960" cy="46846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11840" y="1251000"/>
              <a:ext cx="146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MORE ATTRACTIV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28600" y="55674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73600" y="5602320"/>
              <a:ext cx="140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LESS ATTRACTIV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2040" y="5792760"/>
              <a:ext cx="326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06560" y="5834160"/>
              <a:ext cx="1778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40040" y="5883120"/>
              <a:ext cx="22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4240" y="5792760"/>
              <a:ext cx="460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0200" y="5834160"/>
              <a:ext cx="3096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23600" y="58831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10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25880" y="5792760"/>
              <a:ext cx="4622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02200" y="5834160"/>
              <a:ext cx="3110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25240" y="58831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25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73160" y="42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90440" y="423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11320" y="4248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31840" y="42642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49480" y="427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70000" y="429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90520" y="430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9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08160" y="4322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27240" y="433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47760" y="435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68280" y="436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5920" y="437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06440" y="439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27320" y="44085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44600" y="442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65120" y="443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4200" y="4449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032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10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22360" y="4478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2880" y="449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1960" y="450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8104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01920" y="45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1000" y="45514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39720" y="456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9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58800" y="45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77880" y="4594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98760" y="4610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17840" y="46227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36560" y="463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7440" y="465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8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77960" y="466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93800" y="468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14680" y="4695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35200" y="47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75572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773360" y="47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93880" y="475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14400" y="476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32040" y="478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51120" y="479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71640" y="480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90720" y="482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10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09800" y="483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30320" y="48531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49400" y="486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6848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87560" y="489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664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27160" y="492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46240" y="49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65320" y="495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85840" y="496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04920" y="498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24000" y="499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43080" y="50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63600" y="502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81240" y="504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01760" y="505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22640" y="50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1720" y="508176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60440" y="509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81320" y="5111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9"/>
                  </a:lnTo>
                  <a:lnTo>
                    <a:pt x="7" y="16"/>
                  </a:lnTo>
                  <a:lnTo>
                    <a:pt x="16" y="8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00400" y="512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17680" y="514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560" y="51562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59080" y="516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97240" y="519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17760" y="5213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36840" y="5226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54120" y="524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75000" y="5254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4080" y="527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14600" y="5283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33680" y="529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2760" y="531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73280" y="532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592360" y="534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10000" y="535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30520" y="5370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9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651040" y="538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68680" y="539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689200" y="541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09720" y="542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28800" y="54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47880" y="545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6696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7480" y="548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05120" y="550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25640" y="551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46520" y="552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63800" y="554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84320" y="5557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03400" y="5570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22480" y="558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10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41560" y="5599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62440" y="561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81160" y="562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00240" y="564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21120" y="565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40200" y="5673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59280" y="568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78000" y="570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97080" y="571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17960" y="573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138480" y="5743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57560" y="5759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76640" y="577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97160" y="578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13000" y="580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10360" y="1146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26200" y="116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46720" y="117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7240" y="119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86320" y="120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05400" y="121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25920" y="123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45000" y="124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62640" y="126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483160" y="1276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02240" y="128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22760" y="13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41840" y="13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60920" y="1333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81800" y="134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00880" y="13622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18160" y="137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38680" y="13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59560" y="1405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78640" y="14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97360" y="143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18240" y="1449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37320" y="146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5640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75480" y="149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96000" y="150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13280" y="151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34160" y="153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854680" y="154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72320" y="156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92840" y="15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13360" y="159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31000" y="160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50080" y="162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70600" y="16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89680" y="164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10200" y="166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29280" y="167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48360" y="169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68880" y="17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86520" y="172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05600" y="173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26120" y="17496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46640" y="176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65720" y="177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4800" y="179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05680" y="180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22960" y="182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242040" y="183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62560" y="1851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83440" y="186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00720" y="18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21600" y="1892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42120" y="1908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59400" y="192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78480" y="193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399360" y="1951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18440" y="1967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10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37160" y="197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5804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77120" y="200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96200" y="2023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16720" y="20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534000" y="205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554880" y="206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73960" y="208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93040" y="209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613560" y="21099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34080" y="212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653160" y="2138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72240" y="215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91320" y="216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1040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29480" y="219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5000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7052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88160" y="2238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08680" y="2254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29560" y="226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45400" y="228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65920" y="229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864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05520" y="232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24600" y="23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945480" y="2352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64200" y="236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83280" y="238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7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02360" y="239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21440" y="240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42320" y="2425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61040" y="243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81920" y="245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0100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20080" y="248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37360" y="2496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57880" y="251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8760" y="252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97840" y="254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1692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37440" y="25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7" y="16"/>
                  </a:lnTo>
                  <a:lnTo>
                    <a:pt x="16" y="6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256520" y="258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75600" y="25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94680" y="26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5200" y="262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32840" y="26398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53360" y="265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73880" y="2668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92960" y="26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12040" y="26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7"/>
                  </a:lnTo>
                  <a:lnTo>
                    <a:pt x="7" y="16"/>
                  </a:lnTo>
                  <a:lnTo>
                    <a:pt x="16" y="5"/>
                  </a:lnTo>
                  <a:lnTo>
                    <a:pt x="5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32560" y="271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50200" y="272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22720" y="5792760"/>
              <a:ext cx="461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97240" y="5834160"/>
              <a:ext cx="3110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20280" y="58831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15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57440" y="5792760"/>
              <a:ext cx="3952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33400" y="5834160"/>
              <a:ext cx="2430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61840" y="5883120"/>
              <a:ext cx="31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5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54320" y="5792760"/>
              <a:ext cx="4622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29200" y="5834160"/>
              <a:ext cx="3110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52240" y="58831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20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7440" y="5792760"/>
              <a:ext cx="4622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72320" y="5834160"/>
              <a:ext cx="3110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95360" y="58831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30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47040" y="5792760"/>
              <a:ext cx="460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723000" y="5834160"/>
              <a:ext cx="381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746400" y="58831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HelveticaNeue"/>
                </a:rPr>
                <a:t>&gt;500%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323120" y="5792760"/>
              <a:ext cx="461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80320" y="2292480"/>
              <a:ext cx="9748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86600" y="3327480"/>
              <a:ext cx="1297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200" spc="-1" strike="noStrike">
                  <a:solidFill>
                    <a:srgbClr val="0000ff"/>
                  </a:solidFill>
                  <a:latin typeface="HelveticaNeue"/>
                </a:rPr>
                <a:t>Forecas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200" spc="-1" strike="noStrike">
                  <a:solidFill>
                    <a:srgbClr val="0000ff"/>
                  </a:solidFill>
                  <a:latin typeface="HelveticaNeue"/>
                </a:rPr>
                <a:t> 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HelveticaNeue"/>
                </a:rPr>
                <a:t>Projec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200" spc="-1" strike="noStrike">
                  <a:solidFill>
                    <a:srgbClr val="0000ff"/>
                  </a:solidFill>
                  <a:latin typeface="HelveticaNeue"/>
                </a:rPr>
                <a:t> 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HelveticaNeue"/>
                </a:rPr>
                <a:t>Expense 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42360" y="3930480"/>
              <a:ext cx="385560" cy="36036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555040" y="509256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437680" y="53085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000" spc="-1" strike="noStrike">
                  <a:solidFill>
                    <a:srgbClr val="0000ff"/>
                  </a:solidFill>
                  <a:latin typeface="Arial"/>
                </a:rPr>
                <a:t>&lt;$1Mi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412120" y="4851360"/>
              <a:ext cx="41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000" spc="-1" strike="noStrike">
                  <a:solidFill>
                    <a:srgbClr val="0000ff"/>
                  </a:solidFill>
                  <a:latin typeface="Arial"/>
                </a:rPr>
                <a:t>$1-5Mi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402760" y="43527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000" spc="-1" strike="noStrike">
                  <a:solidFill>
                    <a:srgbClr val="0000ff"/>
                  </a:solidFill>
                  <a:latin typeface="Arial"/>
                </a:rPr>
                <a:t>&gt;$5Mi</a:t>
              </a:r>
              <a:endParaRPr b="0" lang="en-US" sz="1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91680" y="4552920"/>
              <a:ext cx="288720" cy="24300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02560" y="1195560"/>
              <a:ext cx="1060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N Latex Ferritin Liquid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388280" y="1149480"/>
              <a:ext cx="358560" cy="46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547040" y="11811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22560" y="313524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14720" y="31399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N Latex lg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89800" y="54039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91400" y="54086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N latex SSA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85000" y="555300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076800" y="55576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SW V 2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57720" y="313524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49880" y="31399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RP mono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08880" y="29368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704000" y="2919240"/>
              <a:ext cx="54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Bence Jones OEM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54120" y="32338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6280" y="32385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Procalcitoni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614760" y="548316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706920" y="54878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Homocystei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437160" y="14320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529320" y="14367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N Latex B2m neu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24240" y="33940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16400" y="33987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lgG Subklasse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04960" y="34164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97120" y="34210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D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3200" y="35784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65360" y="35830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TTS Cystatin C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02000" y="374004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93800" y="37450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SRT 8,9,10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97080" y="545940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ISD Group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089160" y="33354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181320" y="33400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Viva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77920" y="3409920"/>
              <a:ext cx="74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Liquid conversion program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28960" y="3046320"/>
              <a:ext cx="385560" cy="36036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67040" y="5334120"/>
              <a:ext cx="288720" cy="242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41440" y="29512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33600" y="29559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DAT Improvemen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24000" y="50562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16160" y="50608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6-Acetyl Morphin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00320" y="15462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92480" y="15508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BCT/Software 2.0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87560" y="13431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79720" y="13478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uvette rotor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20680" y="150480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12840" y="15098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Software 3.0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49800" y="140328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41960" y="1407960"/>
              <a:ext cx="898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Liquid P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98680" y="17082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90840" y="1712880"/>
              <a:ext cx="898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Improvemen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24240" y="16574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16400" y="1662120"/>
              <a:ext cx="8985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Fibrinogen standard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78080" y="313524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69880" y="31399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Hepari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19200" y="33130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11360" y="3317760"/>
              <a:ext cx="50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ontrols for Lupus tes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95560" y="370692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158920" y="3699000"/>
              <a:ext cx="42084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Protein 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493040" y="56102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99320" y="5586480"/>
              <a:ext cx="8985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Tick Borne Ezyphalitis 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68640" y="18399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60440" y="18446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Pro C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84400" y="536724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76200" y="53722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aPTT reagen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38280" y="50007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30440" y="50054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HTLV/I/II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87560" y="49197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79720" y="49244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HIV p24 Ag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93040" y="269388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04000" y="2698920"/>
              <a:ext cx="604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FAS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228760" y="28162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20920" y="28209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Pharma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892160" y="29559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AQ*/Updat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655640" y="2887560"/>
              <a:ext cx="289080" cy="24300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52480" y="363852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550880" y="3765600"/>
              <a:ext cx="614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rev. C reactive Pro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998880" y="35416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DOA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54440" y="3475080"/>
              <a:ext cx="289080" cy="24300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81880" y="24512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97880" y="2448000"/>
              <a:ext cx="57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DM Cyclospori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96120" y="16574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554880" y="16621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Glyc HB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564320" y="138420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94640" y="138924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rev cTNI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213600" y="31399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PP (4)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332080" y="53434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424240" y="53481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Lithium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61240" y="3133800"/>
              <a:ext cx="288720" cy="242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81320" y="392436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06520" y="3976560"/>
              <a:ext cx="45108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SCS Digoxin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00320" y="268452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92480" y="268920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arbonate Sensor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46440" y="550872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8600" y="551340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Homocystein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460680" y="52754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52840" y="52801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ystatin-C (PP)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62400" y="539748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54560" y="540216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-Direct LDL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83000" y="523404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75160" y="52387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Tacrolimu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981160" y="347832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73320" y="348300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DM CEA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62200" y="150012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IM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38640" y="1467000"/>
              <a:ext cx="288720" cy="242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37000" y="4089240"/>
              <a:ext cx="6746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Chemilum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35200" y="3859200"/>
              <a:ext cx="289080" cy="24300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43080" y="5365800"/>
              <a:ext cx="131760" cy="12528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35240" y="5370480"/>
              <a:ext cx="898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TLA Interfac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09920" y="5251320"/>
              <a:ext cx="131760" cy="125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02080" y="5256360"/>
              <a:ext cx="898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ex-Lock-Ou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89240" y="2181240"/>
              <a:ext cx="9824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US Update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60640" y="2141640"/>
              <a:ext cx="288720" cy="242640"/>
            </a:xfrm>
            <a:prstGeom prst="ellipse">
              <a:avLst/>
            </a:prstGeom>
            <a:solidFill>
              <a:srgbClr val="a9a9a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an option valuable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king of investments as options values uncertainty more appropriatel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aying investment until there is more information can be very valuab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505320" y="5029200"/>
            <a:ext cx="106668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9840" y="4037040"/>
            <a:ext cx="4297680" cy="2012400"/>
            <a:chOff x="2139840" y="4037040"/>
            <a:chExt cx="4297680" cy="2012400"/>
          </a:xfrm>
        </p:grpSpPr>
        <p:sp>
          <p:nvSpPr>
            <p:cNvPr id="1196" name=""/>
            <p:cNvSpPr/>
            <p:nvPr/>
          </p:nvSpPr>
          <p:spPr>
            <a:xfrm>
              <a:off x="2209680" y="4991040"/>
              <a:ext cx="12956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505320" y="4419360"/>
              <a:ext cx="1066680" cy="609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572000" y="4419720"/>
              <a:ext cx="12952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36960" y="4722840"/>
              <a:ext cx="44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0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9840" y="4037040"/>
              <a:ext cx="44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79840" y="5713560"/>
              <a:ext cx="44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04080" y="5484960"/>
              <a:ext cx="43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V2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04080" y="4265640"/>
              <a:ext cx="43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V1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03280" y="45705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03640" y="510372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1-p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39840" y="4959360"/>
              <a:ext cx="139680" cy="6336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73760" y="4425840"/>
              <a:ext cx="139680" cy="6372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73760" y="5568840"/>
              <a:ext cx="139680" cy="6372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 is thinking of a project as an “option” likely to be fruitful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the future is very uncerta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investing now will create unique opportunities for the fi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failing to invest now means that it will be very expensive to invest lat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ogjam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464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33520"/>
            <a:ext cx="8379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s Th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Project Pipelin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much is an option worth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034640" y="1676520"/>
          <a:ext cx="7728120" cy="4114800"/>
        </p:xfrm>
        <a:graphic>
          <a:graphicData uri="http://schemas.openxmlformats.org/drawingml/2006/table"/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482840" y="2502000"/>
            <a:ext cx="6213240" cy="168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855800" y="2854440"/>
            <a:ext cx="55087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rtfolio Concepts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ggregate Project Planning Tool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Aggregate Project Plan (1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457200" y="1371600"/>
            <a:ext cx="7620120" cy="4842000"/>
            <a:chOff x="457200" y="1371600"/>
            <a:chExt cx="7620120" cy="4842000"/>
          </a:xfrm>
        </p:grpSpPr>
        <p:sp>
          <p:nvSpPr>
            <p:cNvPr id="1222" name=""/>
            <p:cNvSpPr/>
            <p:nvPr/>
          </p:nvSpPr>
          <p:spPr>
            <a:xfrm>
              <a:off x="762120" y="5756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00400" y="57564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5756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200400" y="57564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7200" y="568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00400" y="56800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667240" y="2250720"/>
              <a:ext cx="0" cy="335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67240" y="2251080"/>
              <a:ext cx="541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67240" y="5603760"/>
              <a:ext cx="541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8077320" y="2250720"/>
              <a:ext cx="0" cy="335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91840" y="240660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Radical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85920" y="4992840"/>
              <a:ext cx="127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ff the shelf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50000" y="1716120"/>
              <a:ext cx="21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78840" y="3652920"/>
              <a:ext cx="11466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each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879640" y="2362320"/>
              <a:ext cx="5197680" cy="3241440"/>
              <a:chOff x="2879640" y="2362320"/>
              <a:chExt cx="5197680" cy="3241440"/>
            </a:xfrm>
          </p:grpSpPr>
          <p:sp>
            <p:nvSpPr>
              <p:cNvPr id="1237" name=""/>
              <p:cNvSpPr/>
              <p:nvPr/>
            </p:nvSpPr>
            <p:spPr>
              <a:xfrm>
                <a:off x="3733920" y="3165480"/>
                <a:ext cx="0" cy="2438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733920" y="3165480"/>
                <a:ext cx="43434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477120" y="4689360"/>
                <a:ext cx="0" cy="9144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477120" y="4689360"/>
                <a:ext cx="16002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257800" y="4079880"/>
                <a:ext cx="0" cy="1523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57800" y="4079880"/>
                <a:ext cx="28195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79640" y="2362320"/>
                <a:ext cx="1602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reakthrough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024440" y="3349800"/>
                <a:ext cx="1090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Platform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317200" y="4186080"/>
                <a:ext cx="1257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erivative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763680" y="4795920"/>
                <a:ext cx="100656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Produc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Suppor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2808000" y="1371600"/>
              <a:ext cx="5200560" cy="776160"/>
              <a:chOff x="2808000" y="1371600"/>
              <a:chExt cx="5200560" cy="776160"/>
            </a:xfrm>
          </p:grpSpPr>
          <p:sp>
            <p:nvSpPr>
              <p:cNvPr id="1248" name=""/>
              <p:cNvSpPr/>
              <p:nvPr/>
            </p:nvSpPr>
            <p:spPr>
              <a:xfrm>
                <a:off x="2808000" y="1568520"/>
                <a:ext cx="1291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Entirely new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process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861440" y="1797120"/>
                <a:ext cx="1369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Improvement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42160" y="1797120"/>
                <a:ext cx="1166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o change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53640" y="1371600"/>
                <a:ext cx="2065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Process Impac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Aggregate Project Plan (2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57200" y="1371600"/>
            <a:ext cx="7620120" cy="4842000"/>
            <a:chOff x="457200" y="1371600"/>
            <a:chExt cx="7620120" cy="4842000"/>
          </a:xfrm>
        </p:grpSpPr>
        <p:sp>
          <p:nvSpPr>
            <p:cNvPr id="1254" name=""/>
            <p:cNvSpPr/>
            <p:nvPr/>
          </p:nvSpPr>
          <p:spPr>
            <a:xfrm>
              <a:off x="762120" y="5756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00400" y="57564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2120" y="5756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00400" y="57564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7200" y="568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00400" y="56800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2667240" y="2250720"/>
              <a:ext cx="0" cy="335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67240" y="2251080"/>
              <a:ext cx="541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67240" y="5603760"/>
              <a:ext cx="541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8077320" y="2250720"/>
              <a:ext cx="0" cy="335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91840" y="240660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Radical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85920" y="4992840"/>
              <a:ext cx="127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ff the shelf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50000" y="1716120"/>
              <a:ext cx="21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978120" y="3652920"/>
              <a:ext cx="1613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echnology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each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2879640" y="2362320"/>
              <a:ext cx="5197680" cy="3241440"/>
              <a:chOff x="2879640" y="2362320"/>
              <a:chExt cx="5197680" cy="3241440"/>
            </a:xfrm>
          </p:grpSpPr>
          <p:sp>
            <p:nvSpPr>
              <p:cNvPr id="1269" name=""/>
              <p:cNvSpPr/>
              <p:nvPr/>
            </p:nvSpPr>
            <p:spPr>
              <a:xfrm>
                <a:off x="3733920" y="3165480"/>
                <a:ext cx="0" cy="2438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733920" y="3165480"/>
                <a:ext cx="43434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77120" y="4689360"/>
                <a:ext cx="0" cy="9144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77120" y="4689360"/>
                <a:ext cx="16002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57800" y="4079880"/>
                <a:ext cx="0" cy="1523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257800" y="4079880"/>
                <a:ext cx="28195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879640" y="2362320"/>
                <a:ext cx="1602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reakthrough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024440" y="3349800"/>
                <a:ext cx="1090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Platform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317200" y="4186080"/>
                <a:ext cx="1257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erivative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763680" y="4795920"/>
                <a:ext cx="100656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Produc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Suppor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2808000" y="1371600"/>
              <a:ext cx="5200560" cy="776160"/>
              <a:chOff x="2808000" y="1371600"/>
              <a:chExt cx="5200560" cy="776160"/>
            </a:xfrm>
          </p:grpSpPr>
          <p:sp>
            <p:nvSpPr>
              <p:cNvPr id="1280" name=""/>
              <p:cNvSpPr/>
              <p:nvPr/>
            </p:nvSpPr>
            <p:spPr>
              <a:xfrm>
                <a:off x="2808000" y="1568520"/>
                <a:ext cx="1291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Entirely new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benefit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861440" y="1797120"/>
                <a:ext cx="1369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Improvement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842160" y="1797120"/>
                <a:ext cx="1166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o change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552560" y="1371600"/>
                <a:ext cx="2277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arketing Impact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24688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sumer/Technology Matrix: An Exampl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4737240" y="1087560"/>
            <a:ext cx="3279960" cy="565200"/>
            <a:chOff x="4737240" y="1087560"/>
            <a:chExt cx="3279960" cy="565200"/>
          </a:xfrm>
        </p:grpSpPr>
        <p:sp>
          <p:nvSpPr>
            <p:cNvPr id="1286" name=""/>
            <p:cNvSpPr/>
            <p:nvPr/>
          </p:nvSpPr>
          <p:spPr>
            <a:xfrm>
              <a:off x="4737240" y="1244520"/>
              <a:ext cx="126720" cy="1303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651640" y="1135080"/>
              <a:ext cx="339480" cy="349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689880" y="1087560"/>
              <a:ext cx="558720" cy="565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22920" y="1093680"/>
              <a:ext cx="846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Low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Resour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70840" y="1089000"/>
              <a:ext cx="846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High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Resour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74480" y="1093680"/>
              <a:ext cx="884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Moderat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Resour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432000" y="1204920"/>
            <a:ext cx="8191800" cy="4856040"/>
            <a:chOff x="432000" y="1204920"/>
            <a:chExt cx="8191800" cy="4856040"/>
          </a:xfrm>
        </p:grpSpPr>
        <p:sp>
          <p:nvSpPr>
            <p:cNvPr id="1293" name=""/>
            <p:cNvSpPr/>
            <p:nvPr/>
          </p:nvSpPr>
          <p:spPr>
            <a:xfrm>
              <a:off x="1789200" y="2060640"/>
              <a:ext cx="6788160" cy="398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38760" y="1238400"/>
              <a:ext cx="989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Arial"/>
                </a:rPr>
                <a:t>Consumer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084760" y="1238400"/>
              <a:ext cx="1510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Arial"/>
                </a:rPr>
                <a:t>Value Perception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2000" y="1701720"/>
              <a:ext cx="870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Arial"/>
                </a:rPr>
                <a:t>Enabling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3080" y="1895400"/>
              <a:ext cx="1099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Arial"/>
                </a:rPr>
                <a:t>Technology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873440" y="1603440"/>
              <a:ext cx="907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New Core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873080" y="1798560"/>
              <a:ext cx="74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Product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308400" y="1590840"/>
              <a:ext cx="504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09120" y="1787400"/>
              <a:ext cx="7700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Benefits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00360" y="2778120"/>
              <a:ext cx="5902200" cy="3282840"/>
            </a:xfrm>
            <a:custGeom>
              <a:avLst/>
              <a:gdLst/>
              <a:ahLst/>
              <a:rect l="l" t="t" r="r" b="b"/>
              <a:pathLst>
                <a:path w="3718" h="2068">
                  <a:moveTo>
                    <a:pt x="0" y="2067"/>
                  </a:moveTo>
                  <a:lnTo>
                    <a:pt x="0" y="0"/>
                  </a:lnTo>
                  <a:lnTo>
                    <a:pt x="37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81360" y="2397240"/>
              <a:ext cx="724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Radical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4480" y="4481640"/>
              <a:ext cx="1035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Incremental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173240" y="5713560"/>
              <a:ext cx="55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Base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211400" y="3067200"/>
              <a:ext cx="51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Next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13880" y="3260880"/>
              <a:ext cx="989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Generation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61880" y="4087800"/>
              <a:ext cx="9619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i="1" lang="en-US" sz="1300" spc="-1" strike="noStrike">
                  <a:solidFill>
                    <a:srgbClr val="0000ff"/>
                  </a:solidFill>
                  <a:latin typeface="Arial"/>
                </a:rPr>
                <a:t>Derivative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54040" y="2863800"/>
              <a:ext cx="843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i="1" lang="en-US" sz="1300" spc="-1" strike="noStrike">
                  <a:solidFill>
                    <a:srgbClr val="0000ff"/>
                  </a:solidFill>
                  <a:latin typeface="Arial"/>
                </a:rPr>
                <a:t>Platform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64160" y="2141640"/>
              <a:ext cx="1254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i="1" lang="en-US" sz="1300" spc="-1" strike="noStrike">
                  <a:solidFill>
                    <a:srgbClr val="0000ff"/>
                  </a:solidFill>
                  <a:latin typeface="Arial"/>
                </a:rPr>
                <a:t>Breakthrough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flipV="1">
              <a:off x="699840" y="1204920"/>
              <a:ext cx="1081080" cy="82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565400" y="1692360"/>
              <a:ext cx="1007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No Change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38640" y="4000680"/>
              <a:ext cx="4370400" cy="2058840"/>
            </a:xfrm>
            <a:custGeom>
              <a:avLst/>
              <a:gdLst/>
              <a:ahLst/>
              <a:rect l="l" t="t" r="r" b="b"/>
              <a:pathLst>
                <a:path w="2753" h="1297">
                  <a:moveTo>
                    <a:pt x="0" y="1296"/>
                  </a:moveTo>
                  <a:lnTo>
                    <a:pt x="0" y="0"/>
                  </a:lnTo>
                  <a:lnTo>
                    <a:pt x="275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10200" y="4896000"/>
              <a:ext cx="2598840" cy="1163520"/>
            </a:xfrm>
            <a:custGeom>
              <a:avLst/>
              <a:gdLst/>
              <a:ahLst/>
              <a:rect l="l" t="t" r="r" b="b"/>
              <a:pathLst>
                <a:path w="1637" h="733">
                  <a:moveTo>
                    <a:pt x="0" y="732"/>
                  </a:moveTo>
                  <a:lnTo>
                    <a:pt x="0" y="0"/>
                  </a:lnTo>
                  <a:lnTo>
                    <a:pt x="1636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652280" y="1689120"/>
              <a:ext cx="11358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Improvement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74440" y="1700280"/>
              <a:ext cx="69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Variant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066360" y="5021280"/>
              <a:ext cx="806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i="1" lang="en-US" sz="1300" spc="-1" strike="noStrike">
                  <a:solidFill>
                    <a:srgbClr val="0000ff"/>
                  </a:solidFill>
                  <a:latin typeface="Arial"/>
                </a:rPr>
                <a:t>Brand 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i="1" lang="en-US" sz="1300" spc="-1" strike="noStrike">
                  <a:solidFill>
                    <a:srgbClr val="0000ff"/>
                  </a:solidFill>
                  <a:latin typeface="Arial"/>
                </a:rPr>
                <a:t>Support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459480" y="5549760"/>
              <a:ext cx="339840" cy="3495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5320" y="5532480"/>
              <a:ext cx="885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B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Extension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789440" y="5369040"/>
              <a:ext cx="558720" cy="565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59240" y="5456160"/>
              <a:ext cx="87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C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Langnes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31120" y="4540320"/>
              <a:ext cx="126720" cy="1299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51280" y="4351320"/>
              <a:ext cx="1171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Vx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Improvemen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41800" y="2892600"/>
              <a:ext cx="558720" cy="5648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6240" y="307512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S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59320" y="3292560"/>
              <a:ext cx="558720" cy="565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65840" y="3456000"/>
              <a:ext cx="51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Frui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65640" y="4502160"/>
              <a:ext cx="126720" cy="1303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56000" y="4351320"/>
              <a:ext cx="655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L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Expor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03640" y="3807000"/>
              <a:ext cx="558720" cy="5648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513600" y="3970440"/>
              <a:ext cx="72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Natura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80560" y="4275000"/>
              <a:ext cx="95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Fxxxx Fa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32440" y="4035600"/>
              <a:ext cx="558720" cy="5648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45080" y="4027320"/>
              <a:ext cx="99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Cxxxx 2000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72560" y="5664240"/>
              <a:ext cx="126720" cy="1299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79160" y="5246640"/>
              <a:ext cx="605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Super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C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71960" y="5425920"/>
              <a:ext cx="558720" cy="565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66520" y="532296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T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30680" y="4559400"/>
              <a:ext cx="339840" cy="349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96080" y="4522680"/>
              <a:ext cx="602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R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Frui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930920" y="3225960"/>
              <a:ext cx="338040" cy="349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236920" y="3417840"/>
              <a:ext cx="604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Cxxxx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ardvark"/>
                </a:rPr>
                <a:t>Frui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08400" y="4373640"/>
              <a:ext cx="357120" cy="3492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nefits of an Aggregate Project Plan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icit choice of projects balances the long and short term, allows for the explicit discussion of the match to strate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ch between project type and organizational form allows for a focus on the generation of competenc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 builds speed and productivity for the individual and the organiz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69840" y="901800"/>
            <a:ext cx="891072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533600" y="234144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533600" y="2341440"/>
            <a:ext cx="109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000" y="236520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259000" y="23652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674720" y="25812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776960" y="25812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59000" y="25812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59000" y="27590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59000" y="29750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168200" y="31910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72600" y="319104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910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168200" y="34066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272240" y="3406680"/>
            <a:ext cx="1252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re 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59000" y="34066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259000" y="35845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59000" y="38005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96880" y="401652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01640" y="4016520"/>
            <a:ext cx="90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t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271600" y="40165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28680" y="42321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332360" y="4232160"/>
            <a:ext cx="119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Famil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71600" y="42321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59000" y="44100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59000" y="46260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36400" y="484200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-Ons an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71600" y="48420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217520" y="5057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8320" y="5057640"/>
            <a:ext cx="120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259000" y="50576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155680" y="5273640"/>
            <a:ext cx="1095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59000" y="54514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450800" y="56674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555920" y="5667480"/>
            <a:ext cx="95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11000" y="1300320"/>
            <a:ext cx="167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ess Chang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45200" y="3549600"/>
            <a:ext cx="0" cy="58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245200" y="3562200"/>
            <a:ext cx="0" cy="71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068800" y="340992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68800" y="3422520"/>
            <a:ext cx="0" cy="71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17480" y="162864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138480" y="1628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618720" y="16286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11400" y="1628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9360" y="162864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67080" y="1628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996880" y="1628640"/>
            <a:ext cx="94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an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3920" y="1628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81960" y="162864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758000" y="16286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517480" y="180648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20760" y="18064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617640" y="180648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11720" y="18064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778640" y="180648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119560" y="18064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998320" y="1806480"/>
            <a:ext cx="97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38840" y="180648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0160" y="1806480"/>
            <a:ext cx="71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075520" y="18064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517840" y="198432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619080" y="198432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124160" y="198432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778640" y="198432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319720" y="198432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97600" y="1984320"/>
            <a:ext cx="107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38280" y="2247840"/>
            <a:ext cx="6000840" cy="3746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181160" y="13366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181160" y="1336680"/>
            <a:ext cx="104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979640" y="133668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039320" y="1514520"/>
            <a:ext cx="1342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06360" y="15145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950760" y="1333440"/>
            <a:ext cx="1416240" cy="6224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479840" y="3975120"/>
            <a:ext cx="3959280" cy="2019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93080" y="61880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678360" y="63658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07680" y="235440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28680" y="235440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8040" y="2557440"/>
            <a:ext cx="93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989960" y="6022800"/>
            <a:ext cx="1539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IVATIVE / CP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9051840" y="7327800"/>
            <a:ext cx="6660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014560" y="64422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75440" y="64422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2803680" y="2449440"/>
            <a:ext cx="621000" cy="226080"/>
            <a:chOff x="2803680" y="2449440"/>
            <a:chExt cx="621000" cy="226080"/>
          </a:xfrm>
        </p:grpSpPr>
        <p:sp>
          <p:nvSpPr>
            <p:cNvPr id="1436" name=""/>
            <p:cNvSpPr/>
            <p:nvPr/>
          </p:nvSpPr>
          <p:spPr>
            <a:xfrm>
              <a:off x="2803680" y="2502000"/>
              <a:ext cx="666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68480" y="2449440"/>
              <a:ext cx="556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4608360" y="4114800"/>
            <a:ext cx="712800" cy="77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734000" y="4392720"/>
            <a:ext cx="53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CH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5359320" y="4100400"/>
            <a:ext cx="836280" cy="226080"/>
            <a:chOff x="5359320" y="4100400"/>
            <a:chExt cx="836280" cy="226080"/>
          </a:xfrm>
        </p:grpSpPr>
        <p:sp>
          <p:nvSpPr>
            <p:cNvPr id="1441" name=""/>
            <p:cNvSpPr/>
            <p:nvPr/>
          </p:nvSpPr>
          <p:spPr>
            <a:xfrm>
              <a:off x="5359320" y="4140360"/>
              <a:ext cx="666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424480" y="4100400"/>
              <a:ext cx="771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ARROW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5405400" y="4329000"/>
            <a:ext cx="495720" cy="226080"/>
            <a:chOff x="5405400" y="4329000"/>
            <a:chExt cx="495720" cy="226080"/>
          </a:xfrm>
        </p:grpSpPr>
        <p:sp>
          <p:nvSpPr>
            <p:cNvPr id="1444" name=""/>
            <p:cNvSpPr/>
            <p:nvPr/>
          </p:nvSpPr>
          <p:spPr>
            <a:xfrm>
              <a:off x="5405400" y="439416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59040" y="4329000"/>
              <a:ext cx="442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WL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7386480" y="5040360"/>
            <a:ext cx="535680" cy="226080"/>
            <a:chOff x="7386480" y="5040360"/>
            <a:chExt cx="535680" cy="226080"/>
          </a:xfrm>
        </p:grpSpPr>
        <p:sp>
          <p:nvSpPr>
            <p:cNvPr id="1447" name=""/>
            <p:cNvSpPr/>
            <p:nvPr/>
          </p:nvSpPr>
          <p:spPr>
            <a:xfrm>
              <a:off x="7386480" y="509256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429680" y="5040360"/>
              <a:ext cx="492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O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5383080" y="4622760"/>
            <a:ext cx="720360" cy="237240"/>
            <a:chOff x="5383080" y="4622760"/>
            <a:chExt cx="720360" cy="237240"/>
          </a:xfrm>
        </p:grpSpPr>
        <p:sp>
          <p:nvSpPr>
            <p:cNvPr id="1450" name=""/>
            <p:cNvSpPr/>
            <p:nvPr/>
          </p:nvSpPr>
          <p:spPr>
            <a:xfrm>
              <a:off x="5383080" y="4622760"/>
              <a:ext cx="18432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554800" y="4633920"/>
              <a:ext cx="5486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GM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777000" y="5726160"/>
            <a:ext cx="711000" cy="226080"/>
            <a:chOff x="6777000" y="5726160"/>
            <a:chExt cx="711000" cy="226080"/>
          </a:xfrm>
        </p:grpSpPr>
        <p:sp>
          <p:nvSpPr>
            <p:cNvPr id="1453" name=""/>
            <p:cNvSpPr/>
            <p:nvPr/>
          </p:nvSpPr>
          <p:spPr>
            <a:xfrm>
              <a:off x="6777000" y="577836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31000" y="5726160"/>
              <a:ext cx="6570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LAND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2448360" y="6022800"/>
            <a:ext cx="208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THROUGH / PLATFORM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4608360" y="5319720"/>
            <a:ext cx="602280" cy="226080"/>
            <a:chOff x="4608360" y="5319720"/>
            <a:chExt cx="602280" cy="226080"/>
          </a:xfrm>
        </p:grpSpPr>
        <p:sp>
          <p:nvSpPr>
            <p:cNvPr id="1457" name=""/>
            <p:cNvSpPr/>
            <p:nvPr/>
          </p:nvSpPr>
          <p:spPr>
            <a:xfrm>
              <a:off x="4686120" y="5319720"/>
              <a:ext cx="524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WK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08360" y="5372280"/>
              <a:ext cx="66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6026040" y="4811760"/>
            <a:ext cx="585360" cy="226080"/>
            <a:chOff x="6026040" y="4811760"/>
            <a:chExt cx="585360" cy="226080"/>
          </a:xfrm>
        </p:grpSpPr>
        <p:sp>
          <p:nvSpPr>
            <p:cNvPr id="1460" name=""/>
            <p:cNvSpPr/>
            <p:nvPr/>
          </p:nvSpPr>
          <p:spPr>
            <a:xfrm>
              <a:off x="6026040" y="4863960"/>
              <a:ext cx="698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68880" y="4811760"/>
              <a:ext cx="542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OW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608360" y="4978440"/>
            <a:ext cx="842040" cy="237240"/>
            <a:chOff x="4608360" y="4978440"/>
            <a:chExt cx="842040" cy="237240"/>
          </a:xfrm>
        </p:grpSpPr>
        <p:sp>
          <p:nvSpPr>
            <p:cNvPr id="1463" name=""/>
            <p:cNvSpPr/>
            <p:nvPr/>
          </p:nvSpPr>
          <p:spPr>
            <a:xfrm>
              <a:off x="4608360" y="4978440"/>
              <a:ext cx="18576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79720" y="4989600"/>
              <a:ext cx="670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TA O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6788160" y="5003640"/>
            <a:ext cx="444600" cy="482760"/>
            <a:chOff x="6788160" y="5003640"/>
            <a:chExt cx="444600" cy="482760"/>
          </a:xfrm>
        </p:grpSpPr>
        <p:sp>
          <p:nvSpPr>
            <p:cNvPr id="1466" name=""/>
            <p:cNvSpPr/>
            <p:nvPr/>
          </p:nvSpPr>
          <p:spPr>
            <a:xfrm>
              <a:off x="6788160" y="5003640"/>
              <a:ext cx="444600" cy="48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19840" y="5129280"/>
              <a:ext cx="41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6132600" y="4038480"/>
            <a:ext cx="802800" cy="237240"/>
            <a:chOff x="6132600" y="4038480"/>
            <a:chExt cx="802800" cy="237240"/>
          </a:xfrm>
        </p:grpSpPr>
        <p:sp>
          <p:nvSpPr>
            <p:cNvPr id="1469" name=""/>
            <p:cNvSpPr/>
            <p:nvPr/>
          </p:nvSpPr>
          <p:spPr>
            <a:xfrm>
              <a:off x="6132600" y="4038480"/>
              <a:ext cx="18576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304320" y="4049640"/>
              <a:ext cx="631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V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894360" y="4075200"/>
            <a:ext cx="630000" cy="226080"/>
            <a:chOff x="6894360" y="4075200"/>
            <a:chExt cx="630000" cy="226080"/>
          </a:xfrm>
        </p:grpSpPr>
        <p:sp>
          <p:nvSpPr>
            <p:cNvPr id="1472" name=""/>
            <p:cNvSpPr/>
            <p:nvPr/>
          </p:nvSpPr>
          <p:spPr>
            <a:xfrm>
              <a:off x="6894360" y="4127400"/>
              <a:ext cx="66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37560" y="4075200"/>
              <a:ext cx="586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7375680" y="5294160"/>
            <a:ext cx="463320" cy="226080"/>
            <a:chOff x="7375680" y="5294160"/>
            <a:chExt cx="463320" cy="226080"/>
          </a:xfrm>
        </p:grpSpPr>
        <p:sp>
          <p:nvSpPr>
            <p:cNvPr id="1475" name=""/>
            <p:cNvSpPr/>
            <p:nvPr/>
          </p:nvSpPr>
          <p:spPr>
            <a:xfrm>
              <a:off x="7375680" y="534672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416720" y="5294160"/>
              <a:ext cx="4222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AK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742080" y="4379760"/>
            <a:ext cx="661680" cy="226080"/>
            <a:chOff x="6742080" y="4379760"/>
            <a:chExt cx="661680" cy="226080"/>
          </a:xfrm>
        </p:grpSpPr>
        <p:sp>
          <p:nvSpPr>
            <p:cNvPr id="1478" name=""/>
            <p:cNvSpPr/>
            <p:nvPr/>
          </p:nvSpPr>
          <p:spPr>
            <a:xfrm>
              <a:off x="6742080" y="443232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84920" y="4379760"/>
              <a:ext cx="6188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7550280" y="4062240"/>
            <a:ext cx="693720" cy="226080"/>
            <a:chOff x="7550280" y="4062240"/>
            <a:chExt cx="693720" cy="226080"/>
          </a:xfrm>
        </p:grpSpPr>
        <p:sp>
          <p:nvSpPr>
            <p:cNvPr id="1481" name=""/>
            <p:cNvSpPr/>
            <p:nvPr/>
          </p:nvSpPr>
          <p:spPr>
            <a:xfrm>
              <a:off x="7550280" y="4114800"/>
              <a:ext cx="698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593120" y="4062240"/>
              <a:ext cx="650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I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7493040" y="4341960"/>
            <a:ext cx="705960" cy="226080"/>
            <a:chOff x="7493040" y="4341960"/>
            <a:chExt cx="705960" cy="226080"/>
          </a:xfrm>
        </p:grpSpPr>
        <p:sp>
          <p:nvSpPr>
            <p:cNvPr id="1484" name=""/>
            <p:cNvSpPr/>
            <p:nvPr/>
          </p:nvSpPr>
          <p:spPr>
            <a:xfrm>
              <a:off x="7493040" y="439416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535880" y="4341960"/>
              <a:ext cx="663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V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7327800" y="5522760"/>
            <a:ext cx="623520" cy="226080"/>
            <a:chOff x="7327800" y="5522760"/>
            <a:chExt cx="623520" cy="226080"/>
          </a:xfrm>
        </p:grpSpPr>
        <p:sp>
          <p:nvSpPr>
            <p:cNvPr id="1487" name=""/>
            <p:cNvSpPr/>
            <p:nvPr/>
          </p:nvSpPr>
          <p:spPr>
            <a:xfrm>
              <a:off x="7327800" y="557532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370640" y="5522760"/>
              <a:ext cx="580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DAR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7596360" y="5713560"/>
            <a:ext cx="493920" cy="226080"/>
            <a:chOff x="7596360" y="5713560"/>
            <a:chExt cx="493920" cy="226080"/>
          </a:xfrm>
        </p:grpSpPr>
        <p:sp>
          <p:nvSpPr>
            <p:cNvPr id="1490" name=""/>
            <p:cNvSpPr/>
            <p:nvPr/>
          </p:nvSpPr>
          <p:spPr>
            <a:xfrm>
              <a:off x="7596360" y="5765760"/>
              <a:ext cx="698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42080" y="5713560"/>
              <a:ext cx="448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INE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2803680" y="2779560"/>
            <a:ext cx="633240" cy="226080"/>
            <a:chOff x="2803680" y="2779560"/>
            <a:chExt cx="633240" cy="226080"/>
          </a:xfrm>
        </p:grpSpPr>
        <p:sp>
          <p:nvSpPr>
            <p:cNvPr id="1493" name=""/>
            <p:cNvSpPr/>
            <p:nvPr/>
          </p:nvSpPr>
          <p:spPr>
            <a:xfrm>
              <a:off x="2803680" y="283212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68480" y="2779560"/>
              <a:ext cx="568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3448080" y="2449440"/>
            <a:ext cx="660600" cy="226080"/>
            <a:chOff x="3448080" y="2449440"/>
            <a:chExt cx="660600" cy="226080"/>
          </a:xfrm>
        </p:grpSpPr>
        <p:sp>
          <p:nvSpPr>
            <p:cNvPr id="1496" name=""/>
            <p:cNvSpPr/>
            <p:nvPr/>
          </p:nvSpPr>
          <p:spPr>
            <a:xfrm>
              <a:off x="3448080" y="2502000"/>
              <a:ext cx="684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14320" y="2449440"/>
              <a:ext cx="594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3448080" y="2779560"/>
            <a:ext cx="508320" cy="226080"/>
            <a:chOff x="3448080" y="2779560"/>
            <a:chExt cx="508320" cy="226080"/>
          </a:xfrm>
        </p:grpSpPr>
        <p:sp>
          <p:nvSpPr>
            <p:cNvPr id="1499" name=""/>
            <p:cNvSpPr/>
            <p:nvPr/>
          </p:nvSpPr>
          <p:spPr>
            <a:xfrm>
              <a:off x="3448080" y="283212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514320" y="2779560"/>
              <a:ext cx="442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140360" y="3111480"/>
            <a:ext cx="1038600" cy="237240"/>
            <a:chOff x="4140360" y="3111480"/>
            <a:chExt cx="1038600" cy="237240"/>
          </a:xfrm>
        </p:grpSpPr>
        <p:sp>
          <p:nvSpPr>
            <p:cNvPr id="1502" name=""/>
            <p:cNvSpPr/>
            <p:nvPr/>
          </p:nvSpPr>
          <p:spPr>
            <a:xfrm>
              <a:off x="4140360" y="3111480"/>
              <a:ext cx="18396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11720" y="3122640"/>
              <a:ext cx="867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FORNI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3530520" y="3517920"/>
            <a:ext cx="974520" cy="237240"/>
            <a:chOff x="3530520" y="3517920"/>
            <a:chExt cx="974520" cy="237240"/>
          </a:xfrm>
        </p:grpSpPr>
        <p:sp>
          <p:nvSpPr>
            <p:cNvPr id="1505" name=""/>
            <p:cNvSpPr/>
            <p:nvPr/>
          </p:nvSpPr>
          <p:spPr>
            <a:xfrm>
              <a:off x="3530520" y="3517920"/>
              <a:ext cx="18432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701880" y="3529080"/>
              <a:ext cx="8031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5873760" y="4305240"/>
            <a:ext cx="834480" cy="237240"/>
            <a:chOff x="5873760" y="4305240"/>
            <a:chExt cx="834480" cy="237240"/>
          </a:xfrm>
        </p:grpSpPr>
        <p:sp>
          <p:nvSpPr>
            <p:cNvPr id="1508" name=""/>
            <p:cNvSpPr/>
            <p:nvPr/>
          </p:nvSpPr>
          <p:spPr>
            <a:xfrm>
              <a:off x="5873760" y="4305240"/>
              <a:ext cx="18576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45120" y="4316400"/>
              <a:ext cx="663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V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5230800" y="5116680"/>
            <a:ext cx="832320" cy="226080"/>
            <a:chOff x="5230800" y="5116680"/>
            <a:chExt cx="832320" cy="226080"/>
          </a:xfrm>
        </p:grpSpPr>
        <p:sp>
          <p:nvSpPr>
            <p:cNvPr id="1511" name=""/>
            <p:cNvSpPr/>
            <p:nvPr/>
          </p:nvSpPr>
          <p:spPr>
            <a:xfrm>
              <a:off x="5230800" y="516888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272200" y="5116680"/>
              <a:ext cx="7909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LSTACE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5440320" y="4862520"/>
            <a:ext cx="623880" cy="226080"/>
            <a:chOff x="5440320" y="4862520"/>
            <a:chExt cx="623880" cy="226080"/>
          </a:xfrm>
        </p:grpSpPr>
        <p:sp>
          <p:nvSpPr>
            <p:cNvPr id="1514" name=""/>
            <p:cNvSpPr/>
            <p:nvPr/>
          </p:nvSpPr>
          <p:spPr>
            <a:xfrm>
              <a:off x="5440320" y="4915080"/>
              <a:ext cx="6984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95760" y="4862520"/>
              <a:ext cx="568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NY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5218200" y="5370480"/>
            <a:ext cx="661680" cy="226080"/>
            <a:chOff x="5218200" y="5370480"/>
            <a:chExt cx="661680" cy="226080"/>
          </a:xfrm>
        </p:grpSpPr>
        <p:sp>
          <p:nvSpPr>
            <p:cNvPr id="1517" name=""/>
            <p:cNvSpPr/>
            <p:nvPr/>
          </p:nvSpPr>
          <p:spPr>
            <a:xfrm>
              <a:off x="5218200" y="5423040"/>
              <a:ext cx="666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261040" y="5370480"/>
              <a:ext cx="6188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RING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5170320" y="5599080"/>
            <a:ext cx="676800" cy="226080"/>
            <a:chOff x="5170320" y="5599080"/>
            <a:chExt cx="676800" cy="226080"/>
          </a:xfrm>
        </p:grpSpPr>
        <p:sp>
          <p:nvSpPr>
            <p:cNvPr id="1520" name=""/>
            <p:cNvSpPr/>
            <p:nvPr/>
          </p:nvSpPr>
          <p:spPr>
            <a:xfrm>
              <a:off x="5170320" y="5651640"/>
              <a:ext cx="684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214600" y="5599080"/>
              <a:ext cx="632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5157720" y="5776920"/>
            <a:ext cx="501120" cy="226080"/>
            <a:chOff x="5157720" y="5776920"/>
            <a:chExt cx="501120" cy="226080"/>
          </a:xfrm>
        </p:grpSpPr>
        <p:sp>
          <p:nvSpPr>
            <p:cNvPr id="1523" name=""/>
            <p:cNvSpPr/>
            <p:nvPr/>
          </p:nvSpPr>
          <p:spPr>
            <a:xfrm>
              <a:off x="5157720" y="5829480"/>
              <a:ext cx="6984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03080" y="5776920"/>
              <a:ext cx="455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LL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095880" y="4546440"/>
            <a:ext cx="862560" cy="237240"/>
            <a:chOff x="6095880" y="4546440"/>
            <a:chExt cx="862560" cy="237240"/>
          </a:xfrm>
        </p:grpSpPr>
        <p:sp>
          <p:nvSpPr>
            <p:cNvPr id="1526" name=""/>
            <p:cNvSpPr/>
            <p:nvPr/>
          </p:nvSpPr>
          <p:spPr>
            <a:xfrm>
              <a:off x="6095880" y="4546440"/>
              <a:ext cx="18756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271200" y="4557600"/>
              <a:ext cx="687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6014880" y="5091120"/>
            <a:ext cx="662760" cy="226080"/>
            <a:chOff x="6014880" y="5091120"/>
            <a:chExt cx="662760" cy="226080"/>
          </a:xfrm>
        </p:grpSpPr>
        <p:sp>
          <p:nvSpPr>
            <p:cNvPr id="1529" name=""/>
            <p:cNvSpPr/>
            <p:nvPr/>
          </p:nvSpPr>
          <p:spPr>
            <a:xfrm>
              <a:off x="6014880" y="5143680"/>
              <a:ext cx="684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057360" y="5091120"/>
              <a:ext cx="6202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LLAS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004080" y="5345280"/>
            <a:ext cx="641520" cy="226080"/>
            <a:chOff x="6004080" y="5345280"/>
            <a:chExt cx="641520" cy="226080"/>
          </a:xfrm>
        </p:grpSpPr>
        <p:sp>
          <p:nvSpPr>
            <p:cNvPr id="1532" name=""/>
            <p:cNvSpPr/>
            <p:nvPr/>
          </p:nvSpPr>
          <p:spPr>
            <a:xfrm>
              <a:off x="6004080" y="5397480"/>
              <a:ext cx="666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45120" y="5345280"/>
              <a:ext cx="600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USTIN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56200" y="5573880"/>
            <a:ext cx="783360" cy="226080"/>
            <a:chOff x="5956200" y="5573880"/>
            <a:chExt cx="783360" cy="226080"/>
          </a:xfrm>
        </p:grpSpPr>
        <p:sp>
          <p:nvSpPr>
            <p:cNvPr id="1535" name=""/>
            <p:cNvSpPr/>
            <p:nvPr/>
          </p:nvSpPr>
          <p:spPr>
            <a:xfrm>
              <a:off x="5956200" y="5626080"/>
              <a:ext cx="6840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998680" y="5573880"/>
              <a:ext cx="740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ANTA FE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5943600" y="5751360"/>
            <a:ext cx="886680" cy="226080"/>
            <a:chOff x="5943600" y="5751360"/>
            <a:chExt cx="886680" cy="226080"/>
          </a:xfrm>
        </p:grpSpPr>
        <p:sp>
          <p:nvSpPr>
            <p:cNvPr id="1538" name=""/>
            <p:cNvSpPr/>
            <p:nvPr/>
          </p:nvSpPr>
          <p:spPr>
            <a:xfrm>
              <a:off x="5943600" y="5803920"/>
              <a:ext cx="698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720" bIns="97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987520" y="5751360"/>
              <a:ext cx="842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LAGSTAFF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765840" y="4684680"/>
            <a:ext cx="1766880" cy="226080"/>
            <a:chOff x="6765840" y="4684680"/>
            <a:chExt cx="1766880" cy="226080"/>
          </a:xfrm>
        </p:grpSpPr>
        <p:sp>
          <p:nvSpPr>
            <p:cNvPr id="1541" name=""/>
            <p:cNvSpPr/>
            <p:nvPr/>
          </p:nvSpPr>
          <p:spPr>
            <a:xfrm>
              <a:off x="6765840" y="4737240"/>
              <a:ext cx="6660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9360" bIns="93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05800" y="4684680"/>
              <a:ext cx="17269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MINI 1-10 (10 PROJECTS)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04920" y="363600"/>
            <a:ext cx="4929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Before: Medical Products Co.  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After: Medical Products Co. 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8400" y="1085760"/>
            <a:ext cx="8932680" cy="57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9720000" y="6410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55760" y="245412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355760" y="2454120"/>
            <a:ext cx="109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58720" y="247824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066760" y="24782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492200" y="26877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594440" y="268776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066760" y="26877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066760" y="28591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066760" y="30686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001520" y="32781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101240" y="327816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079360" y="32781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001520" y="34862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100880" y="3486240"/>
            <a:ext cx="1252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re 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66760" y="34862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066760" y="36590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066760" y="38671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320840" y="4076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422360" y="4076640"/>
            <a:ext cx="90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t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079360" y="40766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58760" y="42861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59200" y="4286160"/>
            <a:ext cx="119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Famil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079360" y="42861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66760" y="44578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066760" y="46674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60000" y="487512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-Ons an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79360" y="48751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6160" y="50846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46960" y="5084640"/>
            <a:ext cx="120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066760" y="50846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962000" y="5294160"/>
            <a:ext cx="1095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066760" y="54658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274760" y="56754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376280" y="5675400"/>
            <a:ext cx="95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071240" y="1446120"/>
            <a:ext cx="167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ess Chang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989600" y="363204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989600" y="364320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815000" y="3495600"/>
            <a:ext cx="0" cy="57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815000" y="350820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319120" y="176544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25720" y="17654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394800" y="17654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681360" y="17654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28440" y="176544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906800" y="17654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18960" y="1765440"/>
            <a:ext cx="94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an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406920" y="176544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69120" y="176544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440480" y="17654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318760" y="193680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11240" y="19368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393720" y="19368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071960" y="19368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527720" y="193680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62520" y="19368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720400" y="1936800"/>
            <a:ext cx="97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443640" y="193680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267320" y="1936800"/>
            <a:ext cx="71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748640" y="19368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19120" y="21099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395160" y="210996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9440" y="21099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527720" y="210996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057640" y="2109960"/>
            <a:ext cx="10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720040" y="2109960"/>
            <a:ext cx="107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243160" y="2371680"/>
            <a:ext cx="5865840" cy="362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012680" y="148284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013040" y="1482840"/>
            <a:ext cx="104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90640" y="148284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74080" y="1654200"/>
            <a:ext cx="1342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915920" y="165420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89120" y="1486080"/>
            <a:ext cx="1384200" cy="601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240080" y="4043520"/>
            <a:ext cx="3868920" cy="19540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669080" y="61786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386400" y="63514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48920" y="246708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058760" y="246708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49280" y="2664000"/>
            <a:ext cx="93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734360" y="6018120"/>
            <a:ext cx="1539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IVATIVE / CP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705880" y="7289640"/>
            <a:ext cx="6516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827000" y="64245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892840" y="642456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2692440" y="2843280"/>
            <a:ext cx="617760" cy="226080"/>
            <a:chOff x="2692440" y="2843280"/>
            <a:chExt cx="617760" cy="226080"/>
          </a:xfrm>
        </p:grpSpPr>
        <p:sp>
          <p:nvSpPr>
            <p:cNvPr id="1631" name=""/>
            <p:cNvSpPr/>
            <p:nvPr/>
          </p:nvSpPr>
          <p:spPr>
            <a:xfrm>
              <a:off x="2692440" y="2900520"/>
              <a:ext cx="63360" cy="7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560" bIns="7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754000" y="2843280"/>
              <a:ext cx="556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633" name=""/>
          <p:cNvSpPr/>
          <p:nvPr/>
        </p:nvSpPr>
        <p:spPr>
          <a:xfrm>
            <a:off x="3687840" y="2814480"/>
            <a:ext cx="69840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786120" y="3076560"/>
            <a:ext cx="5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65720" y="4178160"/>
            <a:ext cx="695160" cy="74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436280" y="4441680"/>
            <a:ext cx="614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LTA I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097600" y="4159080"/>
            <a:ext cx="574200" cy="226080"/>
            <a:chOff x="5097600" y="4159080"/>
            <a:chExt cx="574200" cy="226080"/>
          </a:xfrm>
        </p:grpSpPr>
        <p:sp>
          <p:nvSpPr>
            <p:cNvPr id="1638" name=""/>
            <p:cNvSpPr/>
            <p:nvPr/>
          </p:nvSpPr>
          <p:spPr>
            <a:xfrm>
              <a:off x="5097600" y="4203720"/>
              <a:ext cx="64800" cy="7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61320" y="4159080"/>
              <a:ext cx="510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RS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5143680" y="4379760"/>
            <a:ext cx="535320" cy="226080"/>
            <a:chOff x="5143680" y="4379760"/>
            <a:chExt cx="535320" cy="226080"/>
          </a:xfrm>
        </p:grpSpPr>
        <p:sp>
          <p:nvSpPr>
            <p:cNvPr id="1641" name=""/>
            <p:cNvSpPr/>
            <p:nvPr/>
          </p:nvSpPr>
          <p:spPr>
            <a:xfrm>
              <a:off x="5143680" y="4449600"/>
              <a:ext cx="648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192640" y="4379760"/>
              <a:ext cx="486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EUS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7080120" y="5068800"/>
            <a:ext cx="532440" cy="226080"/>
            <a:chOff x="7080120" y="5068800"/>
            <a:chExt cx="532440" cy="226080"/>
          </a:xfrm>
        </p:grpSpPr>
        <p:sp>
          <p:nvSpPr>
            <p:cNvPr id="1644" name=""/>
            <p:cNvSpPr/>
            <p:nvPr/>
          </p:nvSpPr>
          <p:spPr>
            <a:xfrm>
              <a:off x="7080120" y="5126040"/>
              <a:ext cx="65160" cy="7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120080" y="5068800"/>
              <a:ext cx="492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O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119560" y="4670280"/>
            <a:ext cx="715680" cy="231120"/>
            <a:chOff x="5119560" y="4670280"/>
            <a:chExt cx="715680" cy="231120"/>
          </a:xfrm>
        </p:grpSpPr>
        <p:sp>
          <p:nvSpPr>
            <p:cNvPr id="1647" name=""/>
            <p:cNvSpPr/>
            <p:nvPr/>
          </p:nvSpPr>
          <p:spPr>
            <a:xfrm>
              <a:off x="5119560" y="4670280"/>
              <a:ext cx="18108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286600" y="4675320"/>
              <a:ext cx="5486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GMA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161120" y="4859280"/>
            <a:ext cx="707760" cy="226080"/>
            <a:chOff x="7161120" y="4859280"/>
            <a:chExt cx="707760" cy="226080"/>
          </a:xfrm>
        </p:grpSpPr>
        <p:sp>
          <p:nvSpPr>
            <p:cNvPr id="1650" name=""/>
            <p:cNvSpPr/>
            <p:nvPr/>
          </p:nvSpPr>
          <p:spPr>
            <a:xfrm>
              <a:off x="7161120" y="49165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11880" y="4859280"/>
              <a:ext cx="6570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LAND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2251440" y="6018120"/>
            <a:ext cx="208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THROUGH / PLATFORM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6164280" y="4564080"/>
            <a:ext cx="799200" cy="226080"/>
            <a:chOff x="6164280" y="4564080"/>
            <a:chExt cx="799200" cy="226080"/>
          </a:xfrm>
        </p:grpSpPr>
        <p:sp>
          <p:nvSpPr>
            <p:cNvPr id="1654" name=""/>
            <p:cNvSpPr/>
            <p:nvPr/>
          </p:nvSpPr>
          <p:spPr>
            <a:xfrm>
              <a:off x="6234840" y="4564080"/>
              <a:ext cx="7286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LANTIS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64280" y="46213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923080" y="4835520"/>
            <a:ext cx="632160" cy="226080"/>
            <a:chOff x="5923080" y="4835520"/>
            <a:chExt cx="632160" cy="226080"/>
          </a:xfrm>
        </p:grpSpPr>
        <p:sp>
          <p:nvSpPr>
            <p:cNvPr id="1657" name=""/>
            <p:cNvSpPr/>
            <p:nvPr/>
          </p:nvSpPr>
          <p:spPr>
            <a:xfrm>
              <a:off x="5923080" y="4890960"/>
              <a:ext cx="6480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960880" y="4835520"/>
              <a:ext cx="594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PH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2806560" y="3724200"/>
            <a:ext cx="6955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47680" y="3986280"/>
            <a:ext cx="48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4365720" y="5014800"/>
            <a:ext cx="808920" cy="231120"/>
            <a:chOff x="4365720" y="5014800"/>
            <a:chExt cx="808920" cy="231120"/>
          </a:xfrm>
        </p:grpSpPr>
        <p:sp>
          <p:nvSpPr>
            <p:cNvPr id="1662" name=""/>
            <p:cNvSpPr/>
            <p:nvPr/>
          </p:nvSpPr>
          <p:spPr>
            <a:xfrm>
              <a:off x="4365720" y="5014800"/>
              <a:ext cx="17928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8440" y="5019840"/>
              <a:ext cx="646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TA I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6496200" y="4978440"/>
            <a:ext cx="435240" cy="465120"/>
            <a:chOff x="6496200" y="4978440"/>
            <a:chExt cx="435240" cy="465120"/>
          </a:xfrm>
        </p:grpSpPr>
        <p:sp>
          <p:nvSpPr>
            <p:cNvPr id="1665" name=""/>
            <p:cNvSpPr/>
            <p:nvPr/>
          </p:nvSpPr>
          <p:spPr>
            <a:xfrm>
              <a:off x="6496200" y="4978440"/>
              <a:ext cx="431640" cy="465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21400" y="5092560"/>
              <a:ext cx="41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67" name=""/>
          <p:cNvGrpSpPr/>
          <p:nvPr/>
        </p:nvGrpSpPr>
        <p:grpSpPr>
          <a:xfrm>
            <a:off x="6953400" y="4670280"/>
            <a:ext cx="798120" cy="231120"/>
            <a:chOff x="6953400" y="4670280"/>
            <a:chExt cx="798120" cy="231120"/>
          </a:xfrm>
        </p:grpSpPr>
        <p:sp>
          <p:nvSpPr>
            <p:cNvPr id="1668" name=""/>
            <p:cNvSpPr/>
            <p:nvPr/>
          </p:nvSpPr>
          <p:spPr>
            <a:xfrm>
              <a:off x="6953400" y="4670280"/>
              <a:ext cx="17928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120440" y="4675320"/>
              <a:ext cx="631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V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646600" y="5105520"/>
            <a:ext cx="628560" cy="226080"/>
            <a:chOff x="5646600" y="5105520"/>
            <a:chExt cx="628560" cy="226080"/>
          </a:xfrm>
        </p:grpSpPr>
        <p:sp>
          <p:nvSpPr>
            <p:cNvPr id="1671" name=""/>
            <p:cNvSpPr/>
            <p:nvPr/>
          </p:nvSpPr>
          <p:spPr>
            <a:xfrm>
              <a:off x="5646600" y="5162400"/>
              <a:ext cx="6840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688360" y="5105520"/>
              <a:ext cx="586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7067520" y="5315040"/>
            <a:ext cx="463680" cy="226080"/>
            <a:chOff x="7067520" y="5315040"/>
            <a:chExt cx="463680" cy="226080"/>
          </a:xfrm>
        </p:grpSpPr>
        <p:sp>
          <p:nvSpPr>
            <p:cNvPr id="1674" name=""/>
            <p:cNvSpPr/>
            <p:nvPr/>
          </p:nvSpPr>
          <p:spPr>
            <a:xfrm>
              <a:off x="7067520" y="537048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08920" y="5315040"/>
              <a:ext cx="4222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AK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5842080" y="5338800"/>
            <a:ext cx="658440" cy="226080"/>
            <a:chOff x="5842080" y="5338800"/>
            <a:chExt cx="658440" cy="226080"/>
          </a:xfrm>
        </p:grpSpPr>
        <p:sp>
          <p:nvSpPr>
            <p:cNvPr id="1677" name=""/>
            <p:cNvSpPr/>
            <p:nvPr/>
          </p:nvSpPr>
          <p:spPr>
            <a:xfrm>
              <a:off x="5842080" y="5396040"/>
              <a:ext cx="68040" cy="7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560" bIns="756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881680" y="5338800"/>
              <a:ext cx="6188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6278400" y="5522760"/>
            <a:ext cx="689040" cy="226080"/>
            <a:chOff x="6278400" y="5522760"/>
            <a:chExt cx="689040" cy="226080"/>
          </a:xfrm>
        </p:grpSpPr>
        <p:sp>
          <p:nvSpPr>
            <p:cNvPr id="1680" name=""/>
            <p:cNvSpPr/>
            <p:nvPr/>
          </p:nvSpPr>
          <p:spPr>
            <a:xfrm>
              <a:off x="6278400" y="558000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16560" y="5522760"/>
              <a:ext cx="650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II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6026040" y="5719680"/>
            <a:ext cx="701280" cy="226080"/>
            <a:chOff x="6026040" y="5719680"/>
            <a:chExt cx="701280" cy="226080"/>
          </a:xfrm>
        </p:grpSpPr>
        <p:sp>
          <p:nvSpPr>
            <p:cNvPr id="1683" name=""/>
            <p:cNvSpPr/>
            <p:nvPr/>
          </p:nvSpPr>
          <p:spPr>
            <a:xfrm>
              <a:off x="6026040" y="5776920"/>
              <a:ext cx="669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064200" y="5719680"/>
              <a:ext cx="663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ME IV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7023240" y="5535720"/>
            <a:ext cx="620280" cy="226080"/>
            <a:chOff x="7023240" y="5535720"/>
            <a:chExt cx="620280" cy="226080"/>
          </a:xfrm>
        </p:grpSpPr>
        <p:sp>
          <p:nvSpPr>
            <p:cNvPr id="1686" name=""/>
            <p:cNvSpPr/>
            <p:nvPr/>
          </p:nvSpPr>
          <p:spPr>
            <a:xfrm>
              <a:off x="7023240" y="5592600"/>
              <a:ext cx="6480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62840" y="5535720"/>
              <a:ext cx="580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DAR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7137360" y="5708520"/>
            <a:ext cx="487800" cy="226080"/>
            <a:chOff x="7137360" y="5708520"/>
            <a:chExt cx="487800" cy="226080"/>
          </a:xfrm>
        </p:grpSpPr>
        <p:sp>
          <p:nvSpPr>
            <p:cNvPr id="1689" name=""/>
            <p:cNvSpPr/>
            <p:nvPr/>
          </p:nvSpPr>
          <p:spPr>
            <a:xfrm>
              <a:off x="7137360" y="5764320"/>
              <a:ext cx="6516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7920" bIns="79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176960" y="5708520"/>
              <a:ext cx="448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INE</a:t>
              </a:r>
              <a:endParaRPr b="0" lang="en-US" sz="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Less Is More: Medical Products Co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774720" y="1098720"/>
            <a:ext cx="7431120" cy="5574600"/>
            <a:chOff x="774720" y="1098720"/>
            <a:chExt cx="7431120" cy="5574600"/>
          </a:xfrm>
        </p:grpSpPr>
        <p:sp>
          <p:nvSpPr>
            <p:cNvPr id="1693" name=""/>
            <p:cNvSpPr/>
            <p:nvPr/>
          </p:nvSpPr>
          <p:spPr>
            <a:xfrm>
              <a:off x="2401920" y="5748480"/>
              <a:ext cx="191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Before           Afte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657760" y="5748480"/>
              <a:ext cx="2028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Before             Afte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584080" y="6097680"/>
              <a:ext cx="1397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# of Project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 Portfolio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41080" y="6084720"/>
              <a:ext cx="1746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# of Projects 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Launched /Year 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528640" y="118728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6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95320" y="2921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935680" y="4832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035840" y="4387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81200" y="5657760"/>
              <a:ext cx="74246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78000" y="1571760"/>
              <a:ext cx="1117800" cy="407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314880" y="3305160"/>
              <a:ext cx="1101600" cy="2336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522760" y="5159520"/>
              <a:ext cx="10940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642000" y="4746600"/>
              <a:ext cx="1104840" cy="895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774720" y="1098720"/>
              <a:ext cx="0" cy="4565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a Project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organized activity with a finite time span which consumes Development, Marketing and/or Research resources and yields either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new or revised product that meets the business’s strategic needs or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new capability applicable to current or future products or processes which will support future business need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rojec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going cost savings programs with no end poin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motional packaging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dministrative program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600" y="382320"/>
            <a:ext cx="727848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commitment destroys productiv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87480" y="1866960"/>
            <a:ext cx="0" cy="3924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7480" y="5799240"/>
            <a:ext cx="63244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3120" y="1990800"/>
            <a:ext cx="232884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Average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Value-Added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Time on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Engineering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Task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6280" y="6068880"/>
            <a:ext cx="2901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Number of Projects per Enginee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5480" y="180972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95480" y="255600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95480" y="331956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95480" y="413532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95480" y="561024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5480" y="4829040"/>
            <a:ext cx="80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1144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5760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616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5754600"/>
            <a:ext cx="0" cy="98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19960" y="5840280"/>
            <a:ext cx="250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0880" y="5840280"/>
            <a:ext cx="25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7800" y="5840280"/>
            <a:ext cx="25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32320" y="5840280"/>
            <a:ext cx="25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2240" y="5840280"/>
            <a:ext cx="25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82920" y="5840280"/>
            <a:ext cx="25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8720" y="6211800"/>
            <a:ext cx="394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ource: IBM Development Efficiency Stud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51880" y="790200"/>
            <a:ext cx="7756560" cy="6015240"/>
            <a:chOff x="2351880" y="790200"/>
            <a:chExt cx="7756560" cy="6015240"/>
          </a:xfrm>
        </p:grpSpPr>
        <p:sp>
          <p:nvSpPr>
            <p:cNvPr id="86" name=""/>
            <p:cNvSpPr/>
            <p:nvPr/>
          </p:nvSpPr>
          <p:spPr>
            <a:xfrm>
              <a:off x="2351880" y="2435400"/>
              <a:ext cx="2300400" cy="43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" y="4923"/>
                  </a:moveTo>
                  <a:arcTo wR="10800" hR="10800" stAng="-8821792" swAng="3417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" y="4923"/>
                  </a:moveTo>
                  <a:arcTo wR="10800" hR="10800" stAng="-8821792" swAng="341704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51880" y="2436840"/>
              <a:ext cx="2299680" cy="436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43" swAng="342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43" swAng="3421369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37640" y="790200"/>
              <a:ext cx="5770800" cy="40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21600"/>
                  </a:moveTo>
                  <a:arcTo wR="10800" hR="10800" stAng="5401892" swAng="4381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21600"/>
                  </a:moveTo>
                  <a:arcTo wR="10800" hR="10800" stAng="5401892" swAng="4381517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5040" y="1682640"/>
            <a:ext cx="7518240" cy="4864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3857400" y="1038240"/>
            <a:ext cx="237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onsumer Value Perceptio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6400" y="923760"/>
            <a:ext cx="7848720" cy="1030320"/>
          </a:xfrm>
          <a:custGeom>
            <a:avLst/>
            <a:gdLst/>
            <a:ahLst/>
            <a:rect l="l" t="t" r="r" b="b"/>
            <a:pathLst>
              <a:path w="4944" h="649">
                <a:moveTo>
                  <a:pt x="0" y="0"/>
                </a:moveTo>
                <a:lnTo>
                  <a:pt x="598" y="648"/>
                </a:lnTo>
                <a:lnTo>
                  <a:pt x="4943" y="648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254160" y="114120"/>
            <a:ext cx="807696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sumer Value Perception -- Defini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492200" y="2522520"/>
            <a:ext cx="1260360" cy="2647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Fills previously unknown, unmet need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First introduction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of a revolutionary new product in the market.  Stimulates new consumer usage and purchasing habit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779480" y="1389240"/>
            <a:ext cx="8589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w Core Produc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987560" y="1949400"/>
            <a:ext cx="268200" cy="482760"/>
          </a:xfrm>
          <a:prstGeom prst="downArrow">
            <a:avLst>
              <a:gd name="adj1" fmla="val 75009"/>
              <a:gd name="adj2" fmla="val 90008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973240" y="2522520"/>
            <a:ext cx="1324080" cy="2195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Fills known but as yet unmet need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Delivers new concepts and benefits that fulfill consumer needs that are otherwise unmet by any products in the marke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263760" y="1409760"/>
            <a:ext cx="762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w Benefits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462480" y="1949400"/>
            <a:ext cx="268200" cy="482760"/>
          </a:xfrm>
          <a:prstGeom prst="downArrow">
            <a:avLst>
              <a:gd name="adj1" fmla="val 75009"/>
              <a:gd name="adj2" fmla="val 90008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2522520"/>
            <a:ext cx="1214280" cy="2830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Better meets needs or meets more need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ignificant, consumer discernible improvement, amplification, or enhancement relative to existing product benefits in the marke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95320" y="1600200"/>
            <a:ext cx="113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Improvemen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884840" y="1949400"/>
            <a:ext cx="268200" cy="482760"/>
          </a:xfrm>
          <a:prstGeom prst="downArrow">
            <a:avLst>
              <a:gd name="adj1" fmla="val 75009"/>
              <a:gd name="adj2" fmla="val 90008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845320" y="2522520"/>
            <a:ext cx="1185840" cy="301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Meets same needs differently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Minor revisions, adjustments, and alterations with relative parity to existing product performance, claims, features, or market positioning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115680" y="1600200"/>
            <a:ext cx="69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Varian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302520" y="1949400"/>
            <a:ext cx="269640" cy="482760"/>
          </a:xfrm>
          <a:prstGeom prst="downArrow">
            <a:avLst>
              <a:gd name="adj1" fmla="val 75009"/>
              <a:gd name="adj2" fmla="val 89527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232760" y="2522520"/>
            <a:ext cx="1146240" cy="275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341480" y="1600200"/>
            <a:ext cx="1007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o Chang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70880" y="1949400"/>
            <a:ext cx="268200" cy="482760"/>
          </a:xfrm>
          <a:prstGeom prst="downArrow">
            <a:avLst>
              <a:gd name="adj1" fmla="val 75009"/>
              <a:gd name="adj2" fmla="val 90008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232760" y="2522520"/>
            <a:ext cx="1146240" cy="3560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Meets same needs with no change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No consumer-perceived market activity, but involving improved processes that result in cost reductions or meet legislative mandate with no change in product quality or other benefits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13920" y="0"/>
            <a:ext cx="824724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abling Technology-- Defini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29120" y="1654200"/>
            <a:ext cx="8704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Enablin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29840" y="1847880"/>
            <a:ext cx="1099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Technology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266920" y="2374920"/>
            <a:ext cx="5537160" cy="335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rst us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a Technology that is new  to the industr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301840" y="3495600"/>
            <a:ext cx="5537160" cy="579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ushes existing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echnologies into a completely different operating window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01840" y="5572080"/>
            <a:ext cx="5537160" cy="579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xploits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current standard Technology without extending the operating window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028880" y="1190520"/>
            <a:ext cx="695160" cy="752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724040" y="1943280"/>
            <a:ext cx="0" cy="3976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008360" y="2386080"/>
            <a:ext cx="72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Radica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170000" y="5626080"/>
            <a:ext cx="55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54120" y="3490920"/>
            <a:ext cx="11746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xt Generatio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730520" y="2401920"/>
            <a:ext cx="514080" cy="253800"/>
          </a:xfrm>
          <a:prstGeom prst="rightArrow">
            <a:avLst>
              <a:gd name="adj1" fmla="val 75009"/>
              <a:gd name="adj2" fmla="val 101286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730520" y="3606840"/>
            <a:ext cx="514080" cy="253800"/>
          </a:xfrm>
          <a:prstGeom prst="rightArrow">
            <a:avLst>
              <a:gd name="adj1" fmla="val 75009"/>
              <a:gd name="adj2" fmla="val 101286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721440" y="4583160"/>
            <a:ext cx="7117560" cy="590400"/>
            <a:chOff x="721440" y="4583160"/>
            <a:chExt cx="7117560" cy="590400"/>
          </a:xfrm>
        </p:grpSpPr>
        <p:sp>
          <p:nvSpPr>
            <p:cNvPr id="1742" name=""/>
            <p:cNvSpPr/>
            <p:nvPr/>
          </p:nvSpPr>
          <p:spPr>
            <a:xfrm>
              <a:off x="2301840" y="4594320"/>
              <a:ext cx="5537160" cy="5792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xtends existin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 Technologies beyond the normal operating window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1440" y="4583160"/>
              <a:ext cx="1035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Incremental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0520" y="4599000"/>
              <a:ext cx="514080" cy="254160"/>
            </a:xfrm>
            <a:prstGeom prst="rightArrow">
              <a:avLst>
                <a:gd name="adj1" fmla="val 75009"/>
                <a:gd name="adj2" fmla="val 101142"/>
              </a:avLst>
            </a:prstGeom>
            <a:noFill/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1730520" y="5641920"/>
            <a:ext cx="514080" cy="254160"/>
          </a:xfrm>
          <a:prstGeom prst="rightArrow">
            <a:avLst>
              <a:gd name="adj1" fmla="val 75009"/>
              <a:gd name="adj2" fmla="val 101142"/>
            </a:avLst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4652280" y="1689120"/>
            <a:ext cx="113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Improvemen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35440" y="252360"/>
            <a:ext cx="519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trategic Intent-- Project Type Defini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026240" y="44604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89200" y="2060640"/>
            <a:ext cx="6788160" cy="398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238760" y="1238400"/>
            <a:ext cx="989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onsumer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084760" y="1238400"/>
            <a:ext cx="1510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Value Perceptio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32000" y="1701720"/>
            <a:ext cx="8704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Enabling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33080" y="1895400"/>
            <a:ext cx="1099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Technology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873440" y="1603440"/>
            <a:ext cx="907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w Cor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873080" y="1798560"/>
            <a:ext cx="7426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Produc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08400" y="1590840"/>
            <a:ext cx="504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309120" y="1787400"/>
            <a:ext cx="7700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700360" y="2778120"/>
            <a:ext cx="5902200" cy="3282840"/>
          </a:xfrm>
          <a:custGeom>
            <a:avLst/>
            <a:gdLst/>
            <a:ahLst/>
            <a:rect l="l" t="t" r="r" b="b"/>
            <a:pathLst>
              <a:path w="3718" h="2068">
                <a:moveTo>
                  <a:pt x="0" y="2067"/>
                </a:moveTo>
                <a:lnTo>
                  <a:pt x="0" y="0"/>
                </a:lnTo>
                <a:lnTo>
                  <a:pt x="371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81360" y="2397240"/>
            <a:ext cx="72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Radica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54480" y="4481640"/>
            <a:ext cx="1035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Incremental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173240" y="5713560"/>
            <a:ext cx="55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211400" y="3067200"/>
            <a:ext cx="514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3880" y="3260880"/>
            <a:ext cx="989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Generatio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601160" y="4278240"/>
            <a:ext cx="9619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Derivativ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498120" y="3340080"/>
            <a:ext cx="8431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Platform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896840" y="2274840"/>
            <a:ext cx="1254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Breakthrough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136200" y="5021280"/>
            <a:ext cx="806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Brand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Suppor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699840" y="1204560"/>
            <a:ext cx="1081080" cy="84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406640" y="1673280"/>
            <a:ext cx="1007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No Change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238640" y="4000680"/>
            <a:ext cx="4370400" cy="2058840"/>
          </a:xfrm>
          <a:custGeom>
            <a:avLst/>
            <a:gdLst/>
            <a:ahLst/>
            <a:rect l="l" t="t" r="r" b="b"/>
            <a:pathLst>
              <a:path w="2753" h="1297">
                <a:moveTo>
                  <a:pt x="0" y="1296"/>
                </a:moveTo>
                <a:lnTo>
                  <a:pt x="0" y="0"/>
                </a:lnTo>
                <a:lnTo>
                  <a:pt x="2752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010200" y="4896000"/>
            <a:ext cx="2598840" cy="1153800"/>
          </a:xfrm>
          <a:custGeom>
            <a:avLst/>
            <a:gdLst/>
            <a:ahLst/>
            <a:rect l="l" t="t" r="r" b="b"/>
            <a:pathLst>
              <a:path w="1637" h="727">
                <a:moveTo>
                  <a:pt x="0" y="726"/>
                </a:moveTo>
                <a:lnTo>
                  <a:pt x="0" y="0"/>
                </a:lnTo>
                <a:lnTo>
                  <a:pt x="163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58920" y="2971800"/>
            <a:ext cx="2655720" cy="1735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volutionary, first-to-market introduction that creates or extends a category or creates a segment.  Creates significant competitive advantage, but sustainability of advantage lower at periphery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usiness impact: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reates new market segmen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505320" y="1828800"/>
            <a:ext cx="2597040" cy="1370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irst introduction of a new product line.  Enables future line extensions and derivatives 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usiness impact: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tends market segment.  Grows the marke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203640" y="4789440"/>
            <a:ext cx="2611440" cy="1005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ine extension of a platform product currently on market.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usiness impact: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rows market share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61120" y="2746440"/>
            <a:ext cx="2577960" cy="1370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stains the business and brand identity (correct quality, contemporaries image, maintain market share, etc.)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usiness impact: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aintains market share.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87560" y="2662200"/>
            <a:ext cx="442800" cy="295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419720" y="3182760"/>
            <a:ext cx="558720" cy="250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4424400" y="4599000"/>
            <a:ext cx="222120" cy="171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6994440" y="4718160"/>
            <a:ext cx="378000" cy="372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405160" y="2585880"/>
            <a:ext cx="87120" cy="114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334040" y="3414600"/>
            <a:ext cx="88560" cy="114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19520" y="4529160"/>
            <a:ext cx="88920" cy="11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927840" y="5048280"/>
            <a:ext cx="88920" cy="11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274440" y="1700280"/>
            <a:ext cx="69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Variant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73840" y="1336680"/>
            <a:ext cx="2184480" cy="853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upply Chain Project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jects with benefits internally but without perceived consumer benefi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8091360" y="2224080"/>
            <a:ext cx="190800" cy="347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247240" y="2514600"/>
            <a:ext cx="87120" cy="114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252360" y="3740040"/>
            <a:ext cx="12193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543560" y="1035000"/>
            <a:ext cx="144612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098800" y="1879560"/>
            <a:ext cx="6432480" cy="415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260280" y="290520"/>
            <a:ext cx="101743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sumer/Technology Matrix: Overall Risk Topograph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762200" y="2658960"/>
            <a:ext cx="16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092320" y="1874880"/>
            <a:ext cx="2390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Very High risk strategy focused on winning share through  meeting or predicting new Consumer needs supported by technological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trength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086520" y="4917960"/>
            <a:ext cx="2362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Very Low risk strategy focused on maintaining share through technological stabilit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056120" y="1023840"/>
            <a:ext cx="2388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umer Value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rcep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46160" y="3724200"/>
            <a:ext cx="145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nabl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228400" y="1343160"/>
            <a:ext cx="975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ew Cor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613480" y="15652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38320" y="1349280"/>
            <a:ext cx="831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496280" y="1565280"/>
            <a:ext cx="75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Varia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350360" y="2244600"/>
            <a:ext cx="77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ca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996120" y="4416480"/>
            <a:ext cx="111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ncrementa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533600" y="5432400"/>
            <a:ext cx="59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008000" y="3209760"/>
            <a:ext cx="1067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-412200" y="133560"/>
            <a:ext cx="5047200" cy="354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16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162"/>
              </a:path>
            </a:pathLst>
          </a:custGeom>
          <a:noFill/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716440" y="4402080"/>
            <a:ext cx="5629320" cy="32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06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061"/>
              </a:path>
            </a:pathLst>
          </a:custGeom>
          <a:noFill/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160720" y="5070600"/>
            <a:ext cx="2125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High risk brand image projection vulnerable to fast-follower imi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921280" y="1941480"/>
            <a:ext cx="260820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High risk process improvement and/or regulation support requiring highly innovative technology offering litt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nsumer benefit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-454320" y="4402080"/>
            <a:ext cx="5114880" cy="321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0"/>
                </a:moveTo>
                <a:arcTo wR="10800" hR="10800" stAng="-5402133" swAng="5402133"/>
                <a:lnTo>
                  <a:pt x="10800" y="10800"/>
                </a:lnTo>
                <a:close/>
              </a:path>
              <a:path fill="none" w="21600" h="21600">
                <a:moveTo>
                  <a:pt x="10793" y="0"/>
                </a:moveTo>
                <a:arcTo wR="10800" hR="10800" stAng="-5402133" swAng="5402133"/>
              </a:path>
            </a:pathLst>
          </a:custGeom>
          <a:noFill/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716440" y="86040"/>
            <a:ext cx="564516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19840" y="400860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Low risk through </a:t>
            </a: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alanced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technology and brand streng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3895560" y="3152520"/>
            <a:ext cx="2654640" cy="172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711600" y="3084480"/>
            <a:ext cx="1824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oderate risk through </a:t>
            </a: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alanced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technology and brand streng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/T Matrix - Balancing the portfolio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602160" y="1096920"/>
            <a:ext cx="28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Portfolio clustered top left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11880" y="1380960"/>
            <a:ext cx="525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This portfolio contains a significantly high proportion of projects in the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612240" y="1576440"/>
            <a:ext cx="524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high-risk upper left hand area of the matrix.  This does not it well with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12240" y="1770120"/>
            <a:ext cx="5150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a strategy for an existing business as it exposes the business to the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612240" y="1965240"/>
            <a:ext cx="5232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risk of potential launch failures and, at the same time, fails to support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611520" y="2160720"/>
            <a:ext cx="4711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existing brands through less ambitious brand support projects.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601800" y="3041640"/>
            <a:ext cx="3426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Portfolio clustered bottom right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610800" y="3328920"/>
            <a:ext cx="4638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This portfolio could potentially illustrate a scenario in which a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611880" y="3522600"/>
            <a:ext cx="4903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business follows, rather than leads, the market and / or does not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611520" y="3718080"/>
            <a:ext cx="47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invest adequately in support of its brand through technology or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605760" y="3913200"/>
            <a:ext cx="1575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product innovation.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601440" y="4846680"/>
            <a:ext cx="2084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Balanced portfolio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611880" y="5132520"/>
            <a:ext cx="511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There is no ideal but, generally a well balanced portfolio will tend to 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610440" y="5327640"/>
            <a:ext cx="4162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be distributed along the diagonal top left - bottom right.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096560" y="1054080"/>
            <a:ext cx="849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Consumer 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095120" y="2938320"/>
            <a:ext cx="849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Consumer 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89760" y="3439080"/>
            <a:ext cx="687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Enabling Technology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096560" y="4840200"/>
            <a:ext cx="849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Consumer 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88320" y="5331960"/>
            <a:ext cx="687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Enabling Technology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701640" y="1165320"/>
            <a:ext cx="2282760" cy="15764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701640" y="2903400"/>
            <a:ext cx="2282760" cy="15764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836" name="" descr=""/>
          <p:cNvPicPr/>
          <p:nvPr/>
        </p:nvPicPr>
        <p:blipFill>
          <a:blip r:embed="rId3"/>
          <a:stretch/>
        </p:blipFill>
        <p:spPr>
          <a:xfrm>
            <a:off x="701640" y="4606920"/>
            <a:ext cx="2282760" cy="15764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/T Matrix - Global vs. Local Portfolio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320920" y="2305080"/>
            <a:ext cx="4397040" cy="24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483" swAng="5402483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483" swAng="5402483"/>
              </a:path>
            </a:pathLst>
          </a:custGeom>
          <a:noFill/>
          <a:ln cap="rnd"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287440" y="2647800"/>
            <a:ext cx="4397400" cy="24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483" swAng="5397517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483" swAng="5397517"/>
              </a:path>
            </a:pathLst>
          </a:custGeom>
          <a:noFill/>
          <a:ln cap="rnd" w="507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33360" y="5143680"/>
            <a:ext cx="3376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: The local portfolio might position projects differently due to different local condi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257800" y="1409760"/>
            <a:ext cx="337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local portfolio might reflect only those projects which have local significanc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14520" y="1287360"/>
            <a:ext cx="3197160" cy="2210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08040" y="1281240"/>
            <a:ext cx="3209760" cy="22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3440" y="1552680"/>
            <a:ext cx="25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46480" y="3390840"/>
            <a:ext cx="4150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PPINTR.ppt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403440" y="1552680"/>
            <a:ext cx="2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593880" y="3394080"/>
            <a:ext cx="29160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6/1/95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839960" y="2143080"/>
            <a:ext cx="216000" cy="216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157480" y="2523960"/>
            <a:ext cx="146160" cy="146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724120" y="2751120"/>
            <a:ext cx="109440" cy="1112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1282680" y="1882800"/>
            <a:ext cx="2179800" cy="1189080"/>
            <a:chOff x="1282680" y="1882800"/>
            <a:chExt cx="2179800" cy="1189080"/>
          </a:xfrm>
        </p:grpSpPr>
        <p:sp>
          <p:nvSpPr>
            <p:cNvPr id="1852" name=""/>
            <p:cNvSpPr/>
            <p:nvPr/>
          </p:nvSpPr>
          <p:spPr>
            <a:xfrm>
              <a:off x="1289160" y="1889280"/>
              <a:ext cx="2173320" cy="118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282680" y="1882800"/>
              <a:ext cx="2160720" cy="11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54" name=""/>
          <p:cNvSpPr/>
          <p:nvPr/>
        </p:nvSpPr>
        <p:spPr>
          <a:xfrm>
            <a:off x="1041120" y="1579680"/>
            <a:ext cx="432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312200" y="1579680"/>
            <a:ext cx="588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080" y="171756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abling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85520" y="1773360"/>
            <a:ext cx="464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242360" y="1687680"/>
            <a:ext cx="40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242000" y="1746360"/>
            <a:ext cx="357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00280" y="1682640"/>
            <a:ext cx="285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701720" y="1741320"/>
            <a:ext cx="365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571760" y="2090880"/>
            <a:ext cx="1879560" cy="966600"/>
          </a:xfrm>
          <a:custGeom>
            <a:avLst/>
            <a:gdLst/>
            <a:ahLst/>
            <a:rect l="l" t="t" r="r" b="b"/>
            <a:pathLst>
              <a:path w="1184" h="609">
                <a:moveTo>
                  <a:pt x="0" y="608"/>
                </a:moveTo>
                <a:lnTo>
                  <a:pt x="0" y="0"/>
                </a:lnTo>
                <a:lnTo>
                  <a:pt x="11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969840" y="1920960"/>
            <a:ext cx="351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77320" y="2533680"/>
            <a:ext cx="4442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crement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020960" y="2895480"/>
            <a:ext cx="29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031760" y="2117880"/>
            <a:ext cx="288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91000" y="2174760"/>
            <a:ext cx="430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934920" y="1630080"/>
            <a:ext cx="34776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060640" y="2449440"/>
            <a:ext cx="1392120" cy="606600"/>
          </a:xfrm>
          <a:custGeom>
            <a:avLst/>
            <a:gdLst/>
            <a:ahLst/>
            <a:rect l="l" t="t" r="r" b="b"/>
            <a:pathLst>
              <a:path w="877" h="382">
                <a:moveTo>
                  <a:pt x="0" y="381"/>
                </a:moveTo>
                <a:lnTo>
                  <a:pt x="0" y="0"/>
                </a:lnTo>
                <a:lnTo>
                  <a:pt x="8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624040" y="2712960"/>
            <a:ext cx="828720" cy="343080"/>
          </a:xfrm>
          <a:custGeom>
            <a:avLst/>
            <a:gdLst/>
            <a:ahLst/>
            <a:rect l="l" t="t" r="r" b="b"/>
            <a:pathLst>
              <a:path w="522" h="216">
                <a:moveTo>
                  <a:pt x="0" y="215"/>
                </a:moveTo>
                <a:lnTo>
                  <a:pt x="0" y="0"/>
                </a:lnTo>
                <a:lnTo>
                  <a:pt x="5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129040" y="1731960"/>
            <a:ext cx="474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642760" y="1731960"/>
            <a:ext cx="342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2903040" y="1701720"/>
            <a:ext cx="689400" cy="212040"/>
            <a:chOff x="2903040" y="1701720"/>
            <a:chExt cx="689400" cy="212040"/>
          </a:xfrm>
        </p:grpSpPr>
        <p:sp>
          <p:nvSpPr>
            <p:cNvPr id="1874" name=""/>
            <p:cNvSpPr/>
            <p:nvPr/>
          </p:nvSpPr>
          <p:spPr>
            <a:xfrm>
              <a:off x="3024720" y="1701720"/>
              <a:ext cx="43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903040" y="1760400"/>
              <a:ext cx="689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Business benefit only)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2755800" y="244800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749680" y="271296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749680" y="208908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1232640" y="3143160"/>
            <a:ext cx="666000" cy="271080"/>
            <a:chOff x="1232640" y="3143160"/>
            <a:chExt cx="666000" cy="271080"/>
          </a:xfrm>
        </p:grpSpPr>
        <p:sp>
          <p:nvSpPr>
            <p:cNvPr id="1880" name=""/>
            <p:cNvSpPr/>
            <p:nvPr/>
          </p:nvSpPr>
          <p:spPr>
            <a:xfrm>
              <a:off x="1235160" y="3143160"/>
              <a:ext cx="663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Bubble Size Indicate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234080" y="3201840"/>
              <a:ext cx="6591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Resource Demand o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232640" y="3260880"/>
              <a:ext cx="505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expected NP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847880" y="3127320"/>
            <a:ext cx="711000" cy="254160"/>
            <a:chOff x="1847880" y="3127320"/>
            <a:chExt cx="711000" cy="254160"/>
          </a:xfrm>
        </p:grpSpPr>
        <p:sp>
          <p:nvSpPr>
            <p:cNvPr id="1884" name=""/>
            <p:cNvSpPr/>
            <p:nvPr/>
          </p:nvSpPr>
          <p:spPr>
            <a:xfrm>
              <a:off x="1852560" y="3132000"/>
              <a:ext cx="7063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47880" y="3127320"/>
              <a:ext cx="692280" cy="23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1774080" y="3087720"/>
            <a:ext cx="3236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Scale: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969280" y="1874880"/>
            <a:ext cx="541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Breakthrough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970000" y="2090880"/>
            <a:ext cx="413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69280" y="2443320"/>
            <a:ext cx="457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970000" y="2708280"/>
            <a:ext cx="564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Brand Support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251800" y="3164040"/>
            <a:ext cx="287280" cy="185760"/>
            <a:chOff x="2251800" y="3164040"/>
            <a:chExt cx="287280" cy="185760"/>
          </a:xfrm>
        </p:grpSpPr>
        <p:sp>
          <p:nvSpPr>
            <p:cNvPr id="1892" name=""/>
            <p:cNvSpPr/>
            <p:nvPr/>
          </p:nvSpPr>
          <p:spPr>
            <a:xfrm>
              <a:off x="2300400" y="3164040"/>
              <a:ext cx="183960" cy="1857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51800" y="3176640"/>
              <a:ext cx="287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2111400" y="3216240"/>
            <a:ext cx="133200" cy="133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040480" y="3201840"/>
            <a:ext cx="2811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689120" y="2238480"/>
            <a:ext cx="183960" cy="183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192400" y="2592360"/>
            <a:ext cx="133200" cy="1332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717640" y="2851200"/>
            <a:ext cx="88920" cy="9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1850040" y="3224160"/>
            <a:ext cx="276480" cy="153360"/>
            <a:chOff x="1850040" y="3224160"/>
            <a:chExt cx="276480" cy="153360"/>
          </a:xfrm>
        </p:grpSpPr>
        <p:sp>
          <p:nvSpPr>
            <p:cNvPr id="1900" name=""/>
            <p:cNvSpPr/>
            <p:nvPr/>
          </p:nvSpPr>
          <p:spPr>
            <a:xfrm>
              <a:off x="1940040" y="3259080"/>
              <a:ext cx="90360" cy="907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50040" y="3224160"/>
              <a:ext cx="276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2149560" y="2814480"/>
            <a:ext cx="90360" cy="907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413080" y="2592360"/>
            <a:ext cx="135000" cy="1332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192400" y="2209680"/>
            <a:ext cx="133200" cy="13356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309760" y="2801880"/>
            <a:ext cx="90720" cy="907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816200" y="2616120"/>
            <a:ext cx="90360" cy="907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865600" y="2889360"/>
            <a:ext cx="90360" cy="889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2750400" y="3100320"/>
            <a:ext cx="725760" cy="242280"/>
            <a:chOff x="2750400" y="3100320"/>
            <a:chExt cx="725760" cy="242280"/>
          </a:xfrm>
        </p:grpSpPr>
        <p:sp>
          <p:nvSpPr>
            <p:cNvPr id="1909" name=""/>
            <p:cNvSpPr/>
            <p:nvPr/>
          </p:nvSpPr>
          <p:spPr>
            <a:xfrm>
              <a:off x="2750400" y="3100320"/>
              <a:ext cx="32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EY:  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2600" y="3100320"/>
              <a:ext cx="5234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ae00"/>
                  </a:solidFill>
                  <a:latin typeface="Arial"/>
                </a:rPr>
                <a:t>Green = Global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756160" y="3189240"/>
              <a:ext cx="7200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c0128"/>
                  </a:solidFill>
                  <a:latin typeface="Arial"/>
                </a:rPr>
                <a:t>           </a:t>
              </a:r>
              <a:r>
                <a:rPr b="0" lang="en-US" sz="400" spc="-1" strike="noStrike">
                  <a:solidFill>
                    <a:srgbClr val="fc0128"/>
                  </a:solidFill>
                  <a:latin typeface="Arial"/>
                </a:rPr>
                <a:t>Red    = Regional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1349280" y="2058840"/>
            <a:ext cx="184320" cy="18576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8120" y="1886040"/>
            <a:ext cx="184320" cy="18576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914480" y="2135160"/>
            <a:ext cx="133560" cy="1332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340000" y="2154240"/>
            <a:ext cx="133200" cy="13320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427120" y="2876400"/>
            <a:ext cx="90720" cy="9072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685960" y="2746440"/>
            <a:ext cx="90720" cy="9036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649600" y="2938320"/>
            <a:ext cx="90360" cy="8892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809800" y="2746440"/>
            <a:ext cx="90720" cy="9036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746600" y="3676680"/>
            <a:ext cx="3197160" cy="2209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740120" y="3670200"/>
            <a:ext cx="3210120" cy="22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835520" y="3941640"/>
            <a:ext cx="253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678920" y="5780160"/>
            <a:ext cx="4150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PPINTR.ppt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535880" y="3941640"/>
            <a:ext cx="2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725960" y="5783400"/>
            <a:ext cx="29160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6/1/95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972040" y="4532400"/>
            <a:ext cx="216000" cy="2156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289560" y="4913280"/>
            <a:ext cx="146160" cy="14616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6560" y="5140440"/>
            <a:ext cx="109440" cy="1108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415120" y="4272120"/>
            <a:ext cx="2179440" cy="1188720"/>
            <a:chOff x="5415120" y="4272120"/>
            <a:chExt cx="2179440" cy="1188720"/>
          </a:xfrm>
        </p:grpSpPr>
        <p:sp>
          <p:nvSpPr>
            <p:cNvPr id="1930" name=""/>
            <p:cNvSpPr/>
            <p:nvPr/>
          </p:nvSpPr>
          <p:spPr>
            <a:xfrm>
              <a:off x="5421240" y="4278240"/>
              <a:ext cx="2173320" cy="118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15120" y="4272120"/>
              <a:ext cx="2160360" cy="11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>
            <a:off x="5173560" y="3968640"/>
            <a:ext cx="432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444280" y="3968640"/>
            <a:ext cx="588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916520" y="410688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abling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917960" y="4162320"/>
            <a:ext cx="464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74800" y="4076640"/>
            <a:ext cx="40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w Cor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374440" y="4135320"/>
            <a:ext cx="357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32360" y="4071960"/>
            <a:ext cx="285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833800" y="4130640"/>
            <a:ext cx="365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703840" y="4479840"/>
            <a:ext cx="1879560" cy="966960"/>
          </a:xfrm>
          <a:custGeom>
            <a:avLst/>
            <a:gdLst/>
            <a:ahLst/>
            <a:rect l="l" t="t" r="r" b="b"/>
            <a:pathLst>
              <a:path w="1184" h="609">
                <a:moveTo>
                  <a:pt x="0" y="608"/>
                </a:moveTo>
                <a:lnTo>
                  <a:pt x="0" y="0"/>
                </a:lnTo>
                <a:lnTo>
                  <a:pt x="11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101920" y="4309920"/>
            <a:ext cx="351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009400" y="4923000"/>
            <a:ext cx="4442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crement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153040" y="5284800"/>
            <a:ext cx="29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164200" y="4506840"/>
            <a:ext cx="288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023440" y="4564080"/>
            <a:ext cx="430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 flipV="1">
            <a:off x="5067360" y="4019400"/>
            <a:ext cx="34776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192720" y="4838760"/>
            <a:ext cx="1392480" cy="606240"/>
          </a:xfrm>
          <a:custGeom>
            <a:avLst/>
            <a:gdLst/>
            <a:ahLst/>
            <a:rect l="l" t="t" r="r" b="b"/>
            <a:pathLst>
              <a:path w="877" h="382">
                <a:moveTo>
                  <a:pt x="0" y="381"/>
                </a:moveTo>
                <a:lnTo>
                  <a:pt x="0" y="0"/>
                </a:lnTo>
                <a:lnTo>
                  <a:pt x="8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756480" y="5102280"/>
            <a:ext cx="828720" cy="342720"/>
          </a:xfrm>
          <a:custGeom>
            <a:avLst/>
            <a:gdLst/>
            <a:ahLst/>
            <a:rect l="l" t="t" r="r" b="b"/>
            <a:pathLst>
              <a:path w="522" h="216">
                <a:moveTo>
                  <a:pt x="0" y="215"/>
                </a:moveTo>
                <a:lnTo>
                  <a:pt x="0" y="0"/>
                </a:lnTo>
                <a:lnTo>
                  <a:pt x="5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261120" y="4121280"/>
            <a:ext cx="474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774840" y="4121280"/>
            <a:ext cx="342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7035480" y="4091040"/>
            <a:ext cx="689400" cy="212040"/>
            <a:chOff x="7035480" y="4091040"/>
            <a:chExt cx="689400" cy="212040"/>
          </a:xfrm>
        </p:grpSpPr>
        <p:sp>
          <p:nvSpPr>
            <p:cNvPr id="1952" name=""/>
            <p:cNvSpPr/>
            <p:nvPr/>
          </p:nvSpPr>
          <p:spPr>
            <a:xfrm>
              <a:off x="7157160" y="4091040"/>
              <a:ext cx="43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35480" y="4149720"/>
              <a:ext cx="689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Business benefit only)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6888240" y="483696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81760" y="510228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81760" y="447840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364720" y="5532480"/>
            <a:ext cx="666000" cy="270720"/>
            <a:chOff x="5364720" y="5532480"/>
            <a:chExt cx="666000" cy="270720"/>
          </a:xfrm>
        </p:grpSpPr>
        <p:sp>
          <p:nvSpPr>
            <p:cNvPr id="1958" name=""/>
            <p:cNvSpPr/>
            <p:nvPr/>
          </p:nvSpPr>
          <p:spPr>
            <a:xfrm>
              <a:off x="5367240" y="5532480"/>
              <a:ext cx="663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Bubble Size Indicate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366160" y="5591160"/>
              <a:ext cx="6591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Resource Demand o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4720" y="5649840"/>
              <a:ext cx="505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expected NP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979960" y="5516640"/>
            <a:ext cx="711360" cy="253800"/>
            <a:chOff x="5979960" y="5516640"/>
            <a:chExt cx="711360" cy="253800"/>
          </a:xfrm>
        </p:grpSpPr>
        <p:sp>
          <p:nvSpPr>
            <p:cNvPr id="1962" name=""/>
            <p:cNvSpPr/>
            <p:nvPr/>
          </p:nvSpPr>
          <p:spPr>
            <a:xfrm>
              <a:off x="5985000" y="5521320"/>
              <a:ext cx="7063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979960" y="5516640"/>
              <a:ext cx="692280" cy="23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5906160" y="5477040"/>
            <a:ext cx="3236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Scale: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101720" y="4264200"/>
            <a:ext cx="541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Breakthrough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102080" y="4479840"/>
            <a:ext cx="413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101360" y="4832280"/>
            <a:ext cx="457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102080" y="5097600"/>
            <a:ext cx="564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Brand Support</a:t>
            </a:r>
            <a:endParaRPr b="0" lang="en-US" sz="5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6383880" y="5553000"/>
            <a:ext cx="287280" cy="185760"/>
            <a:chOff x="6383880" y="5553000"/>
            <a:chExt cx="287280" cy="185760"/>
          </a:xfrm>
        </p:grpSpPr>
        <p:sp>
          <p:nvSpPr>
            <p:cNvPr id="1970" name=""/>
            <p:cNvSpPr/>
            <p:nvPr/>
          </p:nvSpPr>
          <p:spPr>
            <a:xfrm>
              <a:off x="6432480" y="5553000"/>
              <a:ext cx="184320" cy="18576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83880" y="5565600"/>
              <a:ext cx="287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6243480" y="5605560"/>
            <a:ext cx="133560" cy="13320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172920" y="5591160"/>
            <a:ext cx="2811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224760" y="4876920"/>
            <a:ext cx="133200" cy="13320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5982480" y="5613480"/>
            <a:ext cx="276480" cy="153360"/>
            <a:chOff x="5982480" y="5613480"/>
            <a:chExt cx="276480" cy="153360"/>
          </a:xfrm>
        </p:grpSpPr>
        <p:sp>
          <p:nvSpPr>
            <p:cNvPr id="1976" name=""/>
            <p:cNvSpPr/>
            <p:nvPr/>
          </p:nvSpPr>
          <p:spPr>
            <a:xfrm>
              <a:off x="6072120" y="5648400"/>
              <a:ext cx="90720" cy="903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982480" y="5613480"/>
              <a:ext cx="276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78" name=""/>
          <p:cNvSpPr/>
          <p:nvPr/>
        </p:nvSpPr>
        <p:spPr>
          <a:xfrm>
            <a:off x="6399360" y="4883040"/>
            <a:ext cx="90360" cy="8892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145200" y="4654440"/>
            <a:ext cx="90360" cy="9072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6882480" y="5489640"/>
            <a:ext cx="725760" cy="242280"/>
            <a:chOff x="6882480" y="5489640"/>
            <a:chExt cx="725760" cy="242280"/>
          </a:xfrm>
        </p:grpSpPr>
        <p:sp>
          <p:nvSpPr>
            <p:cNvPr id="1981" name=""/>
            <p:cNvSpPr/>
            <p:nvPr/>
          </p:nvSpPr>
          <p:spPr>
            <a:xfrm>
              <a:off x="6882480" y="5489640"/>
              <a:ext cx="32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EY:  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024680" y="5489640"/>
              <a:ext cx="5234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ae00"/>
                  </a:solidFill>
                  <a:latin typeface="Arial"/>
                </a:rPr>
                <a:t>Green = Global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888240" y="5578560"/>
              <a:ext cx="7200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c0128"/>
                  </a:solidFill>
                  <a:latin typeface="Arial"/>
                </a:rPr>
                <a:t>           </a:t>
              </a:r>
              <a:r>
                <a:rPr b="0" lang="en-US" sz="400" spc="-1" strike="noStrike">
                  <a:solidFill>
                    <a:srgbClr val="fc0128"/>
                  </a:solidFill>
                  <a:latin typeface="Arial"/>
                </a:rPr>
                <a:t>Red    = Regional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5972040" y="4500720"/>
            <a:ext cx="133560" cy="13320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527880" y="5030640"/>
            <a:ext cx="90360" cy="9072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18400" y="5135400"/>
            <a:ext cx="90360" cy="9072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732720" y="4994280"/>
            <a:ext cx="90360" cy="8892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175680" y="247680"/>
            <a:ext cx="824724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ary APP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39840" y="1320840"/>
            <a:ext cx="2679480" cy="2011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33360" y="1314360"/>
            <a:ext cx="2692440" cy="20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2920" y="1562040"/>
            <a:ext cx="21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678040" y="15620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49920" y="1351080"/>
            <a:ext cx="18309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Arial"/>
              </a:rPr>
              <a:t>Strategic Alignment Map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357560" y="1596960"/>
            <a:ext cx="863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Strategic Business Priorities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2422440" y="1328760"/>
            <a:ext cx="527760" cy="168480"/>
            <a:chOff x="2422440" y="1328760"/>
            <a:chExt cx="527760" cy="168480"/>
          </a:xfrm>
        </p:grpSpPr>
        <p:sp>
          <p:nvSpPr>
            <p:cNvPr id="1996" name=""/>
            <p:cNvSpPr/>
            <p:nvPr/>
          </p:nvSpPr>
          <p:spPr>
            <a:xfrm>
              <a:off x="2428920" y="1376280"/>
              <a:ext cx="49032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422440" y="1366920"/>
              <a:ext cx="476280" cy="9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426760" y="1328760"/>
              <a:ext cx="5234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Arial"/>
                </a:rPr>
                <a:t>hypothetical</a:t>
              </a:r>
              <a:endParaRPr b="0" lang="en-US" sz="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999" name=""/>
          <p:cNvGrpSpPr/>
          <p:nvPr/>
        </p:nvGrpSpPr>
        <p:grpSpPr>
          <a:xfrm>
            <a:off x="283320" y="1700280"/>
            <a:ext cx="2733480" cy="1395360"/>
            <a:chOff x="283320" y="1700280"/>
            <a:chExt cx="2733480" cy="1395360"/>
          </a:xfrm>
        </p:grpSpPr>
        <p:grpSp>
          <p:nvGrpSpPr>
            <p:cNvPr id="2000" name=""/>
            <p:cNvGrpSpPr/>
            <p:nvPr/>
          </p:nvGrpSpPr>
          <p:grpSpPr>
            <a:xfrm>
              <a:off x="2241360" y="1704960"/>
              <a:ext cx="447120" cy="182880"/>
              <a:chOff x="2241360" y="1704960"/>
              <a:chExt cx="447120" cy="182880"/>
            </a:xfrm>
          </p:grpSpPr>
          <p:sp>
            <p:nvSpPr>
              <p:cNvPr id="2001" name=""/>
              <p:cNvSpPr/>
              <p:nvPr/>
            </p:nvSpPr>
            <p:spPr>
              <a:xfrm>
                <a:off x="2241360" y="1704960"/>
                <a:ext cx="447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Cost Savings /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267640" y="1749600"/>
                <a:ext cx="3909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rocess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1951920" y="1708200"/>
              <a:ext cx="361800" cy="184320"/>
              <a:chOff x="1951920" y="1708200"/>
              <a:chExt cx="361800" cy="184320"/>
            </a:xfrm>
          </p:grpSpPr>
          <p:sp>
            <p:nvSpPr>
              <p:cNvPr id="2004" name=""/>
              <p:cNvSpPr/>
              <p:nvPr/>
            </p:nvSpPr>
            <p:spPr>
              <a:xfrm>
                <a:off x="1951920" y="1708200"/>
                <a:ext cx="3618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Creamier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957320" y="1754280"/>
                <a:ext cx="34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remium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570320" y="1712880"/>
              <a:ext cx="384840" cy="182880"/>
              <a:chOff x="1570320" y="1712880"/>
              <a:chExt cx="384840" cy="182880"/>
            </a:xfrm>
          </p:grpSpPr>
          <p:sp>
            <p:nvSpPr>
              <p:cNvPr id="2007" name=""/>
              <p:cNvSpPr/>
              <p:nvPr/>
            </p:nvSpPr>
            <p:spPr>
              <a:xfrm>
                <a:off x="1570320" y="1712880"/>
                <a:ext cx="3848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Consumer-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593360" y="1757520"/>
                <a:ext cx="3330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Friendly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881280" y="1700280"/>
              <a:ext cx="381600" cy="182520"/>
              <a:chOff x="881280" y="1700280"/>
              <a:chExt cx="381600" cy="182520"/>
            </a:xfrm>
          </p:grpSpPr>
          <p:sp>
            <p:nvSpPr>
              <p:cNvPr id="2010" name=""/>
              <p:cNvSpPr/>
              <p:nvPr/>
            </p:nvSpPr>
            <p:spPr>
              <a:xfrm>
                <a:off x="918720" y="1700280"/>
                <a:ext cx="3009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hirst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81280" y="1744560"/>
                <a:ext cx="3816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Quench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1214280" y="1712880"/>
              <a:ext cx="366480" cy="182880"/>
              <a:chOff x="1214280" y="1712880"/>
              <a:chExt cx="366480" cy="182880"/>
            </a:xfrm>
          </p:grpSpPr>
          <p:sp>
            <p:nvSpPr>
              <p:cNvPr id="2013" name=""/>
              <p:cNvSpPr/>
              <p:nvPr/>
            </p:nvSpPr>
            <p:spPr>
              <a:xfrm>
                <a:off x="1252440" y="1712880"/>
                <a:ext cx="281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Fruit-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214280" y="1757520"/>
                <a:ext cx="3664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nhanced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598320" y="1704960"/>
              <a:ext cx="336240" cy="182880"/>
              <a:chOff x="598320" y="1704960"/>
              <a:chExt cx="336240" cy="182880"/>
            </a:xfrm>
          </p:grpSpPr>
          <p:sp>
            <p:nvSpPr>
              <p:cNvPr id="2016" name=""/>
              <p:cNvSpPr/>
              <p:nvPr/>
            </p:nvSpPr>
            <p:spPr>
              <a:xfrm>
                <a:off x="598680" y="1704960"/>
                <a:ext cx="3358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Smooth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8320" y="1749600"/>
                <a:ext cx="3222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exture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289080" y="1928880"/>
              <a:ext cx="393840" cy="182520"/>
              <a:chOff x="289080" y="1928880"/>
              <a:chExt cx="393840" cy="182520"/>
            </a:xfrm>
          </p:grpSpPr>
          <p:sp>
            <p:nvSpPr>
              <p:cNvPr id="2019" name=""/>
              <p:cNvSpPr/>
              <p:nvPr/>
            </p:nvSpPr>
            <p:spPr>
              <a:xfrm>
                <a:off x="289080" y="1928880"/>
                <a:ext cx="3938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Megatheme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13920" y="1973160"/>
                <a:ext cx="3358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roject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283320" y="2411280"/>
              <a:ext cx="396720" cy="228960"/>
              <a:chOff x="283320" y="2411280"/>
              <a:chExt cx="396720" cy="228960"/>
            </a:xfrm>
          </p:grpSpPr>
          <p:sp>
            <p:nvSpPr>
              <p:cNvPr id="2022" name=""/>
              <p:cNvSpPr/>
              <p:nvPr/>
            </p:nvSpPr>
            <p:spPr>
              <a:xfrm>
                <a:off x="283320" y="2411280"/>
                <a:ext cx="3967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echnology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0680" y="2457360"/>
                <a:ext cx="339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latform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2480" y="2502000"/>
                <a:ext cx="3358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roject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300240" y="2852640"/>
              <a:ext cx="375480" cy="184320"/>
              <a:chOff x="300240" y="2852640"/>
              <a:chExt cx="375480" cy="184320"/>
            </a:xfrm>
          </p:grpSpPr>
          <p:sp>
            <p:nvSpPr>
              <p:cNvPr id="2026" name=""/>
              <p:cNvSpPr/>
              <p:nvPr/>
            </p:nvSpPr>
            <p:spPr>
              <a:xfrm>
                <a:off x="300240" y="2852640"/>
                <a:ext cx="3754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nnovation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37680" y="2898720"/>
                <a:ext cx="3358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Project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552240" y="2295360"/>
              <a:ext cx="486720" cy="178200"/>
              <a:chOff x="552240" y="2295360"/>
              <a:chExt cx="486720" cy="178200"/>
            </a:xfrm>
          </p:grpSpPr>
          <p:sp>
            <p:nvSpPr>
              <p:cNvPr id="2029" name=""/>
              <p:cNvSpPr/>
              <p:nvPr/>
            </p:nvSpPr>
            <p:spPr>
              <a:xfrm>
                <a:off x="743040" y="2370240"/>
                <a:ext cx="38160" cy="36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52240" y="2295360"/>
                <a:ext cx="4867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olecular Control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32160" y="2335320"/>
                <a:ext cx="290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of Ice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1554120" y="2293920"/>
              <a:ext cx="346680" cy="138240"/>
              <a:chOff x="1554120" y="2293920"/>
              <a:chExt cx="346680" cy="138240"/>
            </a:xfrm>
          </p:grpSpPr>
          <p:sp>
            <p:nvSpPr>
              <p:cNvPr id="2033" name=""/>
              <p:cNvSpPr/>
              <p:nvPr/>
            </p:nvSpPr>
            <p:spPr>
              <a:xfrm>
                <a:off x="1690560" y="2347920"/>
                <a:ext cx="3672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554120" y="2293920"/>
                <a:ext cx="3466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Scoop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2318760" y="2416320"/>
              <a:ext cx="366480" cy="179280"/>
              <a:chOff x="2318760" y="2416320"/>
              <a:chExt cx="366480" cy="179280"/>
            </a:xfrm>
          </p:grpSpPr>
          <p:sp>
            <p:nvSpPr>
              <p:cNvPr id="2036" name=""/>
              <p:cNvSpPr/>
              <p:nvPr/>
            </p:nvSpPr>
            <p:spPr>
              <a:xfrm>
                <a:off x="2462040" y="2490840"/>
                <a:ext cx="3672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48280" y="2416320"/>
                <a:ext cx="2948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Novel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318760" y="2457360"/>
                <a:ext cx="3664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Processe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"/>
            <p:cNvGrpSpPr/>
            <p:nvPr/>
          </p:nvGrpSpPr>
          <p:grpSpPr>
            <a:xfrm>
              <a:off x="857520" y="2400480"/>
              <a:ext cx="477720" cy="138240"/>
              <a:chOff x="857520" y="2400480"/>
              <a:chExt cx="477720" cy="138240"/>
            </a:xfrm>
          </p:grpSpPr>
          <p:sp>
            <p:nvSpPr>
              <p:cNvPr id="2040" name=""/>
              <p:cNvSpPr/>
              <p:nvPr/>
            </p:nvSpPr>
            <p:spPr>
              <a:xfrm>
                <a:off x="1009800" y="242100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857520" y="2400480"/>
                <a:ext cx="4777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Thirst Quench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2346480" y="2892600"/>
              <a:ext cx="328320" cy="161640"/>
              <a:chOff x="2346480" y="2892600"/>
              <a:chExt cx="328320" cy="161640"/>
            </a:xfrm>
          </p:grpSpPr>
          <p:sp>
            <p:nvSpPr>
              <p:cNvPr id="2043" name=""/>
              <p:cNvSpPr/>
              <p:nvPr/>
            </p:nvSpPr>
            <p:spPr>
              <a:xfrm>
                <a:off x="2409840" y="2892600"/>
                <a:ext cx="163440" cy="1616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346480" y="2900520"/>
                <a:ext cx="3283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Voyager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"/>
            <p:cNvGrpSpPr/>
            <p:nvPr/>
          </p:nvGrpSpPr>
          <p:grpSpPr>
            <a:xfrm>
              <a:off x="542520" y="2438280"/>
              <a:ext cx="526320" cy="150840"/>
              <a:chOff x="542520" y="2438280"/>
              <a:chExt cx="526320" cy="150840"/>
            </a:xfrm>
          </p:grpSpPr>
          <p:sp>
            <p:nvSpPr>
              <p:cNvPr id="2046" name=""/>
              <p:cNvSpPr/>
              <p:nvPr/>
            </p:nvSpPr>
            <p:spPr>
              <a:xfrm>
                <a:off x="695160" y="2438280"/>
                <a:ext cx="1494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2520" y="2441520"/>
                <a:ext cx="5263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Structure Propertie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"/>
            <p:cNvGrpSpPr/>
            <p:nvPr/>
          </p:nvGrpSpPr>
          <p:grpSpPr>
            <a:xfrm>
              <a:off x="1283760" y="2425680"/>
              <a:ext cx="261360" cy="138240"/>
              <a:chOff x="1283760" y="2425680"/>
              <a:chExt cx="261360" cy="138240"/>
            </a:xfrm>
          </p:grpSpPr>
          <p:sp>
            <p:nvSpPr>
              <p:cNvPr id="2049" name=""/>
              <p:cNvSpPr/>
              <p:nvPr/>
            </p:nvSpPr>
            <p:spPr>
              <a:xfrm>
                <a:off x="1349280" y="2446200"/>
                <a:ext cx="10332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283760" y="2425680"/>
                <a:ext cx="2613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Fruit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1930320" y="1862280"/>
              <a:ext cx="428760" cy="177840"/>
              <a:chOff x="1930320" y="1862280"/>
              <a:chExt cx="428760" cy="177840"/>
            </a:xfrm>
          </p:grpSpPr>
          <p:sp>
            <p:nvSpPr>
              <p:cNvPr id="2052" name=""/>
              <p:cNvSpPr/>
              <p:nvPr/>
            </p:nvSpPr>
            <p:spPr>
              <a:xfrm>
                <a:off x="2063880" y="190188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74960" y="1862280"/>
                <a:ext cx="3160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Quality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30320" y="1901880"/>
                <a:ext cx="4287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Improvement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1935360" y="2825640"/>
              <a:ext cx="372600" cy="178200"/>
              <a:chOff x="1935360" y="2825640"/>
              <a:chExt cx="372600" cy="178200"/>
            </a:xfrm>
          </p:grpSpPr>
          <p:sp>
            <p:nvSpPr>
              <p:cNvPr id="2056" name=""/>
              <p:cNvSpPr/>
              <p:nvPr/>
            </p:nvSpPr>
            <p:spPr>
              <a:xfrm>
                <a:off x="2023920" y="2843280"/>
                <a:ext cx="150840" cy="150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940040" y="2825640"/>
                <a:ext cx="3632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All Natural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935360" y="2865600"/>
                <a:ext cx="3726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Ice Cream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2611080" y="2805120"/>
              <a:ext cx="325080" cy="138240"/>
              <a:chOff x="2611080" y="2805120"/>
              <a:chExt cx="325080" cy="138240"/>
            </a:xfrm>
          </p:grpSpPr>
          <p:sp>
            <p:nvSpPr>
              <p:cNvPr id="2060" name=""/>
              <p:cNvSpPr/>
              <p:nvPr/>
            </p:nvSpPr>
            <p:spPr>
              <a:xfrm>
                <a:off x="2736720" y="285912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11080" y="2805120"/>
                <a:ext cx="3250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araton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"/>
            <p:cNvGrpSpPr/>
            <p:nvPr/>
          </p:nvGrpSpPr>
          <p:grpSpPr>
            <a:xfrm>
              <a:off x="591480" y="1973160"/>
              <a:ext cx="406080" cy="138240"/>
              <a:chOff x="591480" y="1973160"/>
              <a:chExt cx="406080" cy="138240"/>
            </a:xfrm>
          </p:grpSpPr>
          <p:sp>
            <p:nvSpPr>
              <p:cNvPr id="2063" name=""/>
              <p:cNvSpPr/>
              <p:nvPr/>
            </p:nvSpPr>
            <p:spPr>
              <a:xfrm>
                <a:off x="750960" y="2025720"/>
                <a:ext cx="3636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1480" y="1973160"/>
                <a:ext cx="4060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Crystal Habit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1497960" y="1876320"/>
              <a:ext cx="479160" cy="138240"/>
              <a:chOff x="1497960" y="1876320"/>
              <a:chExt cx="479160" cy="138240"/>
            </a:xfrm>
          </p:grpSpPr>
          <p:sp>
            <p:nvSpPr>
              <p:cNvPr id="2066" name=""/>
              <p:cNvSpPr/>
              <p:nvPr/>
            </p:nvSpPr>
            <p:spPr>
              <a:xfrm>
                <a:off x="1689120" y="1928880"/>
                <a:ext cx="3636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497960" y="1876320"/>
                <a:ext cx="479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New Sensory Sci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2322360" y="1914480"/>
              <a:ext cx="395640" cy="179640"/>
              <a:chOff x="2322360" y="1914480"/>
              <a:chExt cx="395640" cy="179640"/>
            </a:xfrm>
          </p:grpSpPr>
          <p:sp>
            <p:nvSpPr>
              <p:cNvPr id="2069" name=""/>
              <p:cNvSpPr/>
              <p:nvPr/>
            </p:nvSpPr>
            <p:spPr>
              <a:xfrm>
                <a:off x="2476440" y="1989000"/>
                <a:ext cx="38160" cy="36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338200" y="1914480"/>
                <a:ext cx="3542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ach/Mat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322360" y="1955880"/>
                <a:ext cx="3956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Interaction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2235960" y="1992240"/>
              <a:ext cx="324000" cy="177840"/>
              <a:chOff x="2235960" y="1992240"/>
              <a:chExt cx="324000" cy="177840"/>
            </a:xfrm>
          </p:grpSpPr>
          <p:sp>
            <p:nvSpPr>
              <p:cNvPr id="2073" name=""/>
              <p:cNvSpPr/>
              <p:nvPr/>
            </p:nvSpPr>
            <p:spPr>
              <a:xfrm>
                <a:off x="2359080" y="2065320"/>
                <a:ext cx="396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240640" y="1992240"/>
                <a:ext cx="3085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Human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235960" y="2031840"/>
                <a:ext cx="3240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Factor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1958400" y="2052720"/>
              <a:ext cx="361800" cy="177840"/>
              <a:chOff x="1958400" y="2052720"/>
              <a:chExt cx="361800" cy="177840"/>
            </a:xfrm>
          </p:grpSpPr>
          <p:sp>
            <p:nvSpPr>
              <p:cNvPr id="2077" name=""/>
              <p:cNvSpPr/>
              <p:nvPr/>
            </p:nvSpPr>
            <p:spPr>
              <a:xfrm>
                <a:off x="2100240" y="2125800"/>
                <a:ext cx="36360" cy="37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958400" y="2052720"/>
                <a:ext cx="3618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Plant Cell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992240" y="2092320"/>
                <a:ext cx="281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Wall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35960" y="1825560"/>
              <a:ext cx="361800" cy="179640"/>
              <a:chOff x="2235960" y="1825560"/>
              <a:chExt cx="361800" cy="1796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378160" y="1900080"/>
                <a:ext cx="396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241360" y="1825560"/>
                <a:ext cx="3528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olecular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235960" y="1866960"/>
                <a:ext cx="3618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odell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583200" y="2057400"/>
              <a:ext cx="425880" cy="179640"/>
              <a:chOff x="583200" y="2057400"/>
              <a:chExt cx="425880" cy="179640"/>
            </a:xfrm>
          </p:grpSpPr>
          <p:sp>
            <p:nvSpPr>
              <p:cNvPr id="2085" name=""/>
              <p:cNvSpPr/>
              <p:nvPr/>
            </p:nvSpPr>
            <p:spPr>
              <a:xfrm>
                <a:off x="750960" y="2131920"/>
                <a:ext cx="3636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3200" y="2057400"/>
                <a:ext cx="4258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Concentrated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99040" y="2098800"/>
                <a:ext cx="3877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Dispersion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1510200" y="1976400"/>
              <a:ext cx="447120" cy="138240"/>
              <a:chOff x="1510200" y="1976400"/>
              <a:chExt cx="447120" cy="138240"/>
            </a:xfrm>
          </p:grpSpPr>
          <p:sp>
            <p:nvSpPr>
              <p:cNvPr id="2089" name=""/>
              <p:cNvSpPr/>
              <p:nvPr/>
            </p:nvSpPr>
            <p:spPr>
              <a:xfrm>
                <a:off x="1684440" y="2028960"/>
                <a:ext cx="36360" cy="37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510200" y="1976400"/>
                <a:ext cx="447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Human Gut Epi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1505880" y="2068560"/>
              <a:ext cx="473040" cy="138240"/>
              <a:chOff x="1505880" y="2068560"/>
              <a:chExt cx="473040" cy="138240"/>
            </a:xfrm>
          </p:grpSpPr>
          <p:sp>
            <p:nvSpPr>
              <p:cNvPr id="2092" name=""/>
              <p:cNvSpPr/>
              <p:nvPr/>
            </p:nvSpPr>
            <p:spPr>
              <a:xfrm>
                <a:off x="1692360" y="2122560"/>
                <a:ext cx="3636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505880" y="2068560"/>
                <a:ext cx="4730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Affect &amp; Emotion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2212200" y="2146320"/>
              <a:ext cx="381600" cy="179640"/>
              <a:chOff x="2212200" y="2146320"/>
              <a:chExt cx="381600" cy="179640"/>
            </a:xfrm>
          </p:grpSpPr>
          <p:sp>
            <p:nvSpPr>
              <p:cNvPr id="2095" name=""/>
              <p:cNvSpPr/>
              <p:nvPr/>
            </p:nvSpPr>
            <p:spPr>
              <a:xfrm>
                <a:off x="2359080" y="2220840"/>
                <a:ext cx="396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231280" y="2146320"/>
                <a:ext cx="3330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Artificial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212200" y="2187720"/>
                <a:ext cx="3816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Intelligence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2287440" y="2075040"/>
              <a:ext cx="430560" cy="177840"/>
              <a:chOff x="2287440" y="2075040"/>
              <a:chExt cx="430560" cy="177840"/>
            </a:xfrm>
          </p:grpSpPr>
          <p:sp>
            <p:nvSpPr>
              <p:cNvPr id="2099" name=""/>
              <p:cNvSpPr/>
              <p:nvPr/>
            </p:nvSpPr>
            <p:spPr>
              <a:xfrm>
                <a:off x="2455920" y="2149560"/>
                <a:ext cx="38160" cy="36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87440" y="2075040"/>
                <a:ext cx="4305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Measurement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328480" y="2114640"/>
                <a:ext cx="3344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Science 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542520" y="1866960"/>
              <a:ext cx="514080" cy="138240"/>
              <a:chOff x="542520" y="1866960"/>
              <a:chExt cx="514080" cy="138240"/>
            </a:xfrm>
          </p:grpSpPr>
          <p:sp>
            <p:nvSpPr>
              <p:cNvPr id="2103" name=""/>
              <p:cNvSpPr/>
              <p:nvPr/>
            </p:nvSpPr>
            <p:spPr>
              <a:xfrm>
                <a:off x="746280" y="19209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42520" y="1866960"/>
                <a:ext cx="5140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Arial"/>
                  </a:rPr>
                  <a:t>Product Structuring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>
              <a:off x="2607840" y="1749600"/>
              <a:ext cx="4089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ff"/>
                  </a:solidFill>
                  <a:latin typeface="Arial"/>
                </a:rPr>
                <a:t>Unclassified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3360" y="1860480"/>
              <a:ext cx="2303280" cy="122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96880" y="2301840"/>
              <a:ext cx="23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15840" y="1859040"/>
              <a:ext cx="0" cy="12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03360" y="2789280"/>
              <a:ext cx="23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12840" y="1860480"/>
              <a:ext cx="0" cy="12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49440" y="1863720"/>
              <a:ext cx="0" cy="12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897200" y="1862280"/>
              <a:ext cx="0" cy="12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249640" y="1857240"/>
              <a:ext cx="0" cy="12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593800" y="1860480"/>
              <a:ext cx="0" cy="12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15" name=""/>
          <p:cNvSpPr/>
          <p:nvPr/>
        </p:nvSpPr>
        <p:spPr>
          <a:xfrm>
            <a:off x="3252960" y="1320840"/>
            <a:ext cx="2679480" cy="2011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246480" y="1314360"/>
            <a:ext cx="2692440" cy="20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24240" y="156204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591160" y="15620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281760" y="1335240"/>
            <a:ext cx="2629440" cy="1698480"/>
            <a:chOff x="3281760" y="1335240"/>
            <a:chExt cx="2629440" cy="1698480"/>
          </a:xfrm>
        </p:grpSpPr>
        <p:sp>
          <p:nvSpPr>
            <p:cNvPr id="2120" name=""/>
            <p:cNvSpPr/>
            <p:nvPr/>
          </p:nvSpPr>
          <p:spPr>
            <a:xfrm>
              <a:off x="3340080" y="1692360"/>
              <a:ext cx="251928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334040" y="1690560"/>
              <a:ext cx="0" cy="13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098960" y="16858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552920" y="16858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759200" y="1687680"/>
              <a:ext cx="0" cy="13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851280" y="16858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950000" y="1687680"/>
              <a:ext cx="0" cy="13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333600" y="181296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295440" y="1687680"/>
              <a:ext cx="2125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Key Projects         Q1 1995           Q2 1995            Q3 1995         Q4 1995         Q1 1996        Q2 1996      Q3 1996         Q41996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36840" y="2082960"/>
              <a:ext cx="252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33600" y="2411280"/>
              <a:ext cx="253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333600" y="268776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327840" y="1860480"/>
              <a:ext cx="346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PROJ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344760" y="190980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CLEAN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327840" y="2163600"/>
              <a:ext cx="346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PROJ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317760" y="2214720"/>
              <a:ext cx="366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SPOTLESS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327840" y="2468520"/>
              <a:ext cx="346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PROJ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53040" y="2519280"/>
              <a:ext cx="296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STAIN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327840" y="2773440"/>
              <a:ext cx="346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PROJ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63840" y="2824200"/>
              <a:ext cx="273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DIR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295440" y="2874960"/>
              <a:ext cx="4136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(1997 Launch)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4277160" y="1860480"/>
              <a:ext cx="331200" cy="187560"/>
              <a:chOff x="4277160" y="1860480"/>
              <a:chExt cx="331200" cy="187560"/>
            </a:xfrm>
          </p:grpSpPr>
          <p:sp>
            <p:nvSpPr>
              <p:cNvPr id="2142" name=""/>
              <p:cNvSpPr/>
              <p:nvPr/>
            </p:nvSpPr>
            <p:spPr>
              <a:xfrm>
                <a:off x="4297680" y="1860480"/>
                <a:ext cx="290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United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277160" y="1909800"/>
                <a:ext cx="3312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Kingdom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4040640" y="1854360"/>
              <a:ext cx="3708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Netherlands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837960" y="1854360"/>
              <a:ext cx="3268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Germany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594960" y="1849320"/>
              <a:ext cx="288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France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906440" y="2151000"/>
              <a:ext cx="288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LACA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514400" y="2173320"/>
              <a:ext cx="2595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APR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149" name=""/>
            <p:cNvGrpSpPr/>
            <p:nvPr/>
          </p:nvGrpSpPr>
          <p:grpSpPr>
            <a:xfrm>
              <a:off x="4048560" y="2151000"/>
              <a:ext cx="331200" cy="189000"/>
              <a:chOff x="4048560" y="2151000"/>
              <a:chExt cx="331200" cy="189000"/>
            </a:xfrm>
          </p:grpSpPr>
          <p:sp>
            <p:nvSpPr>
              <p:cNvPr id="2150" name=""/>
              <p:cNvSpPr/>
              <p:nvPr/>
            </p:nvSpPr>
            <p:spPr>
              <a:xfrm>
                <a:off x="4069080" y="2151000"/>
                <a:ext cx="290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United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048560" y="2201760"/>
                <a:ext cx="3312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Kingdom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3821400" y="2441520"/>
              <a:ext cx="290160" cy="189000"/>
              <a:chOff x="3821400" y="2441520"/>
              <a:chExt cx="290160" cy="189000"/>
            </a:xfrm>
          </p:grpSpPr>
          <p:sp>
            <p:nvSpPr>
              <p:cNvPr id="2153" name=""/>
              <p:cNvSpPr/>
              <p:nvPr/>
            </p:nvSpPr>
            <p:spPr>
              <a:xfrm>
                <a:off x="3821400" y="2441520"/>
                <a:ext cx="2901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United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28240" y="2492280"/>
                <a:ext cx="2764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ff"/>
                    </a:solidFill>
                    <a:latin typeface="Times New Roman"/>
                  </a:rPr>
                  <a:t>States</a:t>
                </a:r>
                <a:endParaRPr b="0" lang="en-US" sz="3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155" name=""/>
            <p:cNvSpPr/>
            <p:nvPr/>
          </p:nvSpPr>
          <p:spPr>
            <a:xfrm>
              <a:off x="3281760" y="1335240"/>
              <a:ext cx="1098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ff"/>
                  </a:solidFill>
                  <a:latin typeface="Arial"/>
                </a:rPr>
                <a:t>Events Matrix</a:t>
              </a:r>
              <a:endParaRPr b="0" lang="en-US" sz="11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162400" y="16858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284000" y="2452680"/>
              <a:ext cx="3268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Times New Roman"/>
                </a:rPr>
                <a:t>Germany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19440" y="16876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43480" y="1690560"/>
              <a:ext cx="0" cy="13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19880" y="1685880"/>
              <a:ext cx="0" cy="13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89440" y="1690560"/>
              <a:ext cx="0" cy="13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313960" y="1689120"/>
              <a:ext cx="2703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ff"/>
                  </a:solidFill>
                  <a:latin typeface="Arial"/>
                </a:rPr>
                <a:t>1997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75960" y="1689120"/>
              <a:ext cx="2703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ff"/>
                  </a:solidFill>
                  <a:latin typeface="Arial"/>
                </a:rPr>
                <a:t>1998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640840" y="1689120"/>
              <a:ext cx="2703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ff"/>
                  </a:solidFill>
                  <a:latin typeface="Arial"/>
                </a:rPr>
                <a:t>1999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65" name=""/>
          <p:cNvSpPr/>
          <p:nvPr/>
        </p:nvSpPr>
        <p:spPr>
          <a:xfrm>
            <a:off x="5314680" y="2790720"/>
            <a:ext cx="2613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135840" y="1320840"/>
            <a:ext cx="2679480" cy="2011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129360" y="1314360"/>
            <a:ext cx="2692440" cy="20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208560" y="1562040"/>
            <a:ext cx="212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474040" y="1562040"/>
            <a:ext cx="18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6168240" y="1835280"/>
            <a:ext cx="2570400" cy="1320840"/>
            <a:chOff x="6168240" y="1835280"/>
            <a:chExt cx="2570400" cy="1320840"/>
          </a:xfrm>
        </p:grpSpPr>
        <p:sp>
          <p:nvSpPr>
            <p:cNvPr id="2171" name=""/>
            <p:cNvSpPr/>
            <p:nvPr/>
          </p:nvSpPr>
          <p:spPr>
            <a:xfrm>
              <a:off x="6435720" y="2951280"/>
              <a:ext cx="174600" cy="61920"/>
            </a:xfrm>
            <a:custGeom>
              <a:avLst/>
              <a:gdLst/>
              <a:ahLst/>
              <a:rect l="l" t="t" r="r" b="b"/>
              <a:pathLst>
                <a:path w="110" h="39">
                  <a:moveTo>
                    <a:pt x="0" y="0"/>
                  </a:moveTo>
                  <a:lnTo>
                    <a:pt x="109" y="0"/>
                  </a:lnTo>
                  <a:lnTo>
                    <a:pt x="109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696000" y="2989440"/>
              <a:ext cx="174600" cy="2664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958080" y="2970360"/>
              <a:ext cx="17460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109" y="0"/>
                  </a:lnTo>
                  <a:lnTo>
                    <a:pt x="109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216920" y="2970360"/>
              <a:ext cx="176040" cy="4284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0"/>
                  </a:moveTo>
                  <a:lnTo>
                    <a:pt x="110" y="0"/>
                  </a:lnTo>
                  <a:lnTo>
                    <a:pt x="11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477200" y="299736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738920" y="300528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999560" y="2970360"/>
              <a:ext cx="176040" cy="4284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0"/>
                  </a:moveTo>
                  <a:lnTo>
                    <a:pt x="110" y="0"/>
                  </a:lnTo>
                  <a:lnTo>
                    <a:pt x="11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435720" y="2892600"/>
              <a:ext cx="174600" cy="6012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0" y="0"/>
                  </a:moveTo>
                  <a:lnTo>
                    <a:pt x="109" y="0"/>
                  </a:lnTo>
                  <a:lnTo>
                    <a:pt x="109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696000" y="2906640"/>
              <a:ext cx="174600" cy="84240"/>
            </a:xfrm>
            <a:custGeom>
              <a:avLst/>
              <a:gdLst/>
              <a:ahLst/>
              <a:rect l="l" t="t" r="r" b="b"/>
              <a:pathLst>
                <a:path w="110" h="53">
                  <a:moveTo>
                    <a:pt x="0" y="0"/>
                  </a:moveTo>
                  <a:lnTo>
                    <a:pt x="109" y="0"/>
                  </a:lnTo>
                  <a:lnTo>
                    <a:pt x="109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958080" y="2908440"/>
              <a:ext cx="174600" cy="6336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216920" y="2908440"/>
              <a:ext cx="176040" cy="63360"/>
            </a:xfrm>
            <a:custGeom>
              <a:avLst/>
              <a:gdLst/>
              <a:ahLst/>
              <a:rect l="l" t="t" r="r" b="b"/>
              <a:pathLst>
                <a:path w="111" h="40">
                  <a:moveTo>
                    <a:pt x="0" y="0"/>
                  </a:moveTo>
                  <a:lnTo>
                    <a:pt x="110" y="0"/>
                  </a:lnTo>
                  <a:lnTo>
                    <a:pt x="110" y="39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477200" y="2936880"/>
              <a:ext cx="176040" cy="6192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0"/>
                  </a:moveTo>
                  <a:lnTo>
                    <a:pt x="110" y="0"/>
                  </a:lnTo>
                  <a:lnTo>
                    <a:pt x="110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738920" y="2889360"/>
              <a:ext cx="174600" cy="11736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0"/>
                  </a:moveTo>
                  <a:lnTo>
                    <a:pt x="109" y="0"/>
                  </a:lnTo>
                  <a:lnTo>
                    <a:pt x="109" y="73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999560" y="2908440"/>
              <a:ext cx="176040" cy="63360"/>
            </a:xfrm>
            <a:custGeom>
              <a:avLst/>
              <a:gdLst/>
              <a:ahLst/>
              <a:rect l="l" t="t" r="r" b="b"/>
              <a:pathLst>
                <a:path w="111" h="40">
                  <a:moveTo>
                    <a:pt x="0" y="0"/>
                  </a:moveTo>
                  <a:lnTo>
                    <a:pt x="110" y="0"/>
                  </a:lnTo>
                  <a:lnTo>
                    <a:pt x="110" y="39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435720" y="2862360"/>
              <a:ext cx="174600" cy="31680"/>
            </a:xfrm>
            <a:custGeom>
              <a:avLst/>
              <a:gdLst/>
              <a:ahLst/>
              <a:rect l="l" t="t" r="r" b="b"/>
              <a:pathLst>
                <a:path w="110" h="20">
                  <a:moveTo>
                    <a:pt x="0" y="0"/>
                  </a:moveTo>
                  <a:lnTo>
                    <a:pt x="109" y="0"/>
                  </a:lnTo>
                  <a:lnTo>
                    <a:pt x="109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696000" y="2849400"/>
              <a:ext cx="174600" cy="5904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0" y="0"/>
                  </a:moveTo>
                  <a:lnTo>
                    <a:pt x="109" y="0"/>
                  </a:lnTo>
                  <a:lnTo>
                    <a:pt x="109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58080" y="2770200"/>
              <a:ext cx="174600" cy="13968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0" y="0"/>
                  </a:moveTo>
                  <a:lnTo>
                    <a:pt x="109" y="0"/>
                  </a:lnTo>
                  <a:lnTo>
                    <a:pt x="109" y="8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16920" y="2770200"/>
              <a:ext cx="176040" cy="139680"/>
            </a:xfrm>
            <a:custGeom>
              <a:avLst/>
              <a:gdLst/>
              <a:ahLst/>
              <a:rect l="l" t="t" r="r" b="b"/>
              <a:pathLst>
                <a:path w="111" h="88">
                  <a:moveTo>
                    <a:pt x="0" y="0"/>
                  </a:moveTo>
                  <a:lnTo>
                    <a:pt x="110" y="0"/>
                  </a:lnTo>
                  <a:lnTo>
                    <a:pt x="110" y="8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477200" y="277020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0" y="0"/>
                  </a:moveTo>
                  <a:lnTo>
                    <a:pt x="110" y="0"/>
                  </a:lnTo>
                  <a:lnTo>
                    <a:pt x="110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738920" y="2778120"/>
              <a:ext cx="174600" cy="112680"/>
            </a:xfrm>
            <a:custGeom>
              <a:avLst/>
              <a:gdLst/>
              <a:ahLst/>
              <a:rect l="l" t="t" r="r" b="b"/>
              <a:pathLst>
                <a:path w="110" h="71">
                  <a:moveTo>
                    <a:pt x="0" y="0"/>
                  </a:moveTo>
                  <a:lnTo>
                    <a:pt x="109" y="0"/>
                  </a:lnTo>
                  <a:lnTo>
                    <a:pt x="109" y="70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999560" y="2770200"/>
              <a:ext cx="176040" cy="139680"/>
            </a:xfrm>
            <a:custGeom>
              <a:avLst/>
              <a:gdLst/>
              <a:ahLst/>
              <a:rect l="l" t="t" r="r" b="b"/>
              <a:pathLst>
                <a:path w="111" h="88">
                  <a:moveTo>
                    <a:pt x="0" y="0"/>
                  </a:moveTo>
                  <a:lnTo>
                    <a:pt x="110" y="0"/>
                  </a:lnTo>
                  <a:lnTo>
                    <a:pt x="110" y="8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435720" y="2830680"/>
              <a:ext cx="174600" cy="33120"/>
            </a:xfrm>
            <a:custGeom>
              <a:avLst/>
              <a:gdLst/>
              <a:ahLst/>
              <a:rect l="l" t="t" r="r" b="b"/>
              <a:pathLst>
                <a:path w="110" h="21">
                  <a:moveTo>
                    <a:pt x="0" y="0"/>
                  </a:moveTo>
                  <a:lnTo>
                    <a:pt x="109" y="0"/>
                  </a:lnTo>
                  <a:lnTo>
                    <a:pt x="109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696000" y="2766960"/>
              <a:ext cx="174600" cy="84240"/>
            </a:xfrm>
            <a:custGeom>
              <a:avLst/>
              <a:gdLst/>
              <a:ahLst/>
              <a:rect l="l" t="t" r="r" b="b"/>
              <a:pathLst>
                <a:path w="110" h="53">
                  <a:moveTo>
                    <a:pt x="0" y="0"/>
                  </a:moveTo>
                  <a:lnTo>
                    <a:pt x="109" y="0"/>
                  </a:lnTo>
                  <a:lnTo>
                    <a:pt x="109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958080" y="2741760"/>
              <a:ext cx="174600" cy="2988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0" y="0"/>
                  </a:moveTo>
                  <a:lnTo>
                    <a:pt x="109" y="0"/>
                  </a:lnTo>
                  <a:lnTo>
                    <a:pt x="10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216920" y="27558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477200" y="2736720"/>
              <a:ext cx="176040" cy="34920"/>
            </a:xfrm>
            <a:custGeom>
              <a:avLst/>
              <a:gdLst/>
              <a:ahLst/>
              <a:rect l="l" t="t" r="r" b="b"/>
              <a:pathLst>
                <a:path w="111" h="22">
                  <a:moveTo>
                    <a:pt x="0" y="0"/>
                  </a:moveTo>
                  <a:lnTo>
                    <a:pt x="110" y="0"/>
                  </a:lnTo>
                  <a:lnTo>
                    <a:pt x="110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738920" y="275580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999560" y="2711520"/>
              <a:ext cx="176040" cy="60120"/>
            </a:xfrm>
            <a:custGeom>
              <a:avLst/>
              <a:gdLst/>
              <a:ahLst/>
              <a:rect l="l" t="t" r="r" b="b"/>
              <a:pathLst>
                <a:path w="111" h="38">
                  <a:moveTo>
                    <a:pt x="0" y="0"/>
                  </a:moveTo>
                  <a:lnTo>
                    <a:pt x="110" y="0"/>
                  </a:lnTo>
                  <a:lnTo>
                    <a:pt x="11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435720" y="2786040"/>
              <a:ext cx="174600" cy="46080"/>
            </a:xfrm>
            <a:custGeom>
              <a:avLst/>
              <a:gdLst/>
              <a:ahLst/>
              <a:rect l="l" t="t" r="r" b="b"/>
              <a:pathLst>
                <a:path w="110" h="29">
                  <a:moveTo>
                    <a:pt x="0" y="0"/>
                  </a:moveTo>
                  <a:lnTo>
                    <a:pt x="109" y="0"/>
                  </a:lnTo>
                  <a:lnTo>
                    <a:pt x="109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696000" y="2711520"/>
              <a:ext cx="174600" cy="572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09" y="0"/>
                  </a:lnTo>
                  <a:lnTo>
                    <a:pt x="109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958080" y="2714760"/>
              <a:ext cx="174600" cy="2844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0" y="0"/>
                  </a:moveTo>
                  <a:lnTo>
                    <a:pt x="109" y="0"/>
                  </a:lnTo>
                  <a:lnTo>
                    <a:pt x="10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216920" y="274176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477200" y="270828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0" y="0"/>
                  </a:lnTo>
                  <a:lnTo>
                    <a:pt x="11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738920" y="2727360"/>
              <a:ext cx="174600" cy="302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0" y="0"/>
                  </a:moveTo>
                  <a:lnTo>
                    <a:pt x="109" y="0"/>
                  </a:lnTo>
                  <a:lnTo>
                    <a:pt x="10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999560" y="268272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0" y="0"/>
                  </a:lnTo>
                  <a:lnTo>
                    <a:pt x="11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435720" y="2736720"/>
              <a:ext cx="174600" cy="50760"/>
            </a:xfrm>
            <a:custGeom>
              <a:avLst/>
              <a:gdLst/>
              <a:ahLst/>
              <a:rect l="l" t="t" r="r" b="b"/>
              <a:pathLst>
                <a:path w="110" h="32">
                  <a:moveTo>
                    <a:pt x="0" y="0"/>
                  </a:moveTo>
                  <a:lnTo>
                    <a:pt x="109" y="0"/>
                  </a:lnTo>
                  <a:lnTo>
                    <a:pt x="109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696000" y="2641680"/>
              <a:ext cx="174600" cy="712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0"/>
                  </a:moveTo>
                  <a:lnTo>
                    <a:pt x="109" y="0"/>
                  </a:lnTo>
                  <a:lnTo>
                    <a:pt x="109" y="44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958080" y="268920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216920" y="27162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477200" y="269388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38920" y="270360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999560" y="265896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5720" y="272268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696000" y="2614680"/>
              <a:ext cx="174600" cy="2844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0" y="0"/>
                  </a:moveTo>
                  <a:lnTo>
                    <a:pt x="109" y="0"/>
                  </a:lnTo>
                  <a:lnTo>
                    <a:pt x="10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958080" y="267480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216920" y="27036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77200" y="268128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738920" y="2662200"/>
              <a:ext cx="17460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109" y="0"/>
                  </a:lnTo>
                  <a:lnTo>
                    <a:pt x="109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999560" y="2616120"/>
              <a:ext cx="176040" cy="44640"/>
            </a:xfrm>
            <a:custGeom>
              <a:avLst/>
              <a:gdLst/>
              <a:ahLst/>
              <a:rect l="l" t="t" r="r" b="b"/>
              <a:pathLst>
                <a:path w="111" h="28">
                  <a:moveTo>
                    <a:pt x="0" y="0"/>
                  </a:moveTo>
                  <a:lnTo>
                    <a:pt x="110" y="0"/>
                  </a:lnTo>
                  <a:lnTo>
                    <a:pt x="110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435720" y="2633760"/>
              <a:ext cx="174600" cy="9036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0" y="0"/>
                  </a:moveTo>
                  <a:lnTo>
                    <a:pt x="109" y="0"/>
                  </a:lnTo>
                  <a:lnTo>
                    <a:pt x="109" y="56"/>
                  </a:lnTo>
                  <a:lnTo>
                    <a:pt x="0" y="5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696000" y="2475000"/>
              <a:ext cx="174600" cy="14112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0" y="0"/>
                  </a:moveTo>
                  <a:lnTo>
                    <a:pt x="109" y="0"/>
                  </a:lnTo>
                  <a:lnTo>
                    <a:pt x="109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958080" y="2619360"/>
              <a:ext cx="174600" cy="572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09" y="0"/>
                  </a:lnTo>
                  <a:lnTo>
                    <a:pt x="109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216920" y="267480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0" y="0"/>
                  </a:lnTo>
                  <a:lnTo>
                    <a:pt x="11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477200" y="2597040"/>
              <a:ext cx="176040" cy="8568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0" y="0"/>
                  </a:moveTo>
                  <a:lnTo>
                    <a:pt x="110" y="0"/>
                  </a:lnTo>
                  <a:lnTo>
                    <a:pt x="110" y="53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38920" y="2604960"/>
              <a:ext cx="174600" cy="5904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0" y="0"/>
                  </a:moveTo>
                  <a:lnTo>
                    <a:pt x="109" y="0"/>
                  </a:lnTo>
                  <a:lnTo>
                    <a:pt x="109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999560" y="2560680"/>
              <a:ext cx="176040" cy="572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0" y="0"/>
                  </a:moveTo>
                  <a:lnTo>
                    <a:pt x="110" y="0"/>
                  </a:lnTo>
                  <a:lnTo>
                    <a:pt x="110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35720" y="2577960"/>
              <a:ext cx="174600" cy="572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09" y="0"/>
                  </a:lnTo>
                  <a:lnTo>
                    <a:pt x="109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696000" y="2414520"/>
              <a:ext cx="174600" cy="61920"/>
            </a:xfrm>
            <a:custGeom>
              <a:avLst/>
              <a:gdLst/>
              <a:ahLst/>
              <a:rect l="l" t="t" r="r" b="b"/>
              <a:pathLst>
                <a:path w="110" h="39">
                  <a:moveTo>
                    <a:pt x="0" y="0"/>
                  </a:moveTo>
                  <a:lnTo>
                    <a:pt x="109" y="0"/>
                  </a:lnTo>
                  <a:lnTo>
                    <a:pt x="109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958080" y="2592360"/>
              <a:ext cx="174600" cy="2844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0" y="0"/>
                  </a:moveTo>
                  <a:lnTo>
                    <a:pt x="109" y="0"/>
                  </a:lnTo>
                  <a:lnTo>
                    <a:pt x="10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216920" y="265572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477200" y="2570040"/>
              <a:ext cx="176040" cy="2880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0"/>
                  </a:moveTo>
                  <a:lnTo>
                    <a:pt x="110" y="0"/>
                  </a:lnTo>
                  <a:lnTo>
                    <a:pt x="11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738920" y="2577960"/>
              <a:ext cx="174600" cy="2880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0" y="0"/>
                  </a:moveTo>
                  <a:lnTo>
                    <a:pt x="109" y="0"/>
                  </a:lnTo>
                  <a:lnTo>
                    <a:pt x="10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999560" y="2533680"/>
              <a:ext cx="176040" cy="284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0"/>
                  </a:moveTo>
                  <a:lnTo>
                    <a:pt x="110" y="0"/>
                  </a:lnTo>
                  <a:lnTo>
                    <a:pt x="11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35720" y="2494080"/>
              <a:ext cx="174600" cy="8568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0" y="0"/>
                  </a:moveTo>
                  <a:lnTo>
                    <a:pt x="109" y="0"/>
                  </a:lnTo>
                  <a:lnTo>
                    <a:pt x="109" y="53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96000" y="2316240"/>
              <a:ext cx="174600" cy="10008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0"/>
                  </a:moveTo>
                  <a:lnTo>
                    <a:pt x="109" y="0"/>
                  </a:lnTo>
                  <a:lnTo>
                    <a:pt x="109" y="62"/>
                  </a:lnTo>
                  <a:lnTo>
                    <a:pt x="0" y="62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958080" y="2563920"/>
              <a:ext cx="174600" cy="2988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0" y="0"/>
                  </a:moveTo>
                  <a:lnTo>
                    <a:pt x="109" y="0"/>
                  </a:lnTo>
                  <a:lnTo>
                    <a:pt x="10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216920" y="26370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77200" y="254160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0" y="0"/>
                  </a:lnTo>
                  <a:lnTo>
                    <a:pt x="11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738920" y="2550960"/>
              <a:ext cx="174600" cy="28800"/>
            </a:xfrm>
            <a:custGeom>
              <a:avLst/>
              <a:gdLst/>
              <a:ahLst/>
              <a:rect l="l" t="t" r="r" b="b"/>
              <a:pathLst>
                <a:path w="110" h="18">
                  <a:moveTo>
                    <a:pt x="0" y="0"/>
                  </a:moveTo>
                  <a:lnTo>
                    <a:pt x="109" y="0"/>
                  </a:lnTo>
                  <a:lnTo>
                    <a:pt x="10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999560" y="2506680"/>
              <a:ext cx="176040" cy="284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0"/>
                  </a:moveTo>
                  <a:lnTo>
                    <a:pt x="110" y="0"/>
                  </a:lnTo>
                  <a:lnTo>
                    <a:pt x="11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35720" y="2438280"/>
              <a:ext cx="174600" cy="572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0" y="0"/>
                  </a:moveTo>
                  <a:lnTo>
                    <a:pt x="109" y="0"/>
                  </a:lnTo>
                  <a:lnTo>
                    <a:pt x="109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696000" y="2274840"/>
              <a:ext cx="17460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109" y="0"/>
                  </a:lnTo>
                  <a:lnTo>
                    <a:pt x="109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58080" y="255096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16920" y="26226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77200" y="252720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738920" y="2536920"/>
              <a:ext cx="174600" cy="270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09" y="0"/>
                  </a:lnTo>
                  <a:lnTo>
                    <a:pt x="1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999560" y="249228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435720" y="2341440"/>
              <a:ext cx="174600" cy="9864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0" y="0"/>
                  </a:moveTo>
                  <a:lnTo>
                    <a:pt x="109" y="0"/>
                  </a:lnTo>
                  <a:lnTo>
                    <a:pt x="109" y="61"/>
                  </a:ln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696000" y="2178000"/>
              <a:ext cx="174600" cy="9864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0" y="0"/>
                  </a:moveTo>
                  <a:lnTo>
                    <a:pt x="109" y="0"/>
                  </a:lnTo>
                  <a:lnTo>
                    <a:pt x="109" y="61"/>
                  </a:ln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958080" y="2508120"/>
              <a:ext cx="174600" cy="4464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0"/>
                  </a:moveTo>
                  <a:lnTo>
                    <a:pt x="109" y="0"/>
                  </a:lnTo>
                  <a:lnTo>
                    <a:pt x="109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216920" y="2581200"/>
              <a:ext cx="176040" cy="4284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0"/>
                  </a:moveTo>
                  <a:lnTo>
                    <a:pt x="110" y="0"/>
                  </a:lnTo>
                  <a:lnTo>
                    <a:pt x="11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77200" y="2486160"/>
              <a:ext cx="176040" cy="4284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0"/>
                  </a:moveTo>
                  <a:lnTo>
                    <a:pt x="110" y="0"/>
                  </a:lnTo>
                  <a:lnTo>
                    <a:pt x="11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38920" y="2494080"/>
              <a:ext cx="174600" cy="4428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0"/>
                  </a:moveTo>
                  <a:lnTo>
                    <a:pt x="109" y="0"/>
                  </a:lnTo>
                  <a:lnTo>
                    <a:pt x="109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999560" y="2449440"/>
              <a:ext cx="176040" cy="44640"/>
            </a:xfrm>
            <a:custGeom>
              <a:avLst/>
              <a:gdLst/>
              <a:ahLst/>
              <a:rect l="l" t="t" r="r" b="b"/>
              <a:pathLst>
                <a:path w="111" h="28">
                  <a:moveTo>
                    <a:pt x="0" y="0"/>
                  </a:moveTo>
                  <a:lnTo>
                    <a:pt x="110" y="0"/>
                  </a:lnTo>
                  <a:lnTo>
                    <a:pt x="110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435720" y="2292480"/>
              <a:ext cx="174600" cy="50760"/>
            </a:xfrm>
            <a:custGeom>
              <a:avLst/>
              <a:gdLst/>
              <a:ahLst/>
              <a:rect l="l" t="t" r="r" b="b"/>
              <a:pathLst>
                <a:path w="110" h="32">
                  <a:moveTo>
                    <a:pt x="0" y="0"/>
                  </a:moveTo>
                  <a:lnTo>
                    <a:pt x="109" y="0"/>
                  </a:lnTo>
                  <a:lnTo>
                    <a:pt x="109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96000" y="2127240"/>
              <a:ext cx="174600" cy="52560"/>
            </a:xfrm>
            <a:custGeom>
              <a:avLst/>
              <a:gdLst/>
              <a:ahLst/>
              <a:rect l="l" t="t" r="r" b="b"/>
              <a:pathLst>
                <a:path w="110" h="33">
                  <a:moveTo>
                    <a:pt x="0" y="0"/>
                  </a:moveTo>
                  <a:lnTo>
                    <a:pt x="109" y="0"/>
                  </a:lnTo>
                  <a:lnTo>
                    <a:pt x="109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958080" y="2470320"/>
              <a:ext cx="174600" cy="3960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0" y="0"/>
                  </a:moveTo>
                  <a:lnTo>
                    <a:pt x="109" y="0"/>
                  </a:lnTo>
                  <a:lnTo>
                    <a:pt x="109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216920" y="2558880"/>
              <a:ext cx="17604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0" y="0"/>
                  </a:lnTo>
                  <a:lnTo>
                    <a:pt x="11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477200" y="2430360"/>
              <a:ext cx="176040" cy="572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0" y="0"/>
                  </a:moveTo>
                  <a:lnTo>
                    <a:pt x="110" y="0"/>
                  </a:lnTo>
                  <a:lnTo>
                    <a:pt x="110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738920" y="2425680"/>
              <a:ext cx="174600" cy="6984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0"/>
                  </a:moveTo>
                  <a:lnTo>
                    <a:pt x="109" y="0"/>
                  </a:lnTo>
                  <a:lnTo>
                    <a:pt x="109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999560" y="2381400"/>
              <a:ext cx="176040" cy="69840"/>
            </a:xfrm>
            <a:custGeom>
              <a:avLst/>
              <a:gdLst/>
              <a:ahLst/>
              <a:rect l="l" t="t" r="r" b="b"/>
              <a:pathLst>
                <a:path w="111" h="44">
                  <a:moveTo>
                    <a:pt x="0" y="0"/>
                  </a:moveTo>
                  <a:lnTo>
                    <a:pt x="110" y="0"/>
                  </a:lnTo>
                  <a:lnTo>
                    <a:pt x="110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6391440" y="189972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75240" y="30114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375240" y="27338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75240" y="24559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375240" y="21780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375240" y="19000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91440" y="3011400"/>
              <a:ext cx="18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39144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665316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691344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717408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743580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769464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795492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8217000" y="29955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207120" y="2946240"/>
              <a:ext cx="239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0%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168240" y="2668680"/>
              <a:ext cx="282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100%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68240" y="2390760"/>
              <a:ext cx="282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200%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168240" y="2112840"/>
              <a:ext cx="282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300%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168240" y="1835280"/>
              <a:ext cx="282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400%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361920" y="3017880"/>
              <a:ext cx="3495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Research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594120" y="3017880"/>
              <a:ext cx="412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Developmen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54400" y="3017880"/>
              <a:ext cx="412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Developmen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114680" y="3017880"/>
              <a:ext cx="412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Developmen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00880" y="3017880"/>
              <a:ext cx="354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Marketing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28040" y="3017880"/>
              <a:ext cx="428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Manufacturing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961760" y="3017880"/>
              <a:ext cx="2703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Total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71000" y="2087640"/>
              <a:ext cx="342720" cy="736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0080" y="2108160"/>
              <a:ext cx="1260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231400" y="2043000"/>
              <a:ext cx="358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10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90080" y="2165400"/>
              <a:ext cx="12600" cy="126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31760" y="210024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9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290080" y="2222640"/>
              <a:ext cx="12600" cy="12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31760" y="215748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8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0080" y="2279520"/>
              <a:ext cx="12600" cy="12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231760" y="221472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7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290080" y="2336760"/>
              <a:ext cx="12600" cy="12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31760" y="227160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6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0080" y="2394000"/>
              <a:ext cx="12600" cy="12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31760" y="233028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5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290080" y="2451240"/>
              <a:ext cx="12600" cy="1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231760" y="238752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4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0080" y="2508120"/>
              <a:ext cx="1260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231760" y="244476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3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90080" y="2565360"/>
              <a:ext cx="12600" cy="12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231760" y="250200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2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290080" y="2622600"/>
              <a:ext cx="12600" cy="12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231760" y="2558880"/>
              <a:ext cx="337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Project 1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290080" y="2679840"/>
              <a:ext cx="12600" cy="12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232120" y="261612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Indir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90080" y="2736720"/>
              <a:ext cx="12600" cy="12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230680" y="2673360"/>
              <a:ext cx="366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Sustaining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290080" y="2793960"/>
              <a:ext cx="12600" cy="12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8230680" y="2730600"/>
              <a:ext cx="5079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ff"/>
                  </a:solidFill>
                  <a:latin typeface="Arial"/>
                </a:rPr>
                <a:t>Innovation Suppor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16" name=""/>
          <p:cNvSpPr/>
          <p:nvPr/>
        </p:nvSpPr>
        <p:spPr>
          <a:xfrm>
            <a:off x="6098400" y="1649520"/>
            <a:ext cx="666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" spc="-1" strike="noStrike">
                <a:solidFill>
                  <a:srgbClr val="0000ff"/>
                </a:solidFill>
                <a:latin typeface="Arial"/>
              </a:rPr>
              <a:t>Peak Period Month(s)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17" name=""/>
          <p:cNvGrpSpPr/>
          <p:nvPr/>
        </p:nvGrpSpPr>
        <p:grpSpPr>
          <a:xfrm>
            <a:off x="6396120" y="1881360"/>
            <a:ext cx="1861920" cy="34920"/>
            <a:chOff x="6396120" y="1881360"/>
            <a:chExt cx="1861920" cy="34920"/>
          </a:xfrm>
        </p:grpSpPr>
        <p:sp>
          <p:nvSpPr>
            <p:cNvPr id="2318" name=""/>
            <p:cNvSpPr/>
            <p:nvPr/>
          </p:nvSpPr>
          <p:spPr>
            <a:xfrm>
              <a:off x="6396120" y="1898640"/>
              <a:ext cx="18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05840" y="18813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3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20" name=""/>
          <p:cNvGrpSpPr/>
          <p:nvPr/>
        </p:nvGrpSpPr>
        <p:grpSpPr>
          <a:xfrm>
            <a:off x="6346080" y="1744560"/>
            <a:ext cx="2210760" cy="153360"/>
            <a:chOff x="6346080" y="1744560"/>
            <a:chExt cx="2210760" cy="153360"/>
          </a:xfrm>
        </p:grpSpPr>
        <p:sp>
          <p:nvSpPr>
            <p:cNvPr id="2321" name=""/>
            <p:cNvSpPr/>
            <p:nvPr/>
          </p:nvSpPr>
          <p:spPr>
            <a:xfrm>
              <a:off x="6346080" y="1744560"/>
              <a:ext cx="1579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                </a:t>
              </a: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Sept/Oct                       Oct                          Nov/Dec 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524720" y="1744560"/>
              <a:ext cx="1032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             </a:t>
              </a: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Oct/Nov/Dec                     Oct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23" name=""/>
          <p:cNvSpPr/>
          <p:nvPr/>
        </p:nvSpPr>
        <p:spPr>
          <a:xfrm>
            <a:off x="6404040" y="2736720"/>
            <a:ext cx="17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154200" y="1332000"/>
            <a:ext cx="19299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Arial"/>
              </a:rPr>
              <a:t>Functional  Demand Char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523200" y="1763640"/>
            <a:ext cx="1830240" cy="1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374520" y="1774800"/>
            <a:ext cx="3193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Sept/Oct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638400" y="1774800"/>
            <a:ext cx="3236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Nov/Dec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891840" y="1774800"/>
            <a:ext cx="3085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Dec/Jan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146000" y="1774800"/>
            <a:ext cx="30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Jan/Feb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7416720" y="1774800"/>
            <a:ext cx="3160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Feb/Mar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684920" y="1774800"/>
            <a:ext cx="3175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Mar/Apr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936920" y="1774800"/>
            <a:ext cx="3193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ff"/>
                </a:solidFill>
                <a:latin typeface="Times New Roman"/>
              </a:rPr>
              <a:t>Sept/Oct</a:t>
            </a: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395040" y="218124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254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653880" y="201780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322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906240" y="234936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189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166520" y="244008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161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436520" y="231156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205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688880" y="230508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207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947720" y="2260440"/>
            <a:ext cx="31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218%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252960" y="4121280"/>
            <a:ext cx="2705040" cy="2030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246480" y="4114800"/>
            <a:ext cx="2717640" cy="20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325680" y="4363920"/>
            <a:ext cx="21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611680" y="4363920"/>
            <a:ext cx="19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282480" y="4137120"/>
            <a:ext cx="1814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Arial"/>
              </a:rPr>
              <a:t>Product Generation Map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371760" y="4684680"/>
            <a:ext cx="2478240" cy="39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362400" y="5538960"/>
            <a:ext cx="2489040" cy="34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249080" y="5899320"/>
            <a:ext cx="1629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Year 1         Year 2        Year 3       Year 4        Year 5        Year 6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3306240" y="5583240"/>
            <a:ext cx="536400" cy="202680"/>
            <a:chOff x="3306240" y="5583240"/>
            <a:chExt cx="536400" cy="202680"/>
          </a:xfrm>
        </p:grpSpPr>
        <p:sp>
          <p:nvSpPr>
            <p:cNvPr id="2349" name=""/>
            <p:cNvSpPr/>
            <p:nvPr/>
          </p:nvSpPr>
          <p:spPr>
            <a:xfrm>
              <a:off x="3306960" y="5583240"/>
              <a:ext cx="535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Brand Support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306240" y="5632560"/>
              <a:ext cx="381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Project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3300120" y="4754520"/>
            <a:ext cx="387720" cy="202680"/>
            <a:chOff x="3300120" y="4754520"/>
            <a:chExt cx="387720" cy="202680"/>
          </a:xfrm>
        </p:grpSpPr>
        <p:sp>
          <p:nvSpPr>
            <p:cNvPr id="2352" name=""/>
            <p:cNvSpPr/>
            <p:nvPr/>
          </p:nvSpPr>
          <p:spPr>
            <a:xfrm>
              <a:off x="3300120" y="4754520"/>
              <a:ext cx="3877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Platform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300120" y="4803840"/>
              <a:ext cx="381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Project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3359160" y="5143680"/>
            <a:ext cx="2495520" cy="330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363920" y="5254560"/>
            <a:ext cx="93960" cy="108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396040" y="5251320"/>
            <a:ext cx="93600" cy="108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884840" y="5254560"/>
            <a:ext cx="91800" cy="108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58" name=""/>
          <p:cNvGrpSpPr/>
          <p:nvPr/>
        </p:nvGrpSpPr>
        <p:grpSpPr>
          <a:xfrm>
            <a:off x="3295080" y="5191200"/>
            <a:ext cx="423720" cy="202320"/>
            <a:chOff x="3295080" y="5191200"/>
            <a:chExt cx="423720" cy="202320"/>
          </a:xfrm>
        </p:grpSpPr>
        <p:sp>
          <p:nvSpPr>
            <p:cNvPr id="2359" name=""/>
            <p:cNvSpPr/>
            <p:nvPr/>
          </p:nvSpPr>
          <p:spPr>
            <a:xfrm>
              <a:off x="3296160" y="5191200"/>
              <a:ext cx="4226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Derivativ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295080" y="5240160"/>
              <a:ext cx="381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Arial"/>
                </a:rPr>
                <a:t>Project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3851280" y="4870440"/>
            <a:ext cx="93600" cy="109440"/>
          </a:xfrm>
          <a:prstGeom prst="ellipse">
            <a:avLst/>
          </a:prstGeom>
          <a:solidFill>
            <a:srgbClr val="fd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363920" y="5668920"/>
            <a:ext cx="93960" cy="108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686560" y="5667480"/>
            <a:ext cx="91800" cy="108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405400" y="5667480"/>
            <a:ext cx="93600" cy="1080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41880" y="5668920"/>
            <a:ext cx="95400" cy="108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89520" y="5667480"/>
            <a:ext cx="92160" cy="108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626000" y="5667480"/>
            <a:ext cx="93600" cy="108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4676760" y="4902120"/>
            <a:ext cx="725400" cy="370080"/>
            <a:chOff x="4676760" y="4902120"/>
            <a:chExt cx="725400" cy="370080"/>
          </a:xfrm>
        </p:grpSpPr>
        <p:sp>
          <p:nvSpPr>
            <p:cNvPr id="2369" name=""/>
            <p:cNvSpPr/>
            <p:nvPr/>
          </p:nvSpPr>
          <p:spPr>
            <a:xfrm>
              <a:off x="4676760" y="4902120"/>
              <a:ext cx="69696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345280" y="5230800"/>
              <a:ext cx="5688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25"/>
                  </a:moveTo>
                  <a:lnTo>
                    <a:pt x="7" y="0"/>
                  </a:lnTo>
                  <a:lnTo>
                    <a:pt x="0" y="19"/>
                  </a:lnTo>
                  <a:lnTo>
                    <a:pt x="35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657680" y="4919760"/>
            <a:ext cx="238320" cy="350640"/>
            <a:chOff x="4657680" y="4919760"/>
            <a:chExt cx="238320" cy="350640"/>
          </a:xfrm>
        </p:grpSpPr>
        <p:sp>
          <p:nvSpPr>
            <p:cNvPr id="2372" name=""/>
            <p:cNvSpPr/>
            <p:nvPr/>
          </p:nvSpPr>
          <p:spPr>
            <a:xfrm flipH="1" flipV="1">
              <a:off x="4657680" y="4919760"/>
              <a:ext cx="2174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851360" y="5213520"/>
              <a:ext cx="44640" cy="568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2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4954680" y="5356080"/>
            <a:ext cx="209520" cy="319320"/>
            <a:chOff x="4954680" y="5356080"/>
            <a:chExt cx="209520" cy="319320"/>
          </a:xfrm>
        </p:grpSpPr>
        <p:sp>
          <p:nvSpPr>
            <p:cNvPr id="2375" name=""/>
            <p:cNvSpPr/>
            <p:nvPr/>
          </p:nvSpPr>
          <p:spPr>
            <a:xfrm>
              <a:off x="4954680" y="5356080"/>
              <a:ext cx="19044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19560" y="5618160"/>
              <a:ext cx="4464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lnTo>
                    <a:pt x="15" y="0"/>
                  </a:lnTo>
                  <a:lnTo>
                    <a:pt x="0" y="12"/>
                  </a:lnTo>
                  <a:lnTo>
                    <a:pt x="2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5475240" y="5346720"/>
            <a:ext cx="225360" cy="328680"/>
            <a:chOff x="5475240" y="5346720"/>
            <a:chExt cx="225360" cy="328680"/>
          </a:xfrm>
        </p:grpSpPr>
        <p:sp>
          <p:nvSpPr>
            <p:cNvPr id="2378" name=""/>
            <p:cNvSpPr/>
            <p:nvPr/>
          </p:nvSpPr>
          <p:spPr>
            <a:xfrm>
              <a:off x="5475240" y="5346720"/>
              <a:ext cx="20160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656320" y="5618160"/>
              <a:ext cx="4428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lnTo>
                    <a:pt x="14" y="0"/>
                  </a:lnTo>
                  <a:lnTo>
                    <a:pt x="0" y="13"/>
                  </a:lnTo>
                  <a:lnTo>
                    <a:pt x="2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4916520" y="5364000"/>
            <a:ext cx="31680" cy="301680"/>
            <a:chOff x="4916520" y="5364000"/>
            <a:chExt cx="31680" cy="301680"/>
          </a:xfrm>
        </p:grpSpPr>
        <p:sp>
          <p:nvSpPr>
            <p:cNvPr id="2381" name=""/>
            <p:cNvSpPr/>
            <p:nvPr/>
          </p:nvSpPr>
          <p:spPr>
            <a:xfrm>
              <a:off x="4932360" y="5364000"/>
              <a:ext cx="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916520" y="5608800"/>
              <a:ext cx="31680" cy="568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9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4968720" y="5342040"/>
            <a:ext cx="443160" cy="347400"/>
            <a:chOff x="4968720" y="5342040"/>
            <a:chExt cx="443160" cy="347400"/>
          </a:xfrm>
        </p:grpSpPr>
        <p:sp>
          <p:nvSpPr>
            <p:cNvPr id="2384" name=""/>
            <p:cNvSpPr/>
            <p:nvPr/>
          </p:nvSpPr>
          <p:spPr>
            <a:xfrm>
              <a:off x="4968720" y="5342040"/>
              <a:ext cx="41436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57880" y="564048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3" y="30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3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4394160" y="5365800"/>
            <a:ext cx="33480" cy="299880"/>
            <a:chOff x="4394160" y="5365800"/>
            <a:chExt cx="33480" cy="299880"/>
          </a:xfrm>
        </p:grpSpPr>
        <p:sp>
          <p:nvSpPr>
            <p:cNvPr id="2387" name=""/>
            <p:cNvSpPr/>
            <p:nvPr/>
          </p:nvSpPr>
          <p:spPr>
            <a:xfrm>
              <a:off x="4410000" y="53658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394160" y="5608800"/>
              <a:ext cx="3348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0" y="35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1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89" name=""/>
          <p:cNvGrpSpPr/>
          <p:nvPr/>
        </p:nvGrpSpPr>
        <p:grpSpPr>
          <a:xfrm>
            <a:off x="4438800" y="5349960"/>
            <a:ext cx="206280" cy="328680"/>
            <a:chOff x="4438800" y="5349960"/>
            <a:chExt cx="206280" cy="328680"/>
          </a:xfrm>
        </p:grpSpPr>
        <p:sp>
          <p:nvSpPr>
            <p:cNvPr id="2390" name=""/>
            <p:cNvSpPr/>
            <p:nvPr/>
          </p:nvSpPr>
          <p:spPr>
            <a:xfrm>
              <a:off x="4438800" y="5349960"/>
              <a:ext cx="18720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602240" y="5621400"/>
              <a:ext cx="42840" cy="572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6" y="35"/>
                  </a:moveTo>
                  <a:lnTo>
                    <a:pt x="15" y="0"/>
                  </a:lnTo>
                  <a:lnTo>
                    <a:pt x="0" y="12"/>
                  </a:lnTo>
                  <a:lnTo>
                    <a:pt x="26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>
            <a:off x="4635360" y="4870440"/>
            <a:ext cx="92160" cy="109440"/>
          </a:xfrm>
          <a:prstGeom prst="ellipse">
            <a:avLst/>
          </a:prstGeom>
          <a:solidFill>
            <a:srgbClr val="fd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3935520" y="4948200"/>
            <a:ext cx="436320" cy="312840"/>
            <a:chOff x="3935520" y="4948200"/>
            <a:chExt cx="436320" cy="312840"/>
          </a:xfrm>
        </p:grpSpPr>
        <p:sp>
          <p:nvSpPr>
            <p:cNvPr id="2394" name=""/>
            <p:cNvSpPr/>
            <p:nvPr/>
          </p:nvSpPr>
          <p:spPr>
            <a:xfrm>
              <a:off x="3935520" y="4948200"/>
              <a:ext cx="4078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316400" y="521352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29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3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96" name=""/>
          <p:cNvSpPr/>
          <p:nvPr/>
        </p:nvSpPr>
        <p:spPr>
          <a:xfrm>
            <a:off x="209520" y="4125960"/>
            <a:ext cx="2703600" cy="2025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3040" y="4119480"/>
            <a:ext cx="27162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84040" y="4368960"/>
            <a:ext cx="21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568600" y="43689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09160" y="4122720"/>
            <a:ext cx="1824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Arial"/>
              </a:rPr>
              <a:t>Patent Filings C/T Matrix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739800" y="4721400"/>
            <a:ext cx="2119320" cy="1252440"/>
            <a:chOff x="739800" y="4721400"/>
            <a:chExt cx="2119320" cy="1252440"/>
          </a:xfrm>
        </p:grpSpPr>
        <p:sp>
          <p:nvSpPr>
            <p:cNvPr id="2402" name=""/>
            <p:cNvSpPr/>
            <p:nvPr/>
          </p:nvSpPr>
          <p:spPr>
            <a:xfrm>
              <a:off x="744480" y="4727520"/>
              <a:ext cx="2114640" cy="124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39800" y="4721400"/>
              <a:ext cx="2101680" cy="12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512640" y="4402080"/>
            <a:ext cx="849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Consumer Value Percep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58480" y="454644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Enabling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9920" y="4605480"/>
            <a:ext cx="464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Arial"/>
              </a:rPr>
              <a:t>Technology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04160" y="4516560"/>
            <a:ext cx="40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New Cor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04160" y="4576680"/>
            <a:ext cx="357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Produc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150920" y="4511520"/>
            <a:ext cx="285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152360" y="4572000"/>
            <a:ext cx="365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46040" y="4761000"/>
            <a:ext cx="351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Radic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66120" y="5407200"/>
            <a:ext cx="4442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Incremental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87440" y="5789520"/>
            <a:ext cx="29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96800" y="4968720"/>
            <a:ext cx="288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78360" y="5029200"/>
            <a:ext cx="430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Generat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 flipV="1">
            <a:off x="401400" y="4455720"/>
            <a:ext cx="3380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044800" y="5597640"/>
            <a:ext cx="804600" cy="361800"/>
          </a:xfrm>
          <a:custGeom>
            <a:avLst/>
            <a:gdLst/>
            <a:ahLst/>
            <a:rect l="l" t="t" r="r" b="b"/>
            <a:pathLst>
              <a:path w="507" h="228">
                <a:moveTo>
                  <a:pt x="0" y="227"/>
                </a:moveTo>
                <a:lnTo>
                  <a:pt x="0" y="0"/>
                </a:lnTo>
                <a:lnTo>
                  <a:pt x="50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568520" y="4541760"/>
            <a:ext cx="474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Improveme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067840" y="4546440"/>
            <a:ext cx="342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ff"/>
                </a:solidFill>
                <a:latin typeface="Arial"/>
              </a:rPr>
              <a:t>Varian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552760" y="4726080"/>
            <a:ext cx="288720" cy="1228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496160" y="5365800"/>
            <a:ext cx="4226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Derivativ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037880" y="4905360"/>
            <a:ext cx="387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Platform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81840" y="4683240"/>
            <a:ext cx="5126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Breakthrough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2392200" y="4532400"/>
            <a:ext cx="689400" cy="207360"/>
            <a:chOff x="2392200" y="4532400"/>
            <a:chExt cx="689400" cy="207360"/>
          </a:xfrm>
        </p:grpSpPr>
        <p:sp>
          <p:nvSpPr>
            <p:cNvPr id="2425" name=""/>
            <p:cNvSpPr/>
            <p:nvPr/>
          </p:nvSpPr>
          <p:spPr>
            <a:xfrm>
              <a:off x="2494440" y="4532400"/>
              <a:ext cx="43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Arial"/>
                </a:rPr>
                <a:t>No Chang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392200" y="4586400"/>
              <a:ext cx="689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Arial"/>
                </a:rPr>
                <a:t>(Business benefit only)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2166840" y="5597640"/>
            <a:ext cx="67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1316160" y="6004080"/>
            <a:ext cx="327600" cy="153360"/>
            <a:chOff x="1316160" y="6004080"/>
            <a:chExt cx="327600" cy="153360"/>
          </a:xfrm>
        </p:grpSpPr>
        <p:sp>
          <p:nvSpPr>
            <p:cNvPr id="2429" name=""/>
            <p:cNvSpPr/>
            <p:nvPr/>
          </p:nvSpPr>
          <p:spPr>
            <a:xfrm>
              <a:off x="1316160" y="6033960"/>
              <a:ext cx="306360" cy="100080"/>
            </a:xfrm>
            <a:custGeom>
              <a:avLst/>
              <a:gdLst/>
              <a:ahLst/>
              <a:rect l="l" t="t" r="r" b="b"/>
              <a:pathLst>
                <a:path w="193" h="63">
                  <a:moveTo>
                    <a:pt x="7" y="0"/>
                  </a:moveTo>
                  <a:lnTo>
                    <a:pt x="0" y="7"/>
                  </a:lnTo>
                  <a:lnTo>
                    <a:pt x="0" y="55"/>
                  </a:lnTo>
                  <a:lnTo>
                    <a:pt x="7" y="62"/>
                  </a:lnTo>
                  <a:lnTo>
                    <a:pt x="184" y="62"/>
                  </a:lnTo>
                  <a:lnTo>
                    <a:pt x="192" y="55"/>
                  </a:lnTo>
                  <a:lnTo>
                    <a:pt x="192" y="7"/>
                  </a:lnTo>
                  <a:lnTo>
                    <a:pt x="184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330560" y="6004080"/>
              <a:ext cx="3132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P &amp; G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>
            <a:off x="2076840" y="5575320"/>
            <a:ext cx="535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Brand Suppor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907200" y="4743360"/>
            <a:ext cx="402840" cy="209160"/>
            <a:chOff x="907200" y="4743360"/>
            <a:chExt cx="402840" cy="209160"/>
          </a:xfrm>
        </p:grpSpPr>
        <p:sp>
          <p:nvSpPr>
            <p:cNvPr id="2433" name=""/>
            <p:cNvSpPr/>
            <p:nvPr/>
          </p:nvSpPr>
          <p:spPr>
            <a:xfrm>
              <a:off x="934920" y="4788000"/>
              <a:ext cx="32724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8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8" y="78"/>
                  </a:lnTo>
                  <a:lnTo>
                    <a:pt x="205" y="39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07200" y="4743360"/>
              <a:ext cx="4028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BIOTEC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985320" y="479916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2028240" y="4906800"/>
            <a:ext cx="535680" cy="209160"/>
            <a:chOff x="2028240" y="4906800"/>
            <a:chExt cx="535680" cy="209160"/>
          </a:xfrm>
        </p:grpSpPr>
        <p:sp>
          <p:nvSpPr>
            <p:cNvPr id="2437" name=""/>
            <p:cNvSpPr/>
            <p:nvPr/>
          </p:nvSpPr>
          <p:spPr>
            <a:xfrm>
              <a:off x="2104920" y="4962600"/>
              <a:ext cx="306360" cy="101520"/>
            </a:xfrm>
            <a:custGeom>
              <a:avLst/>
              <a:gdLst/>
              <a:ahLst/>
              <a:rect l="l" t="t" r="r" b="b"/>
              <a:pathLst>
                <a:path w="193" h="64">
                  <a:moveTo>
                    <a:pt x="7" y="0"/>
                  </a:moveTo>
                  <a:lnTo>
                    <a:pt x="0" y="8"/>
                  </a:lnTo>
                  <a:lnTo>
                    <a:pt x="0" y="55"/>
                  </a:lnTo>
                  <a:lnTo>
                    <a:pt x="7" y="63"/>
                  </a:lnTo>
                  <a:lnTo>
                    <a:pt x="185" y="63"/>
                  </a:lnTo>
                  <a:lnTo>
                    <a:pt x="192" y="55"/>
                  </a:lnTo>
                  <a:lnTo>
                    <a:pt x="192" y="8"/>
                  </a:lnTo>
                  <a:lnTo>
                    <a:pt x="185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028240" y="4906800"/>
              <a:ext cx="535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ANTI -TARTA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150280" y="4962600"/>
              <a:ext cx="23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2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2187720" y="5264280"/>
            <a:ext cx="337680" cy="207360"/>
            <a:chOff x="2187720" y="5264280"/>
            <a:chExt cx="337680" cy="207360"/>
          </a:xfrm>
        </p:grpSpPr>
        <p:sp>
          <p:nvSpPr>
            <p:cNvPr id="2441" name=""/>
            <p:cNvSpPr/>
            <p:nvPr/>
          </p:nvSpPr>
          <p:spPr>
            <a:xfrm>
              <a:off x="2187720" y="5319720"/>
              <a:ext cx="306360" cy="101520"/>
            </a:xfrm>
            <a:custGeom>
              <a:avLst/>
              <a:gdLst/>
              <a:ahLst/>
              <a:rect l="l" t="t" r="r" b="b"/>
              <a:pathLst>
                <a:path w="193" h="64">
                  <a:moveTo>
                    <a:pt x="7" y="0"/>
                  </a:moveTo>
                  <a:lnTo>
                    <a:pt x="0" y="8"/>
                  </a:lnTo>
                  <a:lnTo>
                    <a:pt x="0" y="55"/>
                  </a:lnTo>
                  <a:lnTo>
                    <a:pt x="7" y="63"/>
                  </a:lnTo>
                  <a:lnTo>
                    <a:pt x="185" y="63"/>
                  </a:lnTo>
                  <a:lnTo>
                    <a:pt x="192" y="55"/>
                  </a:lnTo>
                  <a:lnTo>
                    <a:pt x="192" y="8"/>
                  </a:lnTo>
                  <a:lnTo>
                    <a:pt x="185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195640" y="5264280"/>
              <a:ext cx="3297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PERIO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243880" y="531828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872280" y="6005520"/>
            <a:ext cx="436680" cy="153360"/>
            <a:chOff x="872280" y="6005520"/>
            <a:chExt cx="436680" cy="153360"/>
          </a:xfrm>
        </p:grpSpPr>
        <p:sp>
          <p:nvSpPr>
            <p:cNvPr id="2445" name=""/>
            <p:cNvSpPr/>
            <p:nvPr/>
          </p:nvSpPr>
          <p:spPr>
            <a:xfrm>
              <a:off x="914400" y="6021360"/>
              <a:ext cx="326880" cy="12708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167" y="0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167" y="79"/>
                  </a:lnTo>
                  <a:lnTo>
                    <a:pt x="205" y="40"/>
                  </a:ln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72280" y="6005520"/>
              <a:ext cx="43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UNILEVE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443600" y="5656320"/>
            <a:ext cx="470160" cy="207360"/>
            <a:chOff x="1443600" y="5656320"/>
            <a:chExt cx="470160" cy="207360"/>
          </a:xfrm>
        </p:grpSpPr>
        <p:sp>
          <p:nvSpPr>
            <p:cNvPr id="2448" name=""/>
            <p:cNvSpPr/>
            <p:nvPr/>
          </p:nvSpPr>
          <p:spPr>
            <a:xfrm>
              <a:off x="1498680" y="5699160"/>
              <a:ext cx="32688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443600" y="5656320"/>
              <a:ext cx="4701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ANTI-STAIN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550160" y="571032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503360" y="5514840"/>
            <a:ext cx="333000" cy="207360"/>
            <a:chOff x="1503360" y="5514840"/>
            <a:chExt cx="333000" cy="207360"/>
          </a:xfrm>
        </p:grpSpPr>
        <p:sp>
          <p:nvSpPr>
            <p:cNvPr id="2452" name=""/>
            <p:cNvSpPr/>
            <p:nvPr/>
          </p:nvSpPr>
          <p:spPr>
            <a:xfrm>
              <a:off x="1503360" y="5557680"/>
              <a:ext cx="328680" cy="12564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168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8" y="78"/>
                  </a:lnTo>
                  <a:lnTo>
                    <a:pt x="206" y="39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506600" y="5514840"/>
              <a:ext cx="3297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PERIO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555200" y="556884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1735920" y="5565600"/>
            <a:ext cx="523440" cy="207360"/>
            <a:chOff x="1735920" y="5565600"/>
            <a:chExt cx="523440" cy="207360"/>
          </a:xfrm>
        </p:grpSpPr>
        <p:sp>
          <p:nvSpPr>
            <p:cNvPr id="2456" name=""/>
            <p:cNvSpPr/>
            <p:nvPr/>
          </p:nvSpPr>
          <p:spPr>
            <a:xfrm>
              <a:off x="1812960" y="5608800"/>
              <a:ext cx="32688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735920" y="5565600"/>
              <a:ext cx="5234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ANTI-TARTA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863000" y="561960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1996200" y="5423040"/>
            <a:ext cx="433440" cy="208800"/>
            <a:chOff x="1996200" y="5423040"/>
            <a:chExt cx="433440" cy="208800"/>
          </a:xfrm>
        </p:grpSpPr>
        <p:sp>
          <p:nvSpPr>
            <p:cNvPr id="2460" name=""/>
            <p:cNvSpPr/>
            <p:nvPr/>
          </p:nvSpPr>
          <p:spPr>
            <a:xfrm>
              <a:off x="2036880" y="5467320"/>
              <a:ext cx="32688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8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8" y="78"/>
                  </a:lnTo>
                  <a:lnTo>
                    <a:pt x="205" y="39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996200" y="5423040"/>
              <a:ext cx="4334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FLUORID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077200" y="5478480"/>
              <a:ext cx="23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2206800" y="5389560"/>
            <a:ext cx="567720" cy="207360"/>
            <a:chOff x="2206800" y="5389560"/>
            <a:chExt cx="567720" cy="207360"/>
          </a:xfrm>
        </p:grpSpPr>
        <p:sp>
          <p:nvSpPr>
            <p:cNvPr id="2464" name=""/>
            <p:cNvSpPr/>
            <p:nvPr/>
          </p:nvSpPr>
          <p:spPr>
            <a:xfrm>
              <a:off x="2303640" y="5432400"/>
              <a:ext cx="326880" cy="12708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167" y="0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167" y="79"/>
                  </a:lnTo>
                  <a:lnTo>
                    <a:pt x="205" y="40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206800" y="5389560"/>
              <a:ext cx="5677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MILD SURFACT-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278800" y="5443560"/>
              <a:ext cx="392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ANTS  10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1733400" y="4913280"/>
            <a:ext cx="438120" cy="208800"/>
            <a:chOff x="1733400" y="4913280"/>
            <a:chExt cx="438120" cy="208800"/>
          </a:xfrm>
        </p:grpSpPr>
        <p:sp>
          <p:nvSpPr>
            <p:cNvPr id="2468" name=""/>
            <p:cNvSpPr/>
            <p:nvPr/>
          </p:nvSpPr>
          <p:spPr>
            <a:xfrm>
              <a:off x="1776240" y="4957920"/>
              <a:ext cx="32724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733400" y="4913280"/>
              <a:ext cx="43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SENSITIV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743840" y="4968720"/>
              <a:ext cx="4107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TEETH - 3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1477800" y="5095800"/>
            <a:ext cx="515880" cy="207360"/>
            <a:chOff x="1477800" y="5095800"/>
            <a:chExt cx="515880" cy="207360"/>
          </a:xfrm>
        </p:grpSpPr>
        <p:sp>
          <p:nvSpPr>
            <p:cNvPr id="2472" name=""/>
            <p:cNvSpPr/>
            <p:nvPr/>
          </p:nvSpPr>
          <p:spPr>
            <a:xfrm>
              <a:off x="1550880" y="5138640"/>
              <a:ext cx="327240" cy="12564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77800" y="5095800"/>
              <a:ext cx="515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GUM HEALT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591560" y="5149800"/>
              <a:ext cx="23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17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1299960" y="4987800"/>
            <a:ext cx="428760" cy="207360"/>
            <a:chOff x="1299960" y="4987800"/>
            <a:chExt cx="428760" cy="207360"/>
          </a:xfrm>
        </p:grpSpPr>
        <p:sp>
          <p:nvSpPr>
            <p:cNvPr id="2476" name=""/>
            <p:cNvSpPr/>
            <p:nvPr/>
          </p:nvSpPr>
          <p:spPr>
            <a:xfrm>
              <a:off x="1336680" y="5030640"/>
              <a:ext cx="328680" cy="12564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168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8" y="78"/>
                  </a:lnTo>
                  <a:lnTo>
                    <a:pt x="206" y="39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299960" y="4987800"/>
              <a:ext cx="4287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TCN TEC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388520" y="504180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1028520" y="5021280"/>
            <a:ext cx="477720" cy="207360"/>
            <a:chOff x="1028520" y="5021280"/>
            <a:chExt cx="477720" cy="207360"/>
          </a:xfrm>
        </p:grpSpPr>
        <p:sp>
          <p:nvSpPr>
            <p:cNvPr id="2480" name=""/>
            <p:cNvSpPr/>
            <p:nvPr/>
          </p:nvSpPr>
          <p:spPr>
            <a:xfrm>
              <a:off x="1081080" y="5076720"/>
              <a:ext cx="306360" cy="100080"/>
            </a:xfrm>
            <a:custGeom>
              <a:avLst/>
              <a:gdLst/>
              <a:ahLst/>
              <a:rect l="l" t="t" r="r" b="b"/>
              <a:pathLst>
                <a:path w="193" h="63">
                  <a:moveTo>
                    <a:pt x="6" y="0"/>
                  </a:moveTo>
                  <a:lnTo>
                    <a:pt x="0" y="7"/>
                  </a:lnTo>
                  <a:lnTo>
                    <a:pt x="0" y="55"/>
                  </a:lnTo>
                  <a:lnTo>
                    <a:pt x="6" y="62"/>
                  </a:lnTo>
                  <a:lnTo>
                    <a:pt x="184" y="62"/>
                  </a:lnTo>
                  <a:lnTo>
                    <a:pt x="192" y="55"/>
                  </a:lnTo>
                  <a:lnTo>
                    <a:pt x="192" y="7"/>
                  </a:lnTo>
                  <a:lnTo>
                    <a:pt x="184" y="0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028520" y="5021280"/>
              <a:ext cx="4777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TCN TECHN.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135800" y="507528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1693080" y="5440320"/>
            <a:ext cx="433440" cy="207360"/>
            <a:chOff x="1693080" y="5440320"/>
            <a:chExt cx="433440" cy="207360"/>
          </a:xfrm>
        </p:grpSpPr>
        <p:sp>
          <p:nvSpPr>
            <p:cNvPr id="2484" name=""/>
            <p:cNvSpPr/>
            <p:nvPr/>
          </p:nvSpPr>
          <p:spPr>
            <a:xfrm>
              <a:off x="1728720" y="5495760"/>
              <a:ext cx="306360" cy="100080"/>
            </a:xfrm>
            <a:custGeom>
              <a:avLst/>
              <a:gdLst/>
              <a:ahLst/>
              <a:rect l="l" t="t" r="r" b="b"/>
              <a:pathLst>
                <a:path w="193" h="63">
                  <a:moveTo>
                    <a:pt x="6" y="0"/>
                  </a:moveTo>
                  <a:lnTo>
                    <a:pt x="0" y="7"/>
                  </a:lnTo>
                  <a:lnTo>
                    <a:pt x="0" y="55"/>
                  </a:lnTo>
                  <a:lnTo>
                    <a:pt x="6" y="62"/>
                  </a:lnTo>
                  <a:lnTo>
                    <a:pt x="184" y="62"/>
                  </a:lnTo>
                  <a:lnTo>
                    <a:pt x="192" y="55"/>
                  </a:lnTo>
                  <a:lnTo>
                    <a:pt x="192" y="7"/>
                  </a:lnTo>
                  <a:lnTo>
                    <a:pt x="184" y="0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693080" y="5440320"/>
              <a:ext cx="4334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FLUORID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783800" y="549432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1822320" y="5683320"/>
            <a:ext cx="308160" cy="207360"/>
            <a:chOff x="1822320" y="5683320"/>
            <a:chExt cx="308160" cy="207360"/>
          </a:xfrm>
        </p:grpSpPr>
        <p:sp>
          <p:nvSpPr>
            <p:cNvPr id="2488" name=""/>
            <p:cNvSpPr/>
            <p:nvPr/>
          </p:nvSpPr>
          <p:spPr>
            <a:xfrm>
              <a:off x="1822320" y="5738760"/>
              <a:ext cx="306360" cy="101520"/>
            </a:xfrm>
            <a:custGeom>
              <a:avLst/>
              <a:gdLst/>
              <a:ahLst/>
              <a:rect l="l" t="t" r="r" b="b"/>
              <a:pathLst>
                <a:path w="193" h="64">
                  <a:moveTo>
                    <a:pt x="6" y="0"/>
                  </a:moveTo>
                  <a:lnTo>
                    <a:pt x="0" y="8"/>
                  </a:lnTo>
                  <a:lnTo>
                    <a:pt x="0" y="55"/>
                  </a:lnTo>
                  <a:lnTo>
                    <a:pt x="6" y="63"/>
                  </a:lnTo>
                  <a:lnTo>
                    <a:pt x="184" y="63"/>
                  </a:lnTo>
                  <a:lnTo>
                    <a:pt x="192" y="55"/>
                  </a:lnTo>
                  <a:lnTo>
                    <a:pt x="192" y="8"/>
                  </a:lnTo>
                  <a:lnTo>
                    <a:pt x="184" y="0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851120" y="5683320"/>
              <a:ext cx="279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DPT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877400" y="573732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930240" y="5118120"/>
            <a:ext cx="587520" cy="262800"/>
            <a:chOff x="930240" y="5118120"/>
            <a:chExt cx="587520" cy="262800"/>
          </a:xfrm>
        </p:grpSpPr>
        <p:sp>
          <p:nvSpPr>
            <p:cNvPr id="2492" name=""/>
            <p:cNvSpPr/>
            <p:nvPr/>
          </p:nvSpPr>
          <p:spPr>
            <a:xfrm>
              <a:off x="1035000" y="5189400"/>
              <a:ext cx="327240" cy="12564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019520" y="5118120"/>
              <a:ext cx="370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LIQUID 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930240" y="5173560"/>
              <a:ext cx="5875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TOOTHCLEANER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085040" y="522756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496" name=""/>
          <p:cNvSpPr/>
          <p:nvPr/>
        </p:nvSpPr>
        <p:spPr>
          <a:xfrm>
            <a:off x="1496880" y="5319720"/>
            <a:ext cx="1352520" cy="639720"/>
          </a:xfrm>
          <a:custGeom>
            <a:avLst/>
            <a:gdLst/>
            <a:ahLst/>
            <a:rect l="l" t="t" r="r" b="b"/>
            <a:pathLst>
              <a:path w="852" h="403">
                <a:moveTo>
                  <a:pt x="0" y="402"/>
                </a:moveTo>
                <a:lnTo>
                  <a:pt x="0" y="0"/>
                </a:lnTo>
                <a:lnTo>
                  <a:pt x="8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1227240" y="5316480"/>
            <a:ext cx="326880" cy="207360"/>
            <a:chOff x="1227240" y="5316480"/>
            <a:chExt cx="326880" cy="207360"/>
          </a:xfrm>
        </p:grpSpPr>
        <p:sp>
          <p:nvSpPr>
            <p:cNvPr id="2498" name=""/>
            <p:cNvSpPr/>
            <p:nvPr/>
          </p:nvSpPr>
          <p:spPr>
            <a:xfrm>
              <a:off x="1227240" y="5359320"/>
              <a:ext cx="326880" cy="12564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249200" y="5316480"/>
              <a:ext cx="279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DTP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278720" y="537048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342800" y="5241960"/>
            <a:ext cx="515880" cy="207360"/>
            <a:chOff x="1342800" y="5241960"/>
            <a:chExt cx="515880" cy="207360"/>
          </a:xfrm>
        </p:grpSpPr>
        <p:sp>
          <p:nvSpPr>
            <p:cNvPr id="2502" name=""/>
            <p:cNvSpPr/>
            <p:nvPr/>
          </p:nvSpPr>
          <p:spPr>
            <a:xfrm>
              <a:off x="1409760" y="5297400"/>
              <a:ext cx="306360" cy="101520"/>
            </a:xfrm>
            <a:custGeom>
              <a:avLst/>
              <a:gdLst/>
              <a:ahLst/>
              <a:rect l="l" t="t" r="r" b="b"/>
              <a:pathLst>
                <a:path w="193" h="64">
                  <a:moveTo>
                    <a:pt x="7" y="0"/>
                  </a:moveTo>
                  <a:lnTo>
                    <a:pt x="0" y="8"/>
                  </a:lnTo>
                  <a:lnTo>
                    <a:pt x="0" y="55"/>
                  </a:lnTo>
                  <a:lnTo>
                    <a:pt x="7" y="63"/>
                  </a:lnTo>
                  <a:lnTo>
                    <a:pt x="185" y="63"/>
                  </a:lnTo>
                  <a:lnTo>
                    <a:pt x="192" y="55"/>
                  </a:lnTo>
                  <a:lnTo>
                    <a:pt x="192" y="8"/>
                  </a:lnTo>
                  <a:lnTo>
                    <a:pt x="185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342800" y="5241960"/>
              <a:ext cx="515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GUM HEALT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6560" y="5295960"/>
              <a:ext cx="2368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5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1783800" y="5241960"/>
            <a:ext cx="402840" cy="207360"/>
            <a:chOff x="1783800" y="5241960"/>
            <a:chExt cx="402840" cy="207360"/>
          </a:xfrm>
        </p:grpSpPr>
        <p:sp>
          <p:nvSpPr>
            <p:cNvPr id="2506" name=""/>
            <p:cNvSpPr/>
            <p:nvPr/>
          </p:nvSpPr>
          <p:spPr>
            <a:xfrm>
              <a:off x="1806480" y="5297400"/>
              <a:ext cx="306360" cy="101520"/>
            </a:xfrm>
            <a:custGeom>
              <a:avLst/>
              <a:gdLst/>
              <a:ahLst/>
              <a:rect l="l" t="t" r="r" b="b"/>
              <a:pathLst>
                <a:path w="193" h="64">
                  <a:moveTo>
                    <a:pt x="7" y="0"/>
                  </a:moveTo>
                  <a:lnTo>
                    <a:pt x="0" y="8"/>
                  </a:lnTo>
                  <a:lnTo>
                    <a:pt x="0" y="55"/>
                  </a:lnTo>
                  <a:lnTo>
                    <a:pt x="7" y="63"/>
                  </a:lnTo>
                  <a:lnTo>
                    <a:pt x="184" y="63"/>
                  </a:lnTo>
                  <a:lnTo>
                    <a:pt x="192" y="55"/>
                  </a:lnTo>
                  <a:lnTo>
                    <a:pt x="192" y="8"/>
                  </a:lnTo>
                  <a:lnTo>
                    <a:pt x="184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783800" y="5241960"/>
              <a:ext cx="4028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BIOTECH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63000" y="529596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1020600" y="4941720"/>
            <a:ext cx="1828800" cy="1019520"/>
          </a:xfrm>
          <a:custGeom>
            <a:avLst/>
            <a:gdLst/>
            <a:ahLst/>
            <a:rect l="l" t="t" r="r" b="b"/>
            <a:pathLst>
              <a:path w="1152" h="642">
                <a:moveTo>
                  <a:pt x="0" y="641"/>
                </a:moveTo>
                <a:lnTo>
                  <a:pt x="0" y="0"/>
                </a:lnTo>
                <a:lnTo>
                  <a:pt x="11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696240" y="4941720"/>
            <a:ext cx="559800" cy="207360"/>
            <a:chOff x="696240" y="4941720"/>
            <a:chExt cx="559800" cy="207360"/>
          </a:xfrm>
        </p:grpSpPr>
        <p:sp>
          <p:nvSpPr>
            <p:cNvPr id="2511" name=""/>
            <p:cNvSpPr/>
            <p:nvPr/>
          </p:nvSpPr>
          <p:spPr>
            <a:xfrm>
              <a:off x="789120" y="4986360"/>
              <a:ext cx="326880" cy="12528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167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67" y="78"/>
                  </a:lnTo>
                  <a:lnTo>
                    <a:pt x="205" y="39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96240" y="4941720"/>
              <a:ext cx="559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NON-FLUORID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40600" y="499572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1341360" y="4878360"/>
            <a:ext cx="581400" cy="208800"/>
            <a:chOff x="1341360" y="4878360"/>
            <a:chExt cx="581400" cy="208800"/>
          </a:xfrm>
        </p:grpSpPr>
        <p:sp>
          <p:nvSpPr>
            <p:cNvPr id="2515" name=""/>
            <p:cNvSpPr/>
            <p:nvPr/>
          </p:nvSpPr>
          <p:spPr>
            <a:xfrm>
              <a:off x="1436760" y="4935600"/>
              <a:ext cx="306360" cy="100080"/>
            </a:xfrm>
            <a:custGeom>
              <a:avLst/>
              <a:gdLst/>
              <a:ahLst/>
              <a:rect l="l" t="t" r="r" b="b"/>
              <a:pathLst>
                <a:path w="193" h="63">
                  <a:moveTo>
                    <a:pt x="7" y="0"/>
                  </a:moveTo>
                  <a:lnTo>
                    <a:pt x="0" y="7"/>
                  </a:lnTo>
                  <a:lnTo>
                    <a:pt x="0" y="55"/>
                  </a:lnTo>
                  <a:lnTo>
                    <a:pt x="7" y="62"/>
                  </a:lnTo>
                  <a:lnTo>
                    <a:pt x="184" y="62"/>
                  </a:lnTo>
                  <a:lnTo>
                    <a:pt x="192" y="55"/>
                  </a:lnTo>
                  <a:lnTo>
                    <a:pt x="192" y="7"/>
                  </a:lnTo>
                  <a:lnTo>
                    <a:pt x="184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341360" y="4878360"/>
              <a:ext cx="581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TOOTHBRUSHES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93280" y="4933800"/>
              <a:ext cx="2109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518" name=""/>
          <p:cNvSpPr/>
          <p:nvPr/>
        </p:nvSpPr>
        <p:spPr>
          <a:xfrm>
            <a:off x="6153120" y="4111560"/>
            <a:ext cx="2720880" cy="2040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146640" y="4105440"/>
            <a:ext cx="2733840" cy="20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227640" y="4356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526600" y="435600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178320" y="4143240"/>
            <a:ext cx="2245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Arial"/>
              </a:rPr>
              <a:t>Internal Verus External Impact 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6657840" y="4732200"/>
            <a:ext cx="1968480" cy="1165320"/>
            <a:chOff x="6657840" y="4732200"/>
            <a:chExt cx="1968480" cy="1165320"/>
          </a:xfrm>
        </p:grpSpPr>
        <p:sp>
          <p:nvSpPr>
            <p:cNvPr id="2524" name=""/>
            <p:cNvSpPr/>
            <p:nvPr/>
          </p:nvSpPr>
          <p:spPr>
            <a:xfrm>
              <a:off x="6661080" y="4737240"/>
              <a:ext cx="1965240" cy="116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657840" y="4732200"/>
              <a:ext cx="1951200" cy="1146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526" name=""/>
          <p:cNvSpPr/>
          <p:nvPr/>
        </p:nvSpPr>
        <p:spPr>
          <a:xfrm>
            <a:off x="7116840" y="4981680"/>
            <a:ext cx="1500120" cy="901440"/>
          </a:xfrm>
          <a:custGeom>
            <a:avLst/>
            <a:gdLst/>
            <a:ahLst/>
            <a:rect l="l" t="t" r="r" b="b"/>
            <a:pathLst>
              <a:path w="945" h="568">
                <a:moveTo>
                  <a:pt x="0" y="567"/>
                </a:moveTo>
                <a:lnTo>
                  <a:pt x="0" y="0"/>
                </a:lnTo>
                <a:lnTo>
                  <a:pt x="9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495560" y="5329080"/>
            <a:ext cx="752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Best Practice Extension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041960" y="4964040"/>
            <a:ext cx="6177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New Best Practic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608880" y="4716360"/>
            <a:ext cx="718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" spc="-1" strike="noStrike">
                <a:solidFill>
                  <a:srgbClr val="0000ff"/>
                </a:solidFill>
                <a:latin typeface="Arial"/>
              </a:rPr>
              <a:t>Best Possible Practice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 flipV="1">
            <a:off x="6373440" y="4484520"/>
            <a:ext cx="28260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7564320" y="5349960"/>
            <a:ext cx="1054080" cy="533160"/>
          </a:xfrm>
          <a:custGeom>
            <a:avLst/>
            <a:gdLst/>
            <a:ahLst/>
            <a:rect l="l" t="t" r="r" b="b"/>
            <a:pathLst>
              <a:path w="664" h="336">
                <a:moveTo>
                  <a:pt x="0" y="335"/>
                </a:moveTo>
                <a:lnTo>
                  <a:pt x="0" y="0"/>
                </a:lnTo>
                <a:lnTo>
                  <a:pt x="66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8059680" y="5546880"/>
            <a:ext cx="558720" cy="336240"/>
          </a:xfrm>
          <a:custGeom>
            <a:avLst/>
            <a:gdLst/>
            <a:ahLst/>
            <a:rect l="l" t="t" r="r" b="b"/>
            <a:pathLst>
              <a:path w="352" h="212">
                <a:moveTo>
                  <a:pt x="0" y="211"/>
                </a:moveTo>
                <a:lnTo>
                  <a:pt x="0" y="0"/>
                </a:lnTo>
                <a:lnTo>
                  <a:pt x="3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7993440" y="5522760"/>
            <a:ext cx="604800" cy="213840"/>
            <a:chOff x="7993440" y="5522760"/>
            <a:chExt cx="604800" cy="213840"/>
          </a:xfrm>
        </p:grpSpPr>
        <p:sp>
          <p:nvSpPr>
            <p:cNvPr id="2534" name=""/>
            <p:cNvSpPr/>
            <p:nvPr/>
          </p:nvSpPr>
          <p:spPr>
            <a:xfrm>
              <a:off x="7994160" y="5522760"/>
              <a:ext cx="604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0000ff"/>
                  </a:solidFill>
                  <a:latin typeface="Arial"/>
                </a:rPr>
                <a:t>Best Appropriate 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993440" y="5583240"/>
              <a:ext cx="3787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0000ff"/>
                  </a:solidFill>
                  <a:latin typeface="Arial"/>
                </a:rPr>
                <a:t>Practic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6114960" y="4543560"/>
            <a:ext cx="553680" cy="207360"/>
            <a:chOff x="6114960" y="4543560"/>
            <a:chExt cx="553680" cy="207360"/>
          </a:xfrm>
        </p:grpSpPr>
        <p:sp>
          <p:nvSpPr>
            <p:cNvPr id="2537" name=""/>
            <p:cNvSpPr/>
            <p:nvPr/>
          </p:nvSpPr>
          <p:spPr>
            <a:xfrm>
              <a:off x="6156720" y="4543560"/>
              <a:ext cx="454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Times New Roman"/>
                </a:rPr>
                <a:t>ENABLING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114960" y="4597560"/>
              <a:ext cx="553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ff"/>
                  </a:solidFill>
                  <a:latin typeface="Times New Roman"/>
                </a:rPr>
                <a:t>TECHNOLOGY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7265520" y="4383000"/>
            <a:ext cx="794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ff"/>
                </a:solidFill>
                <a:latin typeface="Times New Roman"/>
              </a:rPr>
              <a:t>SUPPLY CHAIN BENEFIT</a:t>
            </a:r>
            <a:endParaRPr b="0" lang="en-US" sz="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6188040" y="4765680"/>
            <a:ext cx="547920" cy="959040"/>
            <a:chOff x="6188040" y="4765680"/>
            <a:chExt cx="547920" cy="959040"/>
          </a:xfrm>
        </p:grpSpPr>
        <p:sp>
          <p:nvSpPr>
            <p:cNvPr id="2541" name=""/>
            <p:cNvSpPr/>
            <p:nvPr/>
          </p:nvSpPr>
          <p:spPr>
            <a:xfrm>
              <a:off x="6226920" y="4765680"/>
              <a:ext cx="5065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ff"/>
                  </a:solidFill>
                  <a:latin typeface="Times New Roman"/>
                </a:rPr>
                <a:t>NEW PRINCIPLES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188040" y="4994280"/>
              <a:ext cx="547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ff"/>
                  </a:solidFill>
                  <a:latin typeface="Times New Roman"/>
                </a:rPr>
                <a:t>NEXT GENERATION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266520" y="5313240"/>
              <a:ext cx="464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ff"/>
                  </a:solidFill>
                  <a:latin typeface="Times New Roman"/>
                </a:rPr>
                <a:t>INCREMENTAL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431040" y="5586480"/>
              <a:ext cx="284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ff"/>
                  </a:solidFill>
                  <a:latin typeface="Times New Roman"/>
                </a:rPr>
                <a:t>BASE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6576840" y="4519440"/>
            <a:ext cx="2094840" cy="230400"/>
            <a:chOff x="6576840" y="4519440"/>
            <a:chExt cx="2094840" cy="230400"/>
          </a:xfrm>
        </p:grpSpPr>
        <p:sp>
          <p:nvSpPr>
            <p:cNvPr id="2546" name=""/>
            <p:cNvSpPr/>
            <p:nvPr/>
          </p:nvSpPr>
          <p:spPr>
            <a:xfrm>
              <a:off x="6582240" y="4519440"/>
              <a:ext cx="1067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MAJOR COMPETITIVE                  NEW BENEFIT WITH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587720" y="4519440"/>
              <a:ext cx="601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LONGER TERM BENEFI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090640" y="4519440"/>
              <a:ext cx="581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SHORT TERM BENEFI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576840" y="4565520"/>
              <a:ext cx="40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ADVANTAGE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829920" y="4565520"/>
              <a:ext cx="230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083720" y="4565520"/>
              <a:ext cx="564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DERIVATIVE PROJECT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587360" y="4565520"/>
              <a:ext cx="5493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WIDER APPLICATION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8090280" y="4565520"/>
              <a:ext cx="58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LIMITED APPLICATION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081920" y="4611600"/>
              <a:ext cx="383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ff"/>
                  </a:solidFill>
                  <a:latin typeface="Times New Roman"/>
                </a:rPr>
                <a:t>POTENTIAL</a:t>
              </a:r>
              <a:endParaRPr b="0" lang="en-US" sz="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he Aggregate Project Pla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90680" y="1200240"/>
            <a:ext cx="79675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 State and understand the business strategy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 Characterize projects types and plot them o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/T matrix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 Provide a utilization plan for innovation efforts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ourc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consumption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. Identify existing capacity to do innovation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ourc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vailability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. Define the set of future innovation projects and allocate resources to the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ign portfolio to the business strateg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eratively around the tool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tionalize conflict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resource allocation and strategic portfolio balanc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"/>
          <p:cNvSpPr/>
          <p:nvPr/>
        </p:nvSpPr>
        <p:spPr>
          <a:xfrm>
            <a:off x="461880" y="998640"/>
            <a:ext cx="8524800" cy="1247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5720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Firm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ersonal computer manufactur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347760" indent="-233280">
              <a:lnSpc>
                <a:spcPct val="95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0% of employees have &lt; 1  year experienc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347760" indent="-233280">
              <a:lnSpc>
                <a:spcPct val="95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pid growth, but without the appropriate systems or infrastructure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Proble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463680" y="3560760"/>
            <a:ext cx="8445240" cy="2224080"/>
            <a:chOff x="463680" y="3560760"/>
            <a:chExt cx="8445240" cy="2224080"/>
          </a:xfrm>
        </p:grpSpPr>
        <p:sp>
          <p:nvSpPr>
            <p:cNvPr id="2560" name=""/>
            <p:cNvSpPr/>
            <p:nvPr/>
          </p:nvSpPr>
          <p:spPr>
            <a:xfrm>
              <a:off x="3228840" y="3560760"/>
              <a:ext cx="2708280" cy="2197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254640" y="3560760"/>
              <a:ext cx="2654280" cy="2224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63680" y="3560760"/>
              <a:ext cx="2493720" cy="2197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332400" y="3643200"/>
              <a:ext cx="2417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ycle Time Longer than Competition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667320" y="3643200"/>
              <a:ext cx="18759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xplosion in Resources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341480" y="5432400"/>
              <a:ext cx="506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Months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027320" y="4032360"/>
              <a:ext cx="1001880" cy="1106280"/>
            </a:xfrm>
            <a:custGeom>
              <a:avLst/>
              <a:gdLst/>
              <a:ahLst/>
              <a:rect l="l" t="t" r="r" b="b"/>
              <a:pathLst>
                <a:path w="631" h="697">
                  <a:moveTo>
                    <a:pt x="0" y="0"/>
                  </a:moveTo>
                  <a:lnTo>
                    <a:pt x="630" y="0"/>
                  </a:lnTo>
                  <a:lnTo>
                    <a:pt x="630" y="696"/>
                  </a:lnTo>
                  <a:lnTo>
                    <a:pt x="0" y="69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ff"/>
              </a:solidFill>
              <a:round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98960" y="4703760"/>
              <a:ext cx="100080" cy="430200"/>
            </a:xfrm>
            <a:custGeom>
              <a:avLst/>
              <a:gdLst/>
              <a:ahLst/>
              <a:rect l="l" t="t" r="r" b="b"/>
              <a:pathLst>
                <a:path w="63" h="271">
                  <a:moveTo>
                    <a:pt x="0" y="0"/>
                  </a:moveTo>
                  <a:lnTo>
                    <a:pt x="62" y="0"/>
                  </a:lnTo>
                  <a:lnTo>
                    <a:pt x="62" y="270"/>
                  </a:ln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410000" y="4497480"/>
              <a:ext cx="100080" cy="636480"/>
            </a:xfrm>
            <a:custGeom>
              <a:avLst/>
              <a:gdLst/>
              <a:ahLst/>
              <a:rect l="l" t="t" r="r" b="b"/>
              <a:pathLst>
                <a:path w="63" h="401">
                  <a:moveTo>
                    <a:pt x="0" y="0"/>
                  </a:moveTo>
                  <a:lnTo>
                    <a:pt x="62" y="0"/>
                  </a:lnTo>
                  <a:lnTo>
                    <a:pt x="62" y="400"/>
                  </a:lnTo>
                  <a:lnTo>
                    <a:pt x="0" y="4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16360" y="4216320"/>
              <a:ext cx="100080" cy="917640"/>
            </a:xfrm>
            <a:custGeom>
              <a:avLst/>
              <a:gdLst/>
              <a:ahLst/>
              <a:rect l="l" t="t" r="r" b="b"/>
              <a:pathLst>
                <a:path w="63" h="578">
                  <a:moveTo>
                    <a:pt x="0" y="0"/>
                  </a:moveTo>
                  <a:lnTo>
                    <a:pt x="62" y="0"/>
                  </a:lnTo>
                  <a:lnTo>
                    <a:pt x="62" y="577"/>
                  </a:lnTo>
                  <a:lnTo>
                    <a:pt x="0" y="57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098960" y="4618080"/>
              <a:ext cx="10008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0"/>
                  </a:moveTo>
                  <a:lnTo>
                    <a:pt x="62" y="0"/>
                  </a:lnTo>
                  <a:lnTo>
                    <a:pt x="62" y="54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solidFill>
              <a:srgbClr val="802060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10000" y="439884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0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62"/>
                  </a:lnTo>
                  <a:lnTo>
                    <a:pt x="0" y="0"/>
                  </a:lnTo>
                </a:path>
              </a:pathLst>
            </a:custGeom>
            <a:solidFill>
              <a:srgbClr val="802060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16360" y="408312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0" y="0"/>
                  </a:moveTo>
                  <a:lnTo>
                    <a:pt x="62" y="0"/>
                  </a:lnTo>
                  <a:lnTo>
                    <a:pt x="62" y="84"/>
                  </a:lnTo>
                  <a:lnTo>
                    <a:pt x="0" y="84"/>
                  </a:lnTo>
                  <a:lnTo>
                    <a:pt x="0" y="0"/>
                  </a:lnTo>
                </a:path>
              </a:pathLst>
            </a:custGeom>
            <a:solidFill>
              <a:srgbClr val="802060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010040" y="513252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010040" y="501012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010040" y="488628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010040" y="476568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010040" y="464328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010040" y="452124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010040" y="439884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010040" y="427824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010040" y="415440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010040" y="403236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24440" y="5105520"/>
              <a:ext cx="0" cy="48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4336920" y="5105520"/>
              <a:ext cx="0" cy="48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707000" y="5105520"/>
              <a:ext cx="0" cy="48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4889520" y="5105520"/>
              <a:ext cx="0" cy="48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736800" y="5092560"/>
              <a:ext cx="2192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703320" y="4970520"/>
              <a:ext cx="2754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670200" y="484992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670200" y="472608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15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70200" y="460548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70200" y="448308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25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70200" y="436104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70200" y="423864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35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70200" y="411624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70200" y="3994200"/>
              <a:ext cx="3319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45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034880" y="5197320"/>
              <a:ext cx="3884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346280" y="5197320"/>
              <a:ext cx="3884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50840" y="5197320"/>
              <a:ext cx="3884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186520" y="4335480"/>
              <a:ext cx="598320" cy="43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218200" y="4410000"/>
              <a:ext cx="21960" cy="2880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18200" y="4389480"/>
              <a:ext cx="4903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Technical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218560" y="4468680"/>
              <a:ext cx="4309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Support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218200" y="4599000"/>
              <a:ext cx="21960" cy="2700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7280" bIns="-172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218560" y="4578480"/>
              <a:ext cx="50724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600" spc="-1" strike="noStrike">
                  <a:solidFill>
                    <a:srgbClr val="0000ff"/>
                  </a:solidFill>
                  <a:latin typeface="Arial"/>
                </a:rPr>
                <a:t>Engineers</a:t>
              </a:r>
              <a:endParaRPr b="0" lang="en-US" sz="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929280" y="4143240"/>
              <a:ext cx="1192320" cy="1136880"/>
            </a:xfrm>
            <a:custGeom>
              <a:avLst/>
              <a:gdLst/>
              <a:ahLst/>
              <a:rect l="l" t="t" r="r" b="b"/>
              <a:pathLst>
                <a:path w="751" h="716">
                  <a:moveTo>
                    <a:pt x="0" y="0"/>
                  </a:moveTo>
                  <a:lnTo>
                    <a:pt x="750" y="0"/>
                  </a:lnTo>
                  <a:lnTo>
                    <a:pt x="750" y="715"/>
                  </a:lnTo>
                  <a:lnTo>
                    <a:pt x="0" y="7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ff"/>
              </a:solidFill>
              <a:round/>
            </a:ln>
            <a:effectLst>
              <a:outerShdw dist="53966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42080" y="5084640"/>
              <a:ext cx="478080" cy="114480"/>
            </a:xfrm>
            <a:custGeom>
              <a:avLst/>
              <a:gdLst/>
              <a:ahLst/>
              <a:rect l="l" t="t" r="r" b="b"/>
              <a:pathLst>
                <a:path w="301" h="72">
                  <a:moveTo>
                    <a:pt x="0" y="0"/>
                  </a:moveTo>
                  <a:lnTo>
                    <a:pt x="300" y="0"/>
                  </a:lnTo>
                  <a:lnTo>
                    <a:pt x="300" y="71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959600" y="4799160"/>
              <a:ext cx="160560" cy="115920"/>
            </a:xfrm>
            <a:custGeom>
              <a:avLst/>
              <a:gdLst/>
              <a:ahLst/>
              <a:rect l="l" t="t" r="r" b="b"/>
              <a:pathLst>
                <a:path w="101" h="73">
                  <a:moveTo>
                    <a:pt x="0" y="0"/>
                  </a:moveTo>
                  <a:lnTo>
                    <a:pt x="100" y="0"/>
                  </a:lnTo>
                  <a:lnTo>
                    <a:pt x="100" y="72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088040" y="4514760"/>
              <a:ext cx="1032120" cy="115920"/>
            </a:xfrm>
            <a:custGeom>
              <a:avLst/>
              <a:gdLst/>
              <a:ahLst/>
              <a:rect l="l" t="t" r="r" b="b"/>
              <a:pathLst>
                <a:path w="650" h="73">
                  <a:moveTo>
                    <a:pt x="0" y="0"/>
                  </a:moveTo>
                  <a:lnTo>
                    <a:pt x="649" y="0"/>
                  </a:lnTo>
                  <a:lnTo>
                    <a:pt x="649" y="72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245360" y="4230720"/>
              <a:ext cx="874800" cy="114120"/>
            </a:xfrm>
            <a:custGeom>
              <a:avLst/>
              <a:gdLst/>
              <a:ahLst/>
              <a:rect l="l" t="t" r="r" b="b"/>
              <a:pathLst>
                <a:path w="551" h="72">
                  <a:moveTo>
                    <a:pt x="0" y="0"/>
                  </a:moveTo>
                  <a:lnTo>
                    <a:pt x="550" y="0"/>
                  </a:lnTo>
                  <a:lnTo>
                    <a:pt x="550" y="71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6929280" y="5257440"/>
              <a:ext cx="0" cy="507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7721640" y="5257440"/>
              <a:ext cx="0" cy="507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8118360" y="5257440"/>
              <a:ext cx="0" cy="507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104320" y="528336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104320" y="499896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104320" y="471312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04320" y="442908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104320" y="4143240"/>
              <a:ext cx="28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39280" y="5326200"/>
              <a:ext cx="308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15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233120" y="5326200"/>
              <a:ext cx="308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1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48560" y="5326200"/>
              <a:ext cx="2527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053560" y="5326200"/>
              <a:ext cx="2192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7520" y="5059440"/>
              <a:ext cx="5817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High End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42480" y="5146560"/>
              <a:ext cx="6001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Desk Top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55800" y="4775040"/>
              <a:ext cx="5590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Low End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42480" y="4862520"/>
              <a:ext cx="6001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Desk Top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143560" y="4489560"/>
              <a:ext cx="4629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Server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142120" y="4248000"/>
              <a:ext cx="5940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Portables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982800" y="4095720"/>
              <a:ext cx="1604880" cy="115740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988920" y="4102200"/>
              <a:ext cx="1592280" cy="11444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103400" y="5027760"/>
              <a:ext cx="139680" cy="2188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638360" y="4102200"/>
              <a:ext cx="141120" cy="114444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73320" y="4795920"/>
              <a:ext cx="141120" cy="45072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255680" y="5027760"/>
              <a:ext cx="141480" cy="21888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792440" y="4795920"/>
              <a:ext cx="139680" cy="45072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982800" y="4095720"/>
              <a:ext cx="0" cy="11574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965160" y="5253120"/>
              <a:ext cx="34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965160" y="5137200"/>
              <a:ext cx="34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965160" y="5021280"/>
              <a:ext cx="34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965160" y="4905360"/>
              <a:ext cx="34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965160" y="4789440"/>
              <a:ext cx="34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965160" y="4673520"/>
              <a:ext cx="349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965160" y="4559400"/>
              <a:ext cx="34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965160" y="4441680"/>
              <a:ext cx="349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965160" y="4327560"/>
              <a:ext cx="34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965160" y="4210200"/>
              <a:ext cx="34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965160" y="4095720"/>
              <a:ext cx="34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982800" y="5253120"/>
              <a:ext cx="16048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982800" y="5232240"/>
              <a:ext cx="0" cy="36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1517760" y="5232240"/>
              <a:ext cx="1440" cy="36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2052720" y="5232240"/>
              <a:ext cx="0" cy="36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2587680" y="5232240"/>
              <a:ext cx="1440" cy="36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915840" y="523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865440" y="51228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5840" y="50054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65440" y="4890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15840" y="4773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65440" y="46594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915840" y="4543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65440" y="44276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915840" y="4311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865440" y="41958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15840" y="4079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196640" y="53308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731600" y="53308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266560" y="53308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86120" y="4159080"/>
              <a:ext cx="502920" cy="32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011320" y="4189320"/>
              <a:ext cx="23760" cy="2556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065320" y="4191120"/>
              <a:ext cx="40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w Product -</a:t>
              </a:r>
              <a:endParaRPr b="0" lang="en-US" sz="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066760" y="4262400"/>
              <a:ext cx="31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petitor</a:t>
              </a:r>
              <a:endParaRPr b="0" lang="en-US" sz="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011320" y="4361040"/>
              <a:ext cx="23760" cy="2196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2320" bIns="-2232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065320" y="4361040"/>
              <a:ext cx="43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w Products -</a:t>
              </a:r>
              <a:endParaRPr b="0" lang="en-US" sz="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066760" y="4432320"/>
              <a:ext cx="162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276200" y="3568680"/>
              <a:ext cx="237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Lagged Behind Competitors in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New Product Introductions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se Study: Computer Manufacture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s Business Grew, the Number of Projects Increased..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112920" y="2475000"/>
            <a:ext cx="5072400" cy="3484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2268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21400" y="4184640"/>
            <a:ext cx="2592360" cy="180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172040" y="3338640"/>
            <a:ext cx="4041720" cy="2649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142040" y="5316480"/>
            <a:ext cx="1071720" cy="67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147120" y="2527200"/>
            <a:ext cx="10800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eakthrough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236840" y="3422520"/>
            <a:ext cx="7326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269040" y="4336920"/>
            <a:ext cx="8334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rivativ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676520" y="1676520"/>
            <a:ext cx="1600200" cy="636480"/>
          </a:xfrm>
          <a:prstGeom prst="rect">
            <a:avLst/>
          </a:prstGeom>
          <a:solidFill>
            <a:srgbClr val="02268a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73360" y="1763640"/>
            <a:ext cx="1274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earch &amp; Developmen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469960" y="1924200"/>
            <a:ext cx="197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151760" y="5307120"/>
            <a:ext cx="98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425760" y="1841400"/>
            <a:ext cx="828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w Core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730760" y="1841400"/>
            <a:ext cx="1047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xt Generation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035760" y="1841400"/>
            <a:ext cx="1114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ingle Department Upgrad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032440" y="1308240"/>
            <a:ext cx="1863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cess Chang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512640" y="3855960"/>
            <a:ext cx="14558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ct Chang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221920" y="2832120"/>
            <a:ext cx="866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w Cor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126520" y="3730680"/>
            <a:ext cx="96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2178000" y="3571920"/>
            <a:ext cx="738720" cy="579600"/>
            <a:chOff x="2178000" y="3571920"/>
            <a:chExt cx="738720" cy="579600"/>
          </a:xfrm>
        </p:grpSpPr>
        <p:sp>
          <p:nvSpPr>
            <p:cNvPr id="2696" name=""/>
            <p:cNvSpPr/>
            <p:nvPr/>
          </p:nvSpPr>
          <p:spPr>
            <a:xfrm>
              <a:off x="2315520" y="3571920"/>
              <a:ext cx="4935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Nex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78000" y="3889440"/>
              <a:ext cx="738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Produc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>
            <a:off x="2070000" y="4576680"/>
            <a:ext cx="982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ddition to Product Famil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612800" y="5499000"/>
            <a:ext cx="1454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erivatives and Enhancemen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213680" y="1841400"/>
            <a:ext cx="1079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uning and Incremental Change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6610320" y="4098960"/>
            <a:ext cx="500040" cy="1918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845320" y="5470560"/>
            <a:ext cx="500040" cy="1918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603760" y="5162400"/>
            <a:ext cx="889200" cy="20340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551280" y="4100400"/>
            <a:ext cx="55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Poppy z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815160" y="3254400"/>
            <a:ext cx="501480" cy="1904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599160" y="3105000"/>
            <a:ext cx="50004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7056360" y="3390840"/>
            <a:ext cx="50004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210360" y="3711600"/>
            <a:ext cx="1220760" cy="236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421240" y="2773440"/>
            <a:ext cx="1027080" cy="3286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427800" y="2911320"/>
            <a:ext cx="1219320" cy="236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861080" y="3344760"/>
            <a:ext cx="50148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489640" y="3459240"/>
            <a:ext cx="501480" cy="1918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432400" y="3298680"/>
            <a:ext cx="50184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689360" y="3151080"/>
            <a:ext cx="1220760" cy="236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7729560" y="4259160"/>
            <a:ext cx="50148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496200" y="3940200"/>
            <a:ext cx="500040" cy="1904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628040" y="4816440"/>
            <a:ext cx="776160" cy="1825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284960" y="4579920"/>
            <a:ext cx="889200" cy="20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7535880" y="3894120"/>
            <a:ext cx="888840" cy="20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661000" y="4579920"/>
            <a:ext cx="889200" cy="20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856120" y="4751280"/>
            <a:ext cx="500400" cy="1904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913360" y="4876920"/>
            <a:ext cx="500040" cy="1918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30840" y="4270320"/>
            <a:ext cx="500040" cy="1922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616720" y="4087800"/>
            <a:ext cx="888840" cy="20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7726320" y="2637000"/>
            <a:ext cx="797040" cy="120780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707800" y="2832120"/>
            <a:ext cx="493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Thyme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626520" y="3745080"/>
            <a:ext cx="470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Poppy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815880" y="2911320"/>
            <a:ext cx="419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Sage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056000" y="29113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767360" y="3898800"/>
            <a:ext cx="475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umin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518160" y="3951360"/>
            <a:ext cx="631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Poppy AZ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780240" y="3276720"/>
            <a:ext cx="53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575400" y="3129120"/>
            <a:ext cx="506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996600" y="3414600"/>
            <a:ext cx="56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999680" y="31543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ogen B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890600" y="3365640"/>
            <a:ext cx="63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ogen B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5513040" y="3494160"/>
            <a:ext cx="594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Yarrow Z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490720" y="3311640"/>
            <a:ext cx="667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Yarrow DZ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981400" y="3311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7602840" y="4843440"/>
            <a:ext cx="774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ay LA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8199000" y="4843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477920" y="4614840"/>
            <a:ext cx="689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ay A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5843160" y="4602240"/>
            <a:ext cx="591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Hamlet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911920" y="4923000"/>
            <a:ext cx="60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Juniper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820840" y="4762440"/>
            <a:ext cx="501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Ariel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5706720" y="4305240"/>
            <a:ext cx="659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Othello IIA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5820840" y="4051440"/>
            <a:ext cx="591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Othello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5763960" y="5175360"/>
            <a:ext cx="664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hervil BP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5833080" y="5494320"/>
            <a:ext cx="669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hervil DK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782120" y="3162240"/>
            <a:ext cx="626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Saffron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751160" y="4294080"/>
            <a:ext cx="620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ay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900760" y="5334120"/>
            <a:ext cx="500040" cy="1918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833080" y="5345280"/>
            <a:ext cx="669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hervil LM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1714320" y="2820960"/>
            <a:ext cx="153360" cy="2970000"/>
            <a:chOff x="1714320" y="2820960"/>
            <a:chExt cx="153360" cy="2970000"/>
          </a:xfrm>
        </p:grpSpPr>
        <p:sp>
          <p:nvSpPr>
            <p:cNvPr id="2755" name=""/>
            <p:cNvSpPr/>
            <p:nvPr/>
          </p:nvSpPr>
          <p:spPr>
            <a:xfrm>
              <a:off x="1790640" y="3191040"/>
              <a:ext cx="0" cy="74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790640" y="4676760"/>
              <a:ext cx="0" cy="743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792440" y="2820960"/>
              <a:ext cx="75240" cy="7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56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56844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714320" y="3562200"/>
              <a:ext cx="7596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714680" y="4307040"/>
              <a:ext cx="75600" cy="74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792440" y="5048280"/>
              <a:ext cx="7524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3887640" y="1638360"/>
            <a:ext cx="3808080" cy="153720"/>
            <a:chOff x="3887640" y="1638360"/>
            <a:chExt cx="3808080" cy="153720"/>
          </a:xfrm>
        </p:grpSpPr>
        <p:sp>
          <p:nvSpPr>
            <p:cNvPr id="2762" name=""/>
            <p:cNvSpPr/>
            <p:nvPr/>
          </p:nvSpPr>
          <p:spPr>
            <a:xfrm flipH="1">
              <a:off x="6267240" y="1714680"/>
              <a:ext cx="952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4362480" y="1714680"/>
              <a:ext cx="9525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743880" y="1716120"/>
              <a:ext cx="95184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92760" y="163836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38760" y="163836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887640" y="171612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41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Timing and Impact of Management Attention and Influe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70000" y="3619440"/>
            <a:ext cx="6161040" cy="1805040"/>
          </a:xfrm>
          <a:custGeom>
            <a:avLst/>
            <a:gdLst/>
            <a:ahLst/>
            <a:rect l="l" t="t" r="r" b="b"/>
            <a:pathLst>
              <a:path w="3881" h="1137">
                <a:moveTo>
                  <a:pt x="0" y="1136"/>
                </a:moveTo>
                <a:lnTo>
                  <a:pt x="24" y="1136"/>
                </a:lnTo>
                <a:lnTo>
                  <a:pt x="72" y="1128"/>
                </a:lnTo>
                <a:lnTo>
                  <a:pt x="120" y="1128"/>
                </a:lnTo>
                <a:lnTo>
                  <a:pt x="168" y="1120"/>
                </a:lnTo>
                <a:lnTo>
                  <a:pt x="216" y="1112"/>
                </a:lnTo>
                <a:lnTo>
                  <a:pt x="255" y="1104"/>
                </a:lnTo>
                <a:lnTo>
                  <a:pt x="303" y="1096"/>
                </a:lnTo>
                <a:lnTo>
                  <a:pt x="335" y="1088"/>
                </a:lnTo>
                <a:lnTo>
                  <a:pt x="367" y="1088"/>
                </a:lnTo>
                <a:lnTo>
                  <a:pt x="398" y="1080"/>
                </a:lnTo>
                <a:lnTo>
                  <a:pt x="431" y="1072"/>
                </a:lnTo>
                <a:lnTo>
                  <a:pt x="455" y="1072"/>
                </a:lnTo>
                <a:lnTo>
                  <a:pt x="479" y="1065"/>
                </a:lnTo>
                <a:lnTo>
                  <a:pt x="503" y="1065"/>
                </a:lnTo>
                <a:lnTo>
                  <a:pt x="518" y="1065"/>
                </a:lnTo>
                <a:lnTo>
                  <a:pt x="542" y="1057"/>
                </a:lnTo>
                <a:lnTo>
                  <a:pt x="558" y="1049"/>
                </a:lnTo>
                <a:lnTo>
                  <a:pt x="590" y="1041"/>
                </a:lnTo>
                <a:lnTo>
                  <a:pt x="614" y="1041"/>
                </a:lnTo>
                <a:lnTo>
                  <a:pt x="654" y="1033"/>
                </a:lnTo>
                <a:lnTo>
                  <a:pt x="694" y="1033"/>
                </a:lnTo>
                <a:lnTo>
                  <a:pt x="734" y="1033"/>
                </a:lnTo>
                <a:lnTo>
                  <a:pt x="790" y="1041"/>
                </a:lnTo>
                <a:lnTo>
                  <a:pt x="838" y="1049"/>
                </a:lnTo>
                <a:lnTo>
                  <a:pt x="862" y="1049"/>
                </a:lnTo>
                <a:lnTo>
                  <a:pt x="886" y="1049"/>
                </a:lnTo>
                <a:lnTo>
                  <a:pt x="934" y="1057"/>
                </a:lnTo>
                <a:lnTo>
                  <a:pt x="989" y="1065"/>
                </a:lnTo>
                <a:lnTo>
                  <a:pt x="1021" y="1065"/>
                </a:lnTo>
                <a:lnTo>
                  <a:pt x="1061" y="1065"/>
                </a:lnTo>
                <a:lnTo>
                  <a:pt x="1109" y="1072"/>
                </a:lnTo>
                <a:lnTo>
                  <a:pt x="1133" y="1072"/>
                </a:lnTo>
                <a:lnTo>
                  <a:pt x="1173" y="1080"/>
                </a:lnTo>
                <a:lnTo>
                  <a:pt x="1181" y="1080"/>
                </a:lnTo>
                <a:lnTo>
                  <a:pt x="1189" y="1080"/>
                </a:lnTo>
                <a:lnTo>
                  <a:pt x="1229" y="1088"/>
                </a:lnTo>
                <a:lnTo>
                  <a:pt x="1253" y="1088"/>
                </a:lnTo>
                <a:lnTo>
                  <a:pt x="1301" y="1096"/>
                </a:lnTo>
                <a:lnTo>
                  <a:pt x="1333" y="1096"/>
                </a:lnTo>
                <a:lnTo>
                  <a:pt x="1365" y="1096"/>
                </a:lnTo>
                <a:lnTo>
                  <a:pt x="1420" y="1104"/>
                </a:lnTo>
                <a:lnTo>
                  <a:pt x="1461" y="1104"/>
                </a:lnTo>
                <a:lnTo>
                  <a:pt x="1485" y="1104"/>
                </a:lnTo>
                <a:lnTo>
                  <a:pt x="1532" y="1104"/>
                </a:lnTo>
                <a:lnTo>
                  <a:pt x="1612" y="1104"/>
                </a:lnTo>
                <a:lnTo>
                  <a:pt x="1692" y="1104"/>
                </a:lnTo>
                <a:lnTo>
                  <a:pt x="1772" y="1096"/>
                </a:lnTo>
                <a:lnTo>
                  <a:pt x="1803" y="1096"/>
                </a:lnTo>
                <a:lnTo>
                  <a:pt x="1836" y="1096"/>
                </a:lnTo>
                <a:lnTo>
                  <a:pt x="1899" y="1080"/>
                </a:lnTo>
                <a:lnTo>
                  <a:pt x="1947" y="1072"/>
                </a:lnTo>
                <a:lnTo>
                  <a:pt x="1980" y="1065"/>
                </a:lnTo>
                <a:lnTo>
                  <a:pt x="2004" y="1065"/>
                </a:lnTo>
                <a:lnTo>
                  <a:pt x="2011" y="1057"/>
                </a:lnTo>
                <a:lnTo>
                  <a:pt x="2019" y="1049"/>
                </a:lnTo>
                <a:lnTo>
                  <a:pt x="2035" y="1041"/>
                </a:lnTo>
                <a:lnTo>
                  <a:pt x="2052" y="1025"/>
                </a:lnTo>
                <a:lnTo>
                  <a:pt x="2059" y="1009"/>
                </a:lnTo>
                <a:lnTo>
                  <a:pt x="2067" y="1001"/>
                </a:lnTo>
                <a:lnTo>
                  <a:pt x="2083" y="985"/>
                </a:lnTo>
                <a:lnTo>
                  <a:pt x="2091" y="969"/>
                </a:lnTo>
                <a:lnTo>
                  <a:pt x="2107" y="937"/>
                </a:lnTo>
                <a:lnTo>
                  <a:pt x="2115" y="929"/>
                </a:lnTo>
                <a:lnTo>
                  <a:pt x="2131" y="906"/>
                </a:lnTo>
                <a:lnTo>
                  <a:pt x="2147" y="874"/>
                </a:lnTo>
                <a:lnTo>
                  <a:pt x="2155" y="850"/>
                </a:lnTo>
                <a:lnTo>
                  <a:pt x="2171" y="818"/>
                </a:lnTo>
                <a:lnTo>
                  <a:pt x="2187" y="794"/>
                </a:lnTo>
                <a:lnTo>
                  <a:pt x="2195" y="771"/>
                </a:lnTo>
                <a:lnTo>
                  <a:pt x="2227" y="699"/>
                </a:lnTo>
                <a:lnTo>
                  <a:pt x="2275" y="580"/>
                </a:lnTo>
                <a:lnTo>
                  <a:pt x="2315" y="461"/>
                </a:lnTo>
                <a:lnTo>
                  <a:pt x="2354" y="350"/>
                </a:lnTo>
                <a:lnTo>
                  <a:pt x="2371" y="294"/>
                </a:lnTo>
                <a:lnTo>
                  <a:pt x="2378" y="262"/>
                </a:lnTo>
                <a:lnTo>
                  <a:pt x="2394" y="214"/>
                </a:lnTo>
                <a:lnTo>
                  <a:pt x="2411" y="167"/>
                </a:lnTo>
                <a:lnTo>
                  <a:pt x="2426" y="127"/>
                </a:lnTo>
                <a:lnTo>
                  <a:pt x="2442" y="95"/>
                </a:lnTo>
                <a:lnTo>
                  <a:pt x="2459" y="79"/>
                </a:lnTo>
                <a:lnTo>
                  <a:pt x="2474" y="56"/>
                </a:lnTo>
                <a:lnTo>
                  <a:pt x="2490" y="40"/>
                </a:lnTo>
                <a:lnTo>
                  <a:pt x="2507" y="32"/>
                </a:lnTo>
                <a:lnTo>
                  <a:pt x="2522" y="24"/>
                </a:lnTo>
                <a:lnTo>
                  <a:pt x="2530" y="16"/>
                </a:lnTo>
                <a:lnTo>
                  <a:pt x="2546" y="8"/>
                </a:lnTo>
                <a:lnTo>
                  <a:pt x="2578" y="0"/>
                </a:lnTo>
                <a:lnTo>
                  <a:pt x="2594" y="0"/>
                </a:lnTo>
                <a:lnTo>
                  <a:pt x="2602" y="0"/>
                </a:lnTo>
                <a:lnTo>
                  <a:pt x="2626" y="8"/>
                </a:lnTo>
                <a:lnTo>
                  <a:pt x="2642" y="16"/>
                </a:lnTo>
                <a:lnTo>
                  <a:pt x="2658" y="24"/>
                </a:lnTo>
                <a:lnTo>
                  <a:pt x="2666" y="32"/>
                </a:lnTo>
                <a:lnTo>
                  <a:pt x="2682" y="48"/>
                </a:lnTo>
                <a:lnTo>
                  <a:pt x="2698" y="64"/>
                </a:lnTo>
                <a:lnTo>
                  <a:pt x="2706" y="71"/>
                </a:lnTo>
                <a:lnTo>
                  <a:pt x="2722" y="103"/>
                </a:lnTo>
                <a:lnTo>
                  <a:pt x="2738" y="127"/>
                </a:lnTo>
                <a:lnTo>
                  <a:pt x="2746" y="151"/>
                </a:lnTo>
                <a:lnTo>
                  <a:pt x="2762" y="183"/>
                </a:lnTo>
                <a:lnTo>
                  <a:pt x="2778" y="222"/>
                </a:lnTo>
                <a:lnTo>
                  <a:pt x="2794" y="262"/>
                </a:lnTo>
                <a:lnTo>
                  <a:pt x="2810" y="302"/>
                </a:lnTo>
                <a:lnTo>
                  <a:pt x="2825" y="350"/>
                </a:lnTo>
                <a:lnTo>
                  <a:pt x="2842" y="397"/>
                </a:lnTo>
                <a:lnTo>
                  <a:pt x="2866" y="453"/>
                </a:lnTo>
                <a:lnTo>
                  <a:pt x="2882" y="508"/>
                </a:lnTo>
                <a:lnTo>
                  <a:pt x="2890" y="540"/>
                </a:lnTo>
                <a:lnTo>
                  <a:pt x="2897" y="564"/>
                </a:lnTo>
                <a:lnTo>
                  <a:pt x="2914" y="628"/>
                </a:lnTo>
                <a:lnTo>
                  <a:pt x="2930" y="675"/>
                </a:lnTo>
                <a:lnTo>
                  <a:pt x="2945" y="723"/>
                </a:lnTo>
                <a:lnTo>
                  <a:pt x="2961" y="763"/>
                </a:lnTo>
                <a:lnTo>
                  <a:pt x="2978" y="810"/>
                </a:lnTo>
                <a:lnTo>
                  <a:pt x="2993" y="850"/>
                </a:lnTo>
                <a:lnTo>
                  <a:pt x="3009" y="890"/>
                </a:lnTo>
                <a:lnTo>
                  <a:pt x="3026" y="922"/>
                </a:lnTo>
                <a:lnTo>
                  <a:pt x="3033" y="937"/>
                </a:lnTo>
                <a:lnTo>
                  <a:pt x="3050" y="969"/>
                </a:lnTo>
                <a:lnTo>
                  <a:pt x="3057" y="985"/>
                </a:lnTo>
                <a:lnTo>
                  <a:pt x="3074" y="1009"/>
                </a:lnTo>
                <a:lnTo>
                  <a:pt x="3081" y="1025"/>
                </a:lnTo>
                <a:lnTo>
                  <a:pt x="3089" y="1025"/>
                </a:lnTo>
                <a:lnTo>
                  <a:pt x="3105" y="1041"/>
                </a:lnTo>
                <a:lnTo>
                  <a:pt x="3121" y="1049"/>
                </a:lnTo>
                <a:lnTo>
                  <a:pt x="3145" y="1057"/>
                </a:lnTo>
                <a:lnTo>
                  <a:pt x="3169" y="1065"/>
                </a:lnTo>
                <a:lnTo>
                  <a:pt x="3193" y="1072"/>
                </a:lnTo>
                <a:lnTo>
                  <a:pt x="3217" y="1072"/>
                </a:lnTo>
                <a:lnTo>
                  <a:pt x="3233" y="1065"/>
                </a:lnTo>
                <a:lnTo>
                  <a:pt x="3249" y="1057"/>
                </a:lnTo>
                <a:lnTo>
                  <a:pt x="3256" y="1049"/>
                </a:lnTo>
                <a:lnTo>
                  <a:pt x="3265" y="1041"/>
                </a:lnTo>
                <a:lnTo>
                  <a:pt x="3273" y="1025"/>
                </a:lnTo>
                <a:lnTo>
                  <a:pt x="3280" y="1009"/>
                </a:lnTo>
                <a:lnTo>
                  <a:pt x="3289" y="985"/>
                </a:lnTo>
                <a:lnTo>
                  <a:pt x="3304" y="945"/>
                </a:lnTo>
                <a:lnTo>
                  <a:pt x="3313" y="906"/>
                </a:lnTo>
                <a:lnTo>
                  <a:pt x="3321" y="874"/>
                </a:lnTo>
                <a:lnTo>
                  <a:pt x="3328" y="826"/>
                </a:lnTo>
                <a:lnTo>
                  <a:pt x="3337" y="802"/>
                </a:lnTo>
                <a:lnTo>
                  <a:pt x="3345" y="771"/>
                </a:lnTo>
                <a:lnTo>
                  <a:pt x="3352" y="723"/>
                </a:lnTo>
                <a:lnTo>
                  <a:pt x="3361" y="683"/>
                </a:lnTo>
                <a:lnTo>
                  <a:pt x="3376" y="628"/>
                </a:lnTo>
                <a:lnTo>
                  <a:pt x="3392" y="580"/>
                </a:lnTo>
                <a:lnTo>
                  <a:pt x="3400" y="548"/>
                </a:lnTo>
                <a:lnTo>
                  <a:pt x="3416" y="508"/>
                </a:lnTo>
                <a:lnTo>
                  <a:pt x="3433" y="469"/>
                </a:lnTo>
                <a:lnTo>
                  <a:pt x="3440" y="453"/>
                </a:lnTo>
                <a:lnTo>
                  <a:pt x="3440" y="445"/>
                </a:lnTo>
                <a:lnTo>
                  <a:pt x="3448" y="437"/>
                </a:lnTo>
                <a:lnTo>
                  <a:pt x="3457" y="421"/>
                </a:lnTo>
                <a:lnTo>
                  <a:pt x="3464" y="413"/>
                </a:lnTo>
                <a:lnTo>
                  <a:pt x="3472" y="397"/>
                </a:lnTo>
                <a:lnTo>
                  <a:pt x="3481" y="381"/>
                </a:lnTo>
                <a:lnTo>
                  <a:pt x="3488" y="381"/>
                </a:lnTo>
                <a:lnTo>
                  <a:pt x="3505" y="373"/>
                </a:lnTo>
                <a:lnTo>
                  <a:pt x="3512" y="381"/>
                </a:lnTo>
                <a:lnTo>
                  <a:pt x="3528" y="389"/>
                </a:lnTo>
                <a:lnTo>
                  <a:pt x="3536" y="397"/>
                </a:lnTo>
                <a:lnTo>
                  <a:pt x="3544" y="413"/>
                </a:lnTo>
                <a:lnTo>
                  <a:pt x="3552" y="421"/>
                </a:lnTo>
                <a:lnTo>
                  <a:pt x="3560" y="437"/>
                </a:lnTo>
                <a:lnTo>
                  <a:pt x="3568" y="461"/>
                </a:lnTo>
                <a:lnTo>
                  <a:pt x="3584" y="493"/>
                </a:lnTo>
                <a:lnTo>
                  <a:pt x="3592" y="516"/>
                </a:lnTo>
                <a:lnTo>
                  <a:pt x="3608" y="564"/>
                </a:lnTo>
                <a:lnTo>
                  <a:pt x="3624" y="612"/>
                </a:lnTo>
                <a:lnTo>
                  <a:pt x="3632" y="643"/>
                </a:lnTo>
                <a:lnTo>
                  <a:pt x="3648" y="699"/>
                </a:lnTo>
                <a:lnTo>
                  <a:pt x="3656" y="747"/>
                </a:lnTo>
                <a:lnTo>
                  <a:pt x="3664" y="771"/>
                </a:lnTo>
                <a:lnTo>
                  <a:pt x="3672" y="802"/>
                </a:lnTo>
                <a:lnTo>
                  <a:pt x="3680" y="842"/>
                </a:lnTo>
                <a:lnTo>
                  <a:pt x="3696" y="890"/>
                </a:lnTo>
                <a:lnTo>
                  <a:pt x="3704" y="922"/>
                </a:lnTo>
                <a:lnTo>
                  <a:pt x="3720" y="961"/>
                </a:lnTo>
                <a:lnTo>
                  <a:pt x="3728" y="985"/>
                </a:lnTo>
                <a:lnTo>
                  <a:pt x="3744" y="1009"/>
                </a:lnTo>
                <a:lnTo>
                  <a:pt x="3752" y="1025"/>
                </a:lnTo>
                <a:lnTo>
                  <a:pt x="3759" y="1033"/>
                </a:lnTo>
                <a:lnTo>
                  <a:pt x="3768" y="1049"/>
                </a:lnTo>
                <a:lnTo>
                  <a:pt x="3792" y="1065"/>
                </a:lnTo>
                <a:lnTo>
                  <a:pt x="3831" y="1104"/>
                </a:lnTo>
                <a:lnTo>
                  <a:pt x="3855" y="1128"/>
                </a:lnTo>
                <a:lnTo>
                  <a:pt x="3880" y="1136"/>
                </a:lnTo>
                <a:lnTo>
                  <a:pt x="0" y="1136"/>
                </a:lnTo>
              </a:path>
            </a:pathLst>
          </a:custGeom>
          <a:solidFill>
            <a:srgbClr val="ff0000">
              <a:alpha val="50000"/>
            </a:srgbClr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73960" y="1405080"/>
            <a:ext cx="98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320" y="3348000"/>
            <a:ext cx="10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dex of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2120" y="3348000"/>
            <a:ext cx="24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200" y="3614760"/>
            <a:ext cx="166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ttention an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0960" y="36147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5520" y="3881520"/>
            <a:ext cx="11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9720" y="24415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9720" y="518472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6360" y="4435560"/>
            <a:ext cx="88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6480" y="443556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6360" y="463860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83960" y="471492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45280" y="4842000"/>
            <a:ext cx="98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38000" y="484200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44920" y="5045040"/>
            <a:ext cx="94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70000" y="544212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2960" y="2476440"/>
            <a:ext cx="5106960" cy="2935440"/>
          </a:xfrm>
          <a:custGeom>
            <a:avLst/>
            <a:gdLst/>
            <a:ahLst/>
            <a:rect l="l" t="t" r="r" b="b"/>
            <a:pathLst>
              <a:path w="3217" h="1849">
                <a:moveTo>
                  <a:pt x="0" y="0"/>
                </a:moveTo>
                <a:lnTo>
                  <a:pt x="48" y="8"/>
                </a:lnTo>
                <a:lnTo>
                  <a:pt x="120" y="8"/>
                </a:lnTo>
                <a:lnTo>
                  <a:pt x="199" y="16"/>
                </a:lnTo>
                <a:lnTo>
                  <a:pt x="263" y="24"/>
                </a:lnTo>
                <a:lnTo>
                  <a:pt x="335" y="32"/>
                </a:lnTo>
                <a:lnTo>
                  <a:pt x="407" y="48"/>
                </a:lnTo>
                <a:lnTo>
                  <a:pt x="470" y="56"/>
                </a:lnTo>
                <a:lnTo>
                  <a:pt x="542" y="72"/>
                </a:lnTo>
                <a:lnTo>
                  <a:pt x="598" y="72"/>
                </a:lnTo>
                <a:lnTo>
                  <a:pt x="654" y="80"/>
                </a:lnTo>
                <a:lnTo>
                  <a:pt x="718" y="96"/>
                </a:lnTo>
                <a:lnTo>
                  <a:pt x="766" y="112"/>
                </a:lnTo>
                <a:lnTo>
                  <a:pt x="814" y="119"/>
                </a:lnTo>
                <a:lnTo>
                  <a:pt x="869" y="135"/>
                </a:lnTo>
                <a:lnTo>
                  <a:pt x="910" y="135"/>
                </a:lnTo>
                <a:lnTo>
                  <a:pt x="949" y="151"/>
                </a:lnTo>
                <a:lnTo>
                  <a:pt x="973" y="159"/>
                </a:lnTo>
                <a:lnTo>
                  <a:pt x="997" y="167"/>
                </a:lnTo>
                <a:lnTo>
                  <a:pt x="1037" y="183"/>
                </a:lnTo>
                <a:lnTo>
                  <a:pt x="1068" y="199"/>
                </a:lnTo>
                <a:lnTo>
                  <a:pt x="1116" y="215"/>
                </a:lnTo>
                <a:lnTo>
                  <a:pt x="1157" y="239"/>
                </a:lnTo>
                <a:lnTo>
                  <a:pt x="1188" y="263"/>
                </a:lnTo>
                <a:lnTo>
                  <a:pt x="1228" y="287"/>
                </a:lnTo>
                <a:lnTo>
                  <a:pt x="1269" y="319"/>
                </a:lnTo>
                <a:lnTo>
                  <a:pt x="1316" y="350"/>
                </a:lnTo>
                <a:lnTo>
                  <a:pt x="1356" y="390"/>
                </a:lnTo>
                <a:lnTo>
                  <a:pt x="1396" y="422"/>
                </a:lnTo>
                <a:lnTo>
                  <a:pt x="1436" y="454"/>
                </a:lnTo>
                <a:lnTo>
                  <a:pt x="1476" y="502"/>
                </a:lnTo>
                <a:lnTo>
                  <a:pt x="1516" y="542"/>
                </a:lnTo>
                <a:lnTo>
                  <a:pt x="1556" y="589"/>
                </a:lnTo>
                <a:lnTo>
                  <a:pt x="1596" y="645"/>
                </a:lnTo>
                <a:lnTo>
                  <a:pt x="1620" y="669"/>
                </a:lnTo>
                <a:lnTo>
                  <a:pt x="1659" y="717"/>
                </a:lnTo>
                <a:lnTo>
                  <a:pt x="1740" y="820"/>
                </a:lnTo>
                <a:lnTo>
                  <a:pt x="1819" y="908"/>
                </a:lnTo>
                <a:lnTo>
                  <a:pt x="1907" y="1012"/>
                </a:lnTo>
                <a:lnTo>
                  <a:pt x="1987" y="1091"/>
                </a:lnTo>
                <a:lnTo>
                  <a:pt x="2075" y="1171"/>
                </a:lnTo>
                <a:lnTo>
                  <a:pt x="2162" y="1251"/>
                </a:lnTo>
                <a:lnTo>
                  <a:pt x="2242" y="1322"/>
                </a:lnTo>
                <a:lnTo>
                  <a:pt x="2290" y="1354"/>
                </a:lnTo>
                <a:lnTo>
                  <a:pt x="2338" y="1394"/>
                </a:lnTo>
                <a:lnTo>
                  <a:pt x="2417" y="1458"/>
                </a:lnTo>
                <a:lnTo>
                  <a:pt x="2489" y="1513"/>
                </a:lnTo>
                <a:lnTo>
                  <a:pt x="2561" y="1561"/>
                </a:lnTo>
                <a:lnTo>
                  <a:pt x="2625" y="1601"/>
                </a:lnTo>
                <a:lnTo>
                  <a:pt x="2688" y="1641"/>
                </a:lnTo>
                <a:lnTo>
                  <a:pt x="2745" y="1673"/>
                </a:lnTo>
                <a:lnTo>
                  <a:pt x="2793" y="1697"/>
                </a:lnTo>
                <a:lnTo>
                  <a:pt x="2808" y="1705"/>
                </a:lnTo>
                <a:lnTo>
                  <a:pt x="2889" y="1736"/>
                </a:lnTo>
                <a:lnTo>
                  <a:pt x="3056" y="1792"/>
                </a:lnTo>
                <a:lnTo>
                  <a:pt x="3136" y="1816"/>
                </a:lnTo>
                <a:lnTo>
                  <a:pt x="3152" y="1824"/>
                </a:lnTo>
                <a:lnTo>
                  <a:pt x="3159" y="1824"/>
                </a:lnTo>
                <a:lnTo>
                  <a:pt x="3176" y="1832"/>
                </a:lnTo>
                <a:lnTo>
                  <a:pt x="3200" y="1840"/>
                </a:lnTo>
                <a:lnTo>
                  <a:pt x="3216" y="1848"/>
                </a:lnTo>
                <a:lnTo>
                  <a:pt x="3207" y="1848"/>
                </a:lnTo>
                <a:lnTo>
                  <a:pt x="3200" y="1848"/>
                </a:lnTo>
                <a:lnTo>
                  <a:pt x="3183" y="1848"/>
                </a:lnTo>
                <a:lnTo>
                  <a:pt x="3159" y="1848"/>
                </a:lnTo>
                <a:lnTo>
                  <a:pt x="3152" y="1848"/>
                </a:lnTo>
                <a:lnTo>
                  <a:pt x="3120" y="1840"/>
                </a:lnTo>
                <a:lnTo>
                  <a:pt x="3112" y="1840"/>
                </a:lnTo>
                <a:lnTo>
                  <a:pt x="3064" y="1832"/>
                </a:lnTo>
                <a:lnTo>
                  <a:pt x="2968" y="1816"/>
                </a:lnTo>
                <a:lnTo>
                  <a:pt x="2880" y="1792"/>
                </a:lnTo>
                <a:lnTo>
                  <a:pt x="2793" y="1768"/>
                </a:lnTo>
                <a:lnTo>
                  <a:pt x="2753" y="1752"/>
                </a:lnTo>
                <a:lnTo>
                  <a:pt x="2729" y="1744"/>
                </a:lnTo>
                <a:lnTo>
                  <a:pt x="2681" y="1721"/>
                </a:lnTo>
                <a:lnTo>
                  <a:pt x="2633" y="1705"/>
                </a:lnTo>
                <a:lnTo>
                  <a:pt x="2585" y="1681"/>
                </a:lnTo>
                <a:lnTo>
                  <a:pt x="2521" y="1657"/>
                </a:lnTo>
                <a:lnTo>
                  <a:pt x="2449" y="1617"/>
                </a:lnTo>
                <a:lnTo>
                  <a:pt x="2386" y="1585"/>
                </a:lnTo>
                <a:lnTo>
                  <a:pt x="2305" y="1537"/>
                </a:lnTo>
                <a:lnTo>
                  <a:pt x="2266" y="1521"/>
                </a:lnTo>
                <a:lnTo>
                  <a:pt x="2226" y="1498"/>
                </a:lnTo>
                <a:lnTo>
                  <a:pt x="2147" y="1450"/>
                </a:lnTo>
                <a:lnTo>
                  <a:pt x="2066" y="1394"/>
                </a:lnTo>
                <a:lnTo>
                  <a:pt x="1987" y="1338"/>
                </a:lnTo>
                <a:lnTo>
                  <a:pt x="1907" y="1274"/>
                </a:lnTo>
                <a:lnTo>
                  <a:pt x="1819" y="1203"/>
                </a:lnTo>
                <a:lnTo>
                  <a:pt x="1740" y="1131"/>
                </a:lnTo>
                <a:lnTo>
                  <a:pt x="1659" y="1059"/>
                </a:lnTo>
                <a:lnTo>
                  <a:pt x="1620" y="1020"/>
                </a:lnTo>
                <a:lnTo>
                  <a:pt x="1580" y="980"/>
                </a:lnTo>
                <a:lnTo>
                  <a:pt x="1500" y="908"/>
                </a:lnTo>
                <a:lnTo>
                  <a:pt x="1420" y="836"/>
                </a:lnTo>
                <a:lnTo>
                  <a:pt x="1340" y="781"/>
                </a:lnTo>
                <a:lnTo>
                  <a:pt x="1252" y="725"/>
                </a:lnTo>
                <a:lnTo>
                  <a:pt x="1173" y="685"/>
                </a:lnTo>
                <a:lnTo>
                  <a:pt x="1101" y="645"/>
                </a:lnTo>
                <a:lnTo>
                  <a:pt x="1013" y="621"/>
                </a:lnTo>
                <a:lnTo>
                  <a:pt x="973" y="605"/>
                </a:lnTo>
                <a:lnTo>
                  <a:pt x="949" y="597"/>
                </a:lnTo>
                <a:lnTo>
                  <a:pt x="910" y="581"/>
                </a:lnTo>
                <a:lnTo>
                  <a:pt x="869" y="581"/>
                </a:lnTo>
                <a:lnTo>
                  <a:pt x="814" y="566"/>
                </a:lnTo>
                <a:lnTo>
                  <a:pt x="766" y="558"/>
                </a:lnTo>
                <a:lnTo>
                  <a:pt x="709" y="542"/>
                </a:lnTo>
                <a:lnTo>
                  <a:pt x="654" y="534"/>
                </a:lnTo>
                <a:lnTo>
                  <a:pt x="598" y="526"/>
                </a:lnTo>
                <a:lnTo>
                  <a:pt x="542" y="518"/>
                </a:lnTo>
                <a:lnTo>
                  <a:pt x="479" y="518"/>
                </a:lnTo>
                <a:lnTo>
                  <a:pt x="407" y="502"/>
                </a:lnTo>
                <a:lnTo>
                  <a:pt x="343" y="502"/>
                </a:lnTo>
                <a:lnTo>
                  <a:pt x="271" y="494"/>
                </a:lnTo>
                <a:lnTo>
                  <a:pt x="199" y="486"/>
                </a:lnTo>
                <a:lnTo>
                  <a:pt x="111" y="478"/>
                </a:lnTo>
                <a:lnTo>
                  <a:pt x="39" y="470"/>
                </a:lnTo>
                <a:lnTo>
                  <a:pt x="0" y="47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27880" y="1806480"/>
            <a:ext cx="106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5000" y="180648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3840" y="1984320"/>
            <a:ext cx="104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1680" y="180648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74680" y="180648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06800" y="1984320"/>
            <a:ext cx="118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nvestig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360" y="2008080"/>
            <a:ext cx="18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1806480"/>
            <a:ext cx="67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9080" y="180648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28280" y="198432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6480" y="1806480"/>
            <a:ext cx="950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2080" y="180648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3480" y="198432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99800" y="180648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ilo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22720" y="180648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55360" y="19843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71640" y="1806480"/>
            <a:ext cx="131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21400" y="1830240"/>
            <a:ext cx="18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2000" y="1984320"/>
            <a:ext cx="1146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133880" y="2273040"/>
            <a:ext cx="0" cy="3162600"/>
            <a:chOff x="4133880" y="2273040"/>
            <a:chExt cx="0" cy="3162600"/>
          </a:xfrm>
        </p:grpSpPr>
        <p:sp>
          <p:nvSpPr>
            <p:cNvPr id="129" name=""/>
            <p:cNvSpPr/>
            <p:nvPr/>
          </p:nvSpPr>
          <p:spPr>
            <a:xfrm flipV="1">
              <a:off x="4133880" y="5321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133880" y="5117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133880" y="49147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3880" y="47113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133880" y="45086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33880" y="43048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33880" y="41018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33880" y="3898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133880" y="3695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133880" y="3492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133880" y="3288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133880" y="3086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133880" y="2882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133880" y="26798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133880" y="2476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33880" y="2273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07200" y="2273040"/>
            <a:ext cx="0" cy="3162600"/>
            <a:chOff x="7207200" y="2273040"/>
            <a:chExt cx="0" cy="3162600"/>
          </a:xfrm>
        </p:grpSpPr>
        <p:sp>
          <p:nvSpPr>
            <p:cNvPr id="146" name=""/>
            <p:cNvSpPr/>
            <p:nvPr/>
          </p:nvSpPr>
          <p:spPr>
            <a:xfrm flipV="1">
              <a:off x="7207200" y="5321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207200" y="5117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207200" y="49147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207200" y="47113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07200" y="45086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07200" y="43048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207200" y="41018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207200" y="3898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207200" y="3695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207200" y="3492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207200" y="3288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207200" y="3086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07200" y="2882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207200" y="26798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207200" y="2476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207200" y="2273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105000" y="2273040"/>
            <a:ext cx="0" cy="3162600"/>
            <a:chOff x="3105000" y="2273040"/>
            <a:chExt cx="0" cy="3162600"/>
          </a:xfrm>
        </p:grpSpPr>
        <p:sp>
          <p:nvSpPr>
            <p:cNvPr id="163" name=""/>
            <p:cNvSpPr/>
            <p:nvPr/>
          </p:nvSpPr>
          <p:spPr>
            <a:xfrm flipV="1">
              <a:off x="3105000" y="5321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105000" y="5117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105000" y="49147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05000" y="47113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105000" y="45086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105000" y="43048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05000" y="41018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105000" y="3898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5000" y="3695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05000" y="3492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105000" y="3288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105000" y="3086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105000" y="2882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05000" y="26798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05000" y="2476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05000" y="2273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75360" y="2273040"/>
            <a:ext cx="0" cy="3162600"/>
            <a:chOff x="5175360" y="2273040"/>
            <a:chExt cx="0" cy="3162600"/>
          </a:xfrm>
        </p:grpSpPr>
        <p:sp>
          <p:nvSpPr>
            <p:cNvPr id="180" name=""/>
            <p:cNvSpPr/>
            <p:nvPr/>
          </p:nvSpPr>
          <p:spPr>
            <a:xfrm flipV="1">
              <a:off x="5175360" y="5321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175360" y="5117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75360" y="49147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175360" y="47113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175360" y="45086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175360" y="43048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175360" y="41018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75360" y="3898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175360" y="3695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175360" y="3492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175360" y="32889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175360" y="3086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175360" y="2882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175360" y="26798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5360" y="2476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175360" y="2273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91280" y="2247480"/>
            <a:ext cx="0" cy="3162240"/>
            <a:chOff x="6191280" y="2247480"/>
            <a:chExt cx="0" cy="3162240"/>
          </a:xfrm>
        </p:grpSpPr>
        <p:sp>
          <p:nvSpPr>
            <p:cNvPr id="197" name=""/>
            <p:cNvSpPr/>
            <p:nvPr/>
          </p:nvSpPr>
          <p:spPr>
            <a:xfrm flipV="1">
              <a:off x="6191280" y="5295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191280" y="5092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191280" y="4889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91280" y="46864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91280" y="44827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191280" y="42800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191280" y="40762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191280" y="38732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191280" y="36698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191280" y="34668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191280" y="3263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191280" y="30603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191280" y="2857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191280" y="2653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191280" y="24512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191280" y="22474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7760" y="5697360"/>
            <a:ext cx="8433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Source:  Hayes, R.H., Wheelwright, S.C., and Clark, K.B. (1988). </a:t>
            </a:r>
            <a:r>
              <a:rPr b="1" i="1" lang="en-US" sz="1200" spc="-1" strike="noStrike">
                <a:solidFill>
                  <a:srgbClr val="0000ff"/>
                </a:solidFill>
                <a:latin typeface="Times New Roman"/>
              </a:rPr>
              <a:t>Dynamic Manufacturing.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  New York:  The Free Press, p. 279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See also Gluck and Foster.  (1975, September-October).  "Managing Technological Change:  A Box of Cigars for Brad."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Times New Roman"/>
              </a:rPr>
              <a:t>Harvard Business Review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, p. 141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78320" y="5716440"/>
            <a:ext cx="16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25960" y="5716440"/>
            <a:ext cx="18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43960" y="5894280"/>
            <a:ext cx="6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76760" y="58942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28600" y="6072120"/>
            <a:ext cx="63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32320" y="2631960"/>
            <a:ext cx="133344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2320" y="2631960"/>
            <a:ext cx="1333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2622600"/>
            <a:ext cx="10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BILITY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33960" y="259884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80560" y="2822400"/>
            <a:ext cx="148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O INFLUENC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41560" y="2556000"/>
            <a:ext cx="185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81640" y="3029040"/>
            <a:ext cx="123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UTCOM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8" name="" descr=""/>
          <p:cNvPicPr/>
          <p:nvPr/>
        </p:nvPicPr>
        <p:blipFill>
          <a:blip r:embed="rId1"/>
          <a:stretch/>
        </p:blipFill>
        <p:spPr>
          <a:xfrm>
            <a:off x="241200" y="1214280"/>
            <a:ext cx="8712360" cy="4954680"/>
          </a:xfrm>
          <a:prstGeom prst="rect">
            <a:avLst/>
          </a:prstGeom>
          <a:ln w="0">
            <a:noFill/>
          </a:ln>
        </p:spPr>
      </p:pic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 Resources Were Constrain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/>
          <p:nvPr/>
        </p:nvSpPr>
        <p:spPr>
          <a:xfrm>
            <a:off x="4818240" y="1414440"/>
            <a:ext cx="2884320" cy="4083120"/>
          </a:xfrm>
          <a:custGeom>
            <a:avLst/>
            <a:gdLst>
              <a:gd name="textAreaLeft" fmla="*/ 120600 w 2884320"/>
              <a:gd name="textAreaRight" fmla="*/ 2763720 w 2884320"/>
              <a:gd name="textAreaTop" fmla="*/ 120600 h 4083120"/>
              <a:gd name="textAreaBottom" fmla="*/ 3962520 h 4083120"/>
            </a:gdLst>
            <a:ahLst/>
            <a:rect l="textAreaLeft" t="textAreaTop" r="textAreaRight" b="textAreaBottom"/>
            <a:pathLst>
              <a:path w="21600" h="30576">
                <a:moveTo>
                  <a:pt x="3090" y="0"/>
                </a:moveTo>
                <a:arcTo wR="3090" hR="3090" stAng="16200000" swAng="-5400000"/>
                <a:lnTo>
                  <a:pt x="0" y="27486"/>
                </a:lnTo>
                <a:arcTo wR="3090" hR="3090" stAng="10800000" swAng="-5400000"/>
                <a:lnTo>
                  <a:pt x="18510" y="30576"/>
                </a:lnTo>
                <a:arcTo wR="3090" hR="3090" stAng="5400000" swAng="-5400000"/>
                <a:lnTo>
                  <a:pt x="21600" y="3090"/>
                </a:lnTo>
                <a:arcTo wR="3090" hR="3090" stAng="0" swAng="-5400000"/>
                <a:close/>
              </a:path>
            </a:pathLst>
          </a:cu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5328" dir="3806096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070680" y="2514600"/>
            <a:ext cx="4143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454800" y="2249640"/>
            <a:ext cx="977760" cy="550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499800" y="2305080"/>
            <a:ext cx="1005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elect Projec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535800" y="2448000"/>
            <a:ext cx="920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with Strategic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811920" y="2590920"/>
            <a:ext cx="302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i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998640" y="4135320"/>
            <a:ext cx="2266920" cy="1384560"/>
          </a:xfrm>
          <a:prstGeom prst="roundRect">
            <a:avLst>
              <a:gd name="adj" fmla="val 24824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5328" dir="3806096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80520" y="2847960"/>
            <a:ext cx="9612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Lead Team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5425920" y="1536840"/>
            <a:ext cx="180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cept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 Selection Screen</a:t>
            </a:r>
            <a:endParaRPr b="0" lang="en-US" sz="1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1130400" y="4240080"/>
            <a:ext cx="2131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 Development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151600" y="4270320"/>
            <a:ext cx="1066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Executive Staff Team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016680" y="5751360"/>
            <a:ext cx="154296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464520" y="6122880"/>
            <a:ext cx="1153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Document/Outpu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093680" y="2940120"/>
            <a:ext cx="806400" cy="612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123920" y="1652760"/>
            <a:ext cx="804960" cy="612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424240" y="2320920"/>
            <a:ext cx="977760" cy="550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076720" y="2238480"/>
            <a:ext cx="978120" cy="552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454800" y="4300560"/>
            <a:ext cx="977760" cy="5554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5442120" y="3378240"/>
            <a:ext cx="672840" cy="52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111720" y="5819760"/>
            <a:ext cx="319320" cy="144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643200" y="4799160"/>
            <a:ext cx="847800" cy="501480"/>
          </a:xfrm>
          <a:prstGeom prst="roundRect">
            <a:avLst>
              <a:gd name="adj" fmla="val 25356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63504" dir="318390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733920" y="2238480"/>
            <a:ext cx="868320" cy="604800"/>
          </a:xfrm>
          <a:prstGeom prst="roundRect">
            <a:avLst>
              <a:gd name="adj" fmla="val 25296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63504" dir="318390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508800" y="3335400"/>
            <a:ext cx="868320" cy="604800"/>
          </a:xfrm>
          <a:prstGeom prst="roundRect">
            <a:avLst>
              <a:gd name="adj" fmla="val 25236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63504" dir="318390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809720" y="4809960"/>
            <a:ext cx="846000" cy="501840"/>
          </a:xfrm>
          <a:prstGeom prst="roundRect">
            <a:avLst>
              <a:gd name="adj" fmla="val 25356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63504" dir="318390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126120" y="6099120"/>
            <a:ext cx="289080" cy="166680"/>
          </a:xfrm>
          <a:prstGeom prst="roundRect">
            <a:avLst>
              <a:gd name="adj" fmla="val 24991"/>
            </a:avLst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462360" y="5837400"/>
            <a:ext cx="621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463800" y="6408720"/>
            <a:ext cx="540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Timing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104840" y="1044720"/>
            <a:ext cx="2344680" cy="3571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rterl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rot="5400000">
            <a:off x="6487200" y="3613680"/>
            <a:ext cx="3500280" cy="317520"/>
          </a:xfrm>
          <a:prstGeom prst="rect">
            <a:avLst/>
          </a:prstGeom>
          <a:solidFill>
            <a:srgbClr val="02268a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-weekly/Monthl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036800" y="5897520"/>
            <a:ext cx="3092400" cy="3571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 Required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111720" y="6391440"/>
            <a:ext cx="319320" cy="144360"/>
          </a:xfrm>
          <a:prstGeom prst="rect">
            <a:avLst/>
          </a:prstGeom>
          <a:solidFill>
            <a:srgbClr val="02268a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648120" y="3468600"/>
            <a:ext cx="66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Alternate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535800" y="3611520"/>
            <a:ext cx="920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ortfolios/Mix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094040" y="3079800"/>
            <a:ext cx="836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oject Idea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225440" y="3222720"/>
            <a:ext cx="563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202760" y="1727280"/>
            <a:ext cx="660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rategic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152000" y="1868400"/>
            <a:ext cx="7740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Analysis of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233000" y="2011320"/>
            <a:ext cx="6138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Marke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148720" y="2297160"/>
            <a:ext cx="933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Align Projec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148360" y="2440080"/>
            <a:ext cx="920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with Strategic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257080" y="2579760"/>
            <a:ext cx="688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Initiative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679920" y="2408400"/>
            <a:ext cx="997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Develop List of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861000" y="2550960"/>
            <a:ext cx="619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ojec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407680" y="2354400"/>
            <a:ext cx="1083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visit Strategy/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09200" y="2496960"/>
            <a:ext cx="886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erform Gap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629440" y="2639880"/>
            <a:ext cx="6336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911240" y="3276720"/>
            <a:ext cx="9543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2874960" y="2885760"/>
            <a:ext cx="0" cy="390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941480" y="1962000"/>
            <a:ext cx="928800" cy="351000"/>
          </a:xfrm>
          <a:custGeom>
            <a:avLst/>
            <a:gdLst/>
            <a:ahLst/>
            <a:rect l="l" t="t" r="r" b="b"/>
            <a:pathLst>
              <a:path w="585" h="221">
                <a:moveTo>
                  <a:pt x="0" y="0"/>
                </a:moveTo>
                <a:lnTo>
                  <a:pt x="584" y="0"/>
                </a:lnTo>
                <a:lnTo>
                  <a:pt x="584" y="22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417840" y="2595600"/>
            <a:ext cx="3049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613400" y="2540160"/>
            <a:ext cx="457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943680" y="2860560"/>
            <a:ext cx="0" cy="4921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555600" y="4389480"/>
            <a:ext cx="8773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elect Set of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461640" y="4532400"/>
            <a:ext cx="1089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ojects for APP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943680" y="3962520"/>
            <a:ext cx="0" cy="323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4498560" y="5049720"/>
            <a:ext cx="24354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6934320" y="4874760"/>
            <a:ext cx="0" cy="195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494680" y="3465360"/>
            <a:ext cx="654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apacity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465520" y="3608280"/>
            <a:ext cx="709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aseline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6126120" y="3638520"/>
            <a:ext cx="3715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823200" y="4876920"/>
            <a:ext cx="555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810240" y="5019840"/>
            <a:ext cx="5850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harter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2670120" y="5049720"/>
            <a:ext cx="9684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033640" y="4832280"/>
            <a:ext cx="45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Initial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934280" y="4975200"/>
            <a:ext cx="676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949400" y="5118120"/>
            <a:ext cx="641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 Tightly Linking Strategy &amp; Projects..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"/>
          <p:cNvSpPr/>
          <p:nvPr/>
        </p:nvSpPr>
        <p:spPr>
          <a:xfrm>
            <a:off x="3112920" y="2475000"/>
            <a:ext cx="5072400" cy="3484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2268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621400" y="4184640"/>
            <a:ext cx="2592360" cy="180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172040" y="3338640"/>
            <a:ext cx="4041720" cy="2649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42040" y="5316480"/>
            <a:ext cx="1071720" cy="67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147120" y="2527200"/>
            <a:ext cx="10800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eakthrough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160520" y="3365640"/>
            <a:ext cx="7326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650200" y="4203720"/>
            <a:ext cx="8334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rivativ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676520" y="1676520"/>
            <a:ext cx="1143000" cy="636480"/>
          </a:xfrm>
          <a:prstGeom prst="rect">
            <a:avLst/>
          </a:prstGeom>
          <a:solidFill>
            <a:srgbClr val="02268a"/>
          </a:solidFill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773360" y="1763640"/>
            <a:ext cx="1350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earch &amp; Development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69960" y="1924200"/>
            <a:ext cx="197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7151760" y="5307120"/>
            <a:ext cx="98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25760" y="1841400"/>
            <a:ext cx="828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w Core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730760" y="1841400"/>
            <a:ext cx="1047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xt Generation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035760" y="1841400"/>
            <a:ext cx="1114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ingle Department Upgrad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032440" y="1308240"/>
            <a:ext cx="1863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cess Chang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12640" y="3855960"/>
            <a:ext cx="14558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ct Chang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853" name=""/>
          <p:cNvGrpSpPr/>
          <p:nvPr/>
        </p:nvGrpSpPr>
        <p:grpSpPr>
          <a:xfrm>
            <a:off x="2050200" y="2755800"/>
            <a:ext cx="968760" cy="1395720"/>
            <a:chOff x="2050200" y="2755800"/>
            <a:chExt cx="968760" cy="1395720"/>
          </a:xfrm>
        </p:grpSpPr>
        <p:sp>
          <p:nvSpPr>
            <p:cNvPr id="2854" name=""/>
            <p:cNvSpPr/>
            <p:nvPr/>
          </p:nvSpPr>
          <p:spPr>
            <a:xfrm>
              <a:off x="2145600" y="2755800"/>
              <a:ext cx="8668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New Co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Produc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239200" y="3571920"/>
              <a:ext cx="4935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Nex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050200" y="3730680"/>
              <a:ext cx="9687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eneration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101680" y="3889440"/>
              <a:ext cx="738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Product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858" name=""/>
          <p:cNvSpPr/>
          <p:nvPr/>
        </p:nvSpPr>
        <p:spPr>
          <a:xfrm>
            <a:off x="2070000" y="4576680"/>
            <a:ext cx="982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ddition to Product Family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612800" y="5499000"/>
            <a:ext cx="1454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erivatives and Enhancement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213680" y="1841400"/>
            <a:ext cx="1079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uning and Incremental Change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856040" y="3573360"/>
            <a:ext cx="489240" cy="181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346720" y="3573360"/>
            <a:ext cx="490680" cy="181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683240" y="3381480"/>
            <a:ext cx="1209600" cy="2253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894280" y="5527800"/>
            <a:ext cx="488880" cy="182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856560" y="3495600"/>
            <a:ext cx="487080" cy="181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959520" y="3632040"/>
            <a:ext cx="487440" cy="179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775560" y="3322800"/>
            <a:ext cx="488880" cy="180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276720" y="4122720"/>
            <a:ext cx="877680" cy="1922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uminnious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7666200" y="2855880"/>
            <a:ext cx="787320" cy="11955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440400" y="3121200"/>
            <a:ext cx="1208160" cy="2253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770960" y="4284720"/>
            <a:ext cx="487080" cy="17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620120" y="5037120"/>
            <a:ext cx="490320" cy="17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278840" y="4809960"/>
            <a:ext cx="876240" cy="190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621400" y="4408560"/>
            <a:ext cx="876240" cy="1918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5621400" y="5357880"/>
            <a:ext cx="876240" cy="1904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066080" y="3162240"/>
            <a:ext cx="21132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5434200" y="3436920"/>
            <a:ext cx="39996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Alpha B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261400" y="3608280"/>
            <a:ext cx="45612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Alpha B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5720400" y="3619440"/>
            <a:ext cx="38160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Sparr Z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8148600" y="3400560"/>
            <a:ext cx="27648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Saffy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267680" y="3527280"/>
            <a:ext cx="39528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381080" y="3665520"/>
            <a:ext cx="42444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164360" y="3357720"/>
            <a:ext cx="36648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rush 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723080" y="4137120"/>
            <a:ext cx="41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149240" y="3162240"/>
            <a:ext cx="27936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Sage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301800" y="5551560"/>
            <a:ext cx="43200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her LM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8187120" y="5068800"/>
            <a:ext cx="59508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B LA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8003520" y="4854600"/>
            <a:ext cx="50976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B A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197040" y="4441680"/>
            <a:ext cx="37260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Othel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6193800" y="5378400"/>
            <a:ext cx="427320" cy="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her BP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751160" y="4294080"/>
            <a:ext cx="620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DD Bay II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1714320" y="2820960"/>
            <a:ext cx="153360" cy="2970000"/>
            <a:chOff x="1714320" y="2820960"/>
            <a:chExt cx="153360" cy="2970000"/>
          </a:xfrm>
        </p:grpSpPr>
        <p:sp>
          <p:nvSpPr>
            <p:cNvPr id="2893" name=""/>
            <p:cNvSpPr/>
            <p:nvPr/>
          </p:nvSpPr>
          <p:spPr>
            <a:xfrm>
              <a:off x="1790640" y="3191040"/>
              <a:ext cx="0" cy="742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790640" y="4676760"/>
              <a:ext cx="0" cy="743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792440" y="2820960"/>
              <a:ext cx="75240" cy="7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56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56844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714320" y="3562200"/>
              <a:ext cx="7596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714680" y="4307040"/>
              <a:ext cx="75600" cy="74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792440" y="5048280"/>
              <a:ext cx="7524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3887640" y="1638360"/>
            <a:ext cx="3808080" cy="153720"/>
            <a:chOff x="3887640" y="1638360"/>
            <a:chExt cx="3808080" cy="153720"/>
          </a:xfrm>
        </p:grpSpPr>
        <p:sp>
          <p:nvSpPr>
            <p:cNvPr id="2900" name=""/>
            <p:cNvSpPr/>
            <p:nvPr/>
          </p:nvSpPr>
          <p:spPr>
            <a:xfrm flipH="1">
              <a:off x="6267240" y="1714680"/>
              <a:ext cx="952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362480" y="1714680"/>
              <a:ext cx="9525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743880" y="1716120"/>
              <a:ext cx="95184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792760" y="163836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838760" y="163836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887640" y="1716120"/>
              <a:ext cx="952200" cy="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41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Firm was Able to Focus On Fewer, More Critical Projec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pside Potential Was $570M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1607760" y="1066680"/>
            <a:ext cx="23742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dexed Stock Price Increas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940000" y="3917880"/>
            <a:ext cx="2329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lative Cycle Time Improv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6147720" y="1066680"/>
            <a:ext cx="2055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source Growth Slow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957600" y="3917880"/>
            <a:ext cx="3769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cremental New Product Introductions Increased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039680" y="1352520"/>
            <a:ext cx="3202200" cy="1959120"/>
          </a:xfrm>
          <a:custGeom>
            <a:avLst/>
            <a:gdLst/>
            <a:ahLst/>
            <a:rect l="l" t="t" r="r" b="b"/>
            <a:pathLst>
              <a:path w="2017" h="1234">
                <a:moveTo>
                  <a:pt x="0" y="0"/>
                </a:moveTo>
                <a:lnTo>
                  <a:pt x="2016" y="0"/>
                </a:lnTo>
                <a:lnTo>
                  <a:pt x="2016" y="1233"/>
                </a:lnTo>
                <a:lnTo>
                  <a:pt x="0" y="123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039680" y="1352520"/>
            <a:ext cx="3211560" cy="1968480"/>
          </a:xfrm>
          <a:custGeom>
            <a:avLst/>
            <a:gdLst/>
            <a:ahLst/>
            <a:rect l="l" t="t" r="r" b="b"/>
            <a:pathLst>
              <a:path w="2023" h="1240">
                <a:moveTo>
                  <a:pt x="0" y="0"/>
                </a:moveTo>
                <a:lnTo>
                  <a:pt x="2022" y="0"/>
                </a:lnTo>
                <a:lnTo>
                  <a:pt x="2022" y="1239"/>
                </a:lnTo>
                <a:lnTo>
                  <a:pt x="0" y="1239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ff"/>
            </a:solidFill>
            <a:round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76320" y="331956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069920" y="1658880"/>
            <a:ext cx="924120" cy="12924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976320" y="307332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976320" y="282744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976320" y="258300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976320" y="233856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976320" y="209088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976320" y="184464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976320" y="160020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976320" y="1352520"/>
            <a:ext cx="7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9810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123984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14400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6416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8414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20430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224316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244152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264492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284472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304632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324792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344808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364644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384804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404964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4249800" y="3282840"/>
            <a:ext cx="0" cy="74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1039680" y="2543040"/>
            <a:ext cx="201600" cy="285840"/>
          </a:xfrm>
          <a:custGeom>
            <a:avLst/>
            <a:gdLst/>
            <a:ahLst/>
            <a:rect l="l" t="t" r="r" b="b"/>
            <a:pathLst>
              <a:path w="127" h="180">
                <a:moveTo>
                  <a:pt x="0" y="179"/>
                </a:moveTo>
                <a:lnTo>
                  <a:pt x="30" y="134"/>
                </a:lnTo>
                <a:lnTo>
                  <a:pt x="63" y="90"/>
                </a:lnTo>
                <a:lnTo>
                  <a:pt x="94" y="45"/>
                </a:lnTo>
                <a:lnTo>
                  <a:pt x="109" y="22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1241280" y="2211480"/>
            <a:ext cx="200160" cy="33156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0" y="208"/>
                </a:moveTo>
                <a:lnTo>
                  <a:pt x="8" y="194"/>
                </a:lnTo>
                <a:lnTo>
                  <a:pt x="16" y="180"/>
                </a:lnTo>
                <a:lnTo>
                  <a:pt x="22" y="166"/>
                </a:lnTo>
                <a:lnTo>
                  <a:pt x="31" y="150"/>
                </a:lnTo>
                <a:lnTo>
                  <a:pt x="46" y="118"/>
                </a:lnTo>
                <a:lnTo>
                  <a:pt x="62" y="87"/>
                </a:lnTo>
                <a:lnTo>
                  <a:pt x="70" y="71"/>
                </a:lnTo>
                <a:lnTo>
                  <a:pt x="78" y="57"/>
                </a:lnTo>
                <a:lnTo>
                  <a:pt x="86" y="43"/>
                </a:lnTo>
                <a:lnTo>
                  <a:pt x="94" y="31"/>
                </a:lnTo>
                <a:lnTo>
                  <a:pt x="102" y="20"/>
                </a:lnTo>
                <a:lnTo>
                  <a:pt x="110" y="12"/>
                </a:lnTo>
                <a:lnTo>
                  <a:pt x="117" y="4"/>
                </a:lnTo>
                <a:lnTo>
                  <a:pt x="12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440000" y="2206800"/>
            <a:ext cx="203040" cy="137880"/>
          </a:xfrm>
          <a:custGeom>
            <a:avLst/>
            <a:gdLst/>
            <a:ahLst/>
            <a:rect l="l" t="t" r="r" b="b"/>
            <a:pathLst>
              <a:path w="128" h="87">
                <a:moveTo>
                  <a:pt x="0" y="3"/>
                </a:move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31" y="1"/>
                </a:lnTo>
                <a:lnTo>
                  <a:pt x="39" y="5"/>
                </a:lnTo>
                <a:lnTo>
                  <a:pt x="48" y="9"/>
                </a:lnTo>
                <a:lnTo>
                  <a:pt x="56" y="15"/>
                </a:lnTo>
                <a:lnTo>
                  <a:pt x="64" y="22"/>
                </a:lnTo>
                <a:lnTo>
                  <a:pt x="78" y="37"/>
                </a:lnTo>
                <a:lnTo>
                  <a:pt x="95" y="53"/>
                </a:lnTo>
                <a:lnTo>
                  <a:pt x="110" y="70"/>
                </a:lnTo>
                <a:lnTo>
                  <a:pt x="127" y="86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641600" y="2344680"/>
            <a:ext cx="201600" cy="228600"/>
          </a:xfrm>
          <a:custGeom>
            <a:avLst/>
            <a:gdLst/>
            <a:ahLst/>
            <a:rect l="l" t="t" r="r" b="b"/>
            <a:pathLst>
              <a:path w="127" h="144">
                <a:moveTo>
                  <a:pt x="0" y="0"/>
                </a:moveTo>
                <a:lnTo>
                  <a:pt x="7" y="6"/>
                </a:lnTo>
                <a:lnTo>
                  <a:pt x="16" y="14"/>
                </a:lnTo>
                <a:lnTo>
                  <a:pt x="30" y="33"/>
                </a:lnTo>
                <a:lnTo>
                  <a:pt x="47" y="53"/>
                </a:lnTo>
                <a:lnTo>
                  <a:pt x="63" y="73"/>
                </a:lnTo>
                <a:lnTo>
                  <a:pt x="78" y="94"/>
                </a:lnTo>
                <a:lnTo>
                  <a:pt x="95" y="112"/>
                </a:lnTo>
                <a:lnTo>
                  <a:pt x="103" y="121"/>
                </a:lnTo>
                <a:lnTo>
                  <a:pt x="109" y="129"/>
                </a:lnTo>
                <a:lnTo>
                  <a:pt x="118" y="136"/>
                </a:lnTo>
                <a:lnTo>
                  <a:pt x="126" y="1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843200" y="2571840"/>
            <a:ext cx="203040" cy="63360"/>
          </a:xfrm>
          <a:custGeom>
            <a:avLst/>
            <a:gdLst/>
            <a:ahLst/>
            <a:rect l="l" t="t" r="r" b="b"/>
            <a:pathLst>
              <a:path w="128" h="40">
                <a:moveTo>
                  <a:pt x="0" y="0"/>
                </a:moveTo>
                <a:lnTo>
                  <a:pt x="16" y="10"/>
                </a:lnTo>
                <a:lnTo>
                  <a:pt x="31" y="19"/>
                </a:lnTo>
                <a:lnTo>
                  <a:pt x="48" y="26"/>
                </a:lnTo>
                <a:lnTo>
                  <a:pt x="62" y="33"/>
                </a:lnTo>
                <a:lnTo>
                  <a:pt x="78" y="37"/>
                </a:lnTo>
                <a:lnTo>
                  <a:pt x="95" y="39"/>
                </a:lnTo>
                <a:lnTo>
                  <a:pt x="110" y="38"/>
                </a:lnTo>
                <a:lnTo>
                  <a:pt x="127" y="34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044800" y="2451240"/>
            <a:ext cx="199800" cy="176040"/>
          </a:xfrm>
          <a:custGeom>
            <a:avLst/>
            <a:gdLst/>
            <a:ahLst/>
            <a:rect l="l" t="t" r="r" b="b"/>
            <a:pathLst>
              <a:path w="126" h="111">
                <a:moveTo>
                  <a:pt x="0" y="110"/>
                </a:moveTo>
                <a:lnTo>
                  <a:pt x="7" y="107"/>
                </a:lnTo>
                <a:lnTo>
                  <a:pt x="14" y="102"/>
                </a:lnTo>
                <a:lnTo>
                  <a:pt x="22" y="96"/>
                </a:lnTo>
                <a:lnTo>
                  <a:pt x="30" y="89"/>
                </a:lnTo>
                <a:lnTo>
                  <a:pt x="38" y="82"/>
                </a:lnTo>
                <a:lnTo>
                  <a:pt x="46" y="75"/>
                </a:lnTo>
                <a:lnTo>
                  <a:pt x="62" y="59"/>
                </a:lnTo>
                <a:lnTo>
                  <a:pt x="78" y="41"/>
                </a:lnTo>
                <a:lnTo>
                  <a:pt x="93" y="26"/>
                </a:lnTo>
                <a:lnTo>
                  <a:pt x="102" y="18"/>
                </a:lnTo>
                <a:lnTo>
                  <a:pt x="108" y="11"/>
                </a:lnTo>
                <a:lnTo>
                  <a:pt x="116" y="4"/>
                </a:lnTo>
                <a:lnTo>
                  <a:pt x="12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243160" y="2394000"/>
            <a:ext cx="200160" cy="57240"/>
          </a:xfrm>
          <a:custGeom>
            <a:avLst/>
            <a:gdLst/>
            <a:ahLst/>
            <a:rect l="l" t="t" r="r" b="b"/>
            <a:pathLst>
              <a:path w="126" h="36">
                <a:moveTo>
                  <a:pt x="0" y="35"/>
                </a:moveTo>
                <a:lnTo>
                  <a:pt x="16" y="27"/>
                </a:lnTo>
                <a:lnTo>
                  <a:pt x="31" y="20"/>
                </a:lnTo>
                <a:lnTo>
                  <a:pt x="46" y="14"/>
                </a:lnTo>
                <a:lnTo>
                  <a:pt x="62" y="11"/>
                </a:lnTo>
                <a:lnTo>
                  <a:pt x="78" y="7"/>
                </a:lnTo>
                <a:lnTo>
                  <a:pt x="94" y="5"/>
                </a:lnTo>
                <a:lnTo>
                  <a:pt x="12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2443320" y="2371680"/>
            <a:ext cx="203040" cy="27000"/>
          </a:xfrm>
          <a:custGeom>
            <a:avLst/>
            <a:gdLst/>
            <a:ahLst/>
            <a:rect l="l" t="t" r="r" b="b"/>
            <a:pathLst>
              <a:path w="128" h="17">
                <a:moveTo>
                  <a:pt x="0" y="16"/>
                </a:moveTo>
                <a:lnTo>
                  <a:pt x="16" y="13"/>
                </a:lnTo>
                <a:lnTo>
                  <a:pt x="31" y="13"/>
                </a:lnTo>
                <a:lnTo>
                  <a:pt x="48" y="13"/>
                </a:lnTo>
                <a:lnTo>
                  <a:pt x="64" y="14"/>
                </a:lnTo>
                <a:lnTo>
                  <a:pt x="78" y="14"/>
                </a:lnTo>
                <a:lnTo>
                  <a:pt x="95" y="12"/>
                </a:lnTo>
                <a:lnTo>
                  <a:pt x="103" y="11"/>
                </a:lnTo>
                <a:lnTo>
                  <a:pt x="110" y="7"/>
                </a:lnTo>
                <a:lnTo>
                  <a:pt x="118" y="4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644920" y="2165400"/>
            <a:ext cx="201600" cy="206280"/>
          </a:xfrm>
          <a:custGeom>
            <a:avLst/>
            <a:gdLst/>
            <a:ahLst/>
            <a:rect l="l" t="t" r="r" b="b"/>
            <a:pathLst>
              <a:path w="127" h="130">
                <a:moveTo>
                  <a:pt x="0" y="129"/>
                </a:moveTo>
                <a:lnTo>
                  <a:pt x="8" y="123"/>
                </a:lnTo>
                <a:lnTo>
                  <a:pt x="16" y="116"/>
                </a:lnTo>
                <a:lnTo>
                  <a:pt x="23" y="109"/>
                </a:lnTo>
                <a:lnTo>
                  <a:pt x="31" y="101"/>
                </a:lnTo>
                <a:lnTo>
                  <a:pt x="47" y="84"/>
                </a:lnTo>
                <a:lnTo>
                  <a:pt x="63" y="65"/>
                </a:lnTo>
                <a:lnTo>
                  <a:pt x="78" y="47"/>
                </a:lnTo>
                <a:lnTo>
                  <a:pt x="95" y="28"/>
                </a:lnTo>
                <a:lnTo>
                  <a:pt x="103" y="20"/>
                </a:lnTo>
                <a:lnTo>
                  <a:pt x="110" y="13"/>
                </a:lnTo>
                <a:lnTo>
                  <a:pt x="118" y="5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844720" y="2116080"/>
            <a:ext cx="203400" cy="49320"/>
          </a:xfrm>
          <a:custGeom>
            <a:avLst/>
            <a:gdLst/>
            <a:ahLst/>
            <a:rect l="l" t="t" r="r" b="b"/>
            <a:pathLst>
              <a:path w="128" h="31">
                <a:moveTo>
                  <a:pt x="0" y="30"/>
                </a:moveTo>
                <a:lnTo>
                  <a:pt x="8" y="24"/>
                </a:lnTo>
                <a:lnTo>
                  <a:pt x="16" y="21"/>
                </a:lnTo>
                <a:lnTo>
                  <a:pt x="31" y="15"/>
                </a:lnTo>
                <a:lnTo>
                  <a:pt x="48" y="10"/>
                </a:lnTo>
                <a:lnTo>
                  <a:pt x="64" y="7"/>
                </a:lnTo>
                <a:lnTo>
                  <a:pt x="78" y="6"/>
                </a:lnTo>
                <a:lnTo>
                  <a:pt x="95" y="5"/>
                </a:lnTo>
                <a:lnTo>
                  <a:pt x="110" y="2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3048120" y="2084400"/>
            <a:ext cx="201600" cy="33480"/>
          </a:xfrm>
          <a:custGeom>
            <a:avLst/>
            <a:gdLst/>
            <a:ahLst/>
            <a:rect l="l" t="t" r="r" b="b"/>
            <a:pathLst>
              <a:path w="127" h="21">
                <a:moveTo>
                  <a:pt x="0" y="20"/>
                </a:moveTo>
                <a:lnTo>
                  <a:pt x="16" y="18"/>
                </a:lnTo>
                <a:lnTo>
                  <a:pt x="30" y="15"/>
                </a:lnTo>
                <a:lnTo>
                  <a:pt x="63" y="14"/>
                </a:lnTo>
                <a:lnTo>
                  <a:pt x="78" y="13"/>
                </a:lnTo>
                <a:lnTo>
                  <a:pt x="95" y="11"/>
                </a:lnTo>
                <a:lnTo>
                  <a:pt x="109" y="6"/>
                </a:lnTo>
                <a:lnTo>
                  <a:pt x="118" y="3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3247920" y="1900080"/>
            <a:ext cx="201600" cy="184320"/>
          </a:xfrm>
          <a:custGeom>
            <a:avLst/>
            <a:gdLst/>
            <a:ahLst/>
            <a:rect l="l" t="t" r="r" b="b"/>
            <a:pathLst>
              <a:path w="127" h="116">
                <a:moveTo>
                  <a:pt x="0" y="115"/>
                </a:moveTo>
                <a:lnTo>
                  <a:pt x="16" y="105"/>
                </a:lnTo>
                <a:lnTo>
                  <a:pt x="31" y="92"/>
                </a:lnTo>
                <a:lnTo>
                  <a:pt x="48" y="78"/>
                </a:lnTo>
                <a:lnTo>
                  <a:pt x="62" y="63"/>
                </a:lnTo>
                <a:lnTo>
                  <a:pt x="78" y="47"/>
                </a:lnTo>
                <a:lnTo>
                  <a:pt x="94" y="31"/>
                </a:lnTo>
                <a:lnTo>
                  <a:pt x="109" y="14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448080" y="1698480"/>
            <a:ext cx="200160" cy="203400"/>
          </a:xfrm>
          <a:custGeom>
            <a:avLst/>
            <a:gdLst/>
            <a:ahLst/>
            <a:rect l="l" t="t" r="r" b="b"/>
            <a:pathLst>
              <a:path w="126" h="128">
                <a:moveTo>
                  <a:pt x="0" y="127"/>
                </a:moveTo>
                <a:lnTo>
                  <a:pt x="7" y="119"/>
                </a:lnTo>
                <a:lnTo>
                  <a:pt x="14" y="110"/>
                </a:lnTo>
                <a:lnTo>
                  <a:pt x="30" y="91"/>
                </a:lnTo>
                <a:lnTo>
                  <a:pt x="46" y="71"/>
                </a:lnTo>
                <a:lnTo>
                  <a:pt x="62" y="51"/>
                </a:lnTo>
                <a:lnTo>
                  <a:pt x="78" y="35"/>
                </a:lnTo>
                <a:lnTo>
                  <a:pt x="86" y="26"/>
                </a:lnTo>
                <a:lnTo>
                  <a:pt x="93" y="19"/>
                </a:lnTo>
                <a:lnTo>
                  <a:pt x="102" y="12"/>
                </a:lnTo>
                <a:lnTo>
                  <a:pt x="108" y="6"/>
                </a:lnTo>
                <a:lnTo>
                  <a:pt x="116" y="1"/>
                </a:lnTo>
                <a:lnTo>
                  <a:pt x="12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648240" y="1697040"/>
            <a:ext cx="201600" cy="93600"/>
          </a:xfrm>
          <a:custGeom>
            <a:avLst/>
            <a:gdLst/>
            <a:ahLst/>
            <a:rect l="l" t="t" r="r" b="b"/>
            <a:pathLst>
              <a:path w="127" h="59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31" y="3"/>
                </a:lnTo>
                <a:lnTo>
                  <a:pt x="39" y="5"/>
                </a:lnTo>
                <a:lnTo>
                  <a:pt x="47" y="9"/>
                </a:lnTo>
                <a:lnTo>
                  <a:pt x="63" y="20"/>
                </a:lnTo>
                <a:lnTo>
                  <a:pt x="78" y="31"/>
                </a:lnTo>
                <a:lnTo>
                  <a:pt x="95" y="42"/>
                </a:lnTo>
                <a:lnTo>
                  <a:pt x="103" y="47"/>
                </a:lnTo>
                <a:lnTo>
                  <a:pt x="110" y="52"/>
                </a:lnTo>
                <a:lnTo>
                  <a:pt x="118" y="55"/>
                </a:lnTo>
                <a:lnTo>
                  <a:pt x="126" y="58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848040" y="1790640"/>
            <a:ext cx="203400" cy="3348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0"/>
                </a:moveTo>
                <a:lnTo>
                  <a:pt x="16" y="4"/>
                </a:lnTo>
                <a:lnTo>
                  <a:pt x="31" y="8"/>
                </a:lnTo>
                <a:lnTo>
                  <a:pt x="48" y="13"/>
                </a:lnTo>
                <a:lnTo>
                  <a:pt x="64" y="18"/>
                </a:lnTo>
                <a:lnTo>
                  <a:pt x="78" y="20"/>
                </a:lnTo>
                <a:lnTo>
                  <a:pt x="88" y="20"/>
                </a:lnTo>
                <a:lnTo>
                  <a:pt x="95" y="20"/>
                </a:lnTo>
                <a:lnTo>
                  <a:pt x="103" y="19"/>
                </a:lnTo>
                <a:lnTo>
                  <a:pt x="110" y="15"/>
                </a:lnTo>
                <a:lnTo>
                  <a:pt x="118" y="13"/>
                </a:lnTo>
                <a:lnTo>
                  <a:pt x="127" y="8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049640" y="1550880"/>
            <a:ext cx="201600" cy="254160"/>
          </a:xfrm>
          <a:custGeom>
            <a:avLst/>
            <a:gdLst/>
            <a:ahLst/>
            <a:rect l="l" t="t" r="r" b="b"/>
            <a:pathLst>
              <a:path w="127" h="160">
                <a:moveTo>
                  <a:pt x="0" y="159"/>
                </a:moveTo>
                <a:lnTo>
                  <a:pt x="8" y="153"/>
                </a:lnTo>
                <a:lnTo>
                  <a:pt x="16" y="146"/>
                </a:lnTo>
                <a:lnTo>
                  <a:pt x="23" y="138"/>
                </a:lnTo>
                <a:lnTo>
                  <a:pt x="31" y="130"/>
                </a:lnTo>
                <a:lnTo>
                  <a:pt x="39" y="121"/>
                </a:lnTo>
                <a:lnTo>
                  <a:pt x="47" y="111"/>
                </a:lnTo>
                <a:lnTo>
                  <a:pt x="63" y="89"/>
                </a:lnTo>
                <a:lnTo>
                  <a:pt x="78" y="66"/>
                </a:lnTo>
                <a:lnTo>
                  <a:pt x="95" y="42"/>
                </a:lnTo>
                <a:lnTo>
                  <a:pt x="109" y="20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844200" y="324972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55720" y="3005280"/>
            <a:ext cx="302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68320" y="275904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868320" y="251316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868320" y="226836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68320" y="202104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868320" y="177480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868320" y="153036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868320" y="1282680"/>
            <a:ext cx="372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03104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23120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43280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63296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83276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03436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223452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43612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263628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83788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03768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23928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343944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3780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384120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04100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241160" y="3409920"/>
            <a:ext cx="29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2620440" y="3595680"/>
            <a:ext cx="1105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ime (Quarters)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rot="16200000">
            <a:off x="-599400" y="2321640"/>
            <a:ext cx="22215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Value of $100 Invested in 1992, Q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308560" y="1380960"/>
            <a:ext cx="2425680" cy="1974960"/>
          </a:xfrm>
          <a:custGeom>
            <a:avLst/>
            <a:gdLst/>
            <a:ahLst/>
            <a:rect l="l" t="t" r="r" b="b"/>
            <a:pathLst>
              <a:path w="1528" h="1244">
                <a:moveTo>
                  <a:pt x="0" y="0"/>
                </a:moveTo>
                <a:lnTo>
                  <a:pt x="1527" y="0"/>
                </a:lnTo>
                <a:lnTo>
                  <a:pt x="1527" y="1243"/>
                </a:lnTo>
                <a:lnTo>
                  <a:pt x="0" y="124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029200" y="1380960"/>
            <a:ext cx="2719440" cy="1986120"/>
          </a:xfrm>
          <a:custGeom>
            <a:avLst/>
            <a:gdLst/>
            <a:ahLst/>
            <a:rect l="l" t="t" r="r" b="b"/>
            <a:pathLst>
              <a:path w="1713" h="1251">
                <a:moveTo>
                  <a:pt x="0" y="0"/>
                </a:moveTo>
                <a:lnTo>
                  <a:pt x="1712" y="0"/>
                </a:lnTo>
                <a:lnTo>
                  <a:pt x="1712" y="1250"/>
                </a:lnTo>
                <a:lnTo>
                  <a:pt x="0" y="1250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ff"/>
            </a:solidFill>
            <a:round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456160" y="2671920"/>
            <a:ext cx="196920" cy="695160"/>
          </a:xfrm>
          <a:custGeom>
            <a:avLst/>
            <a:gdLst/>
            <a:ahLst/>
            <a:rect l="l" t="t" r="r" b="b"/>
            <a:pathLst>
              <a:path w="124" h="438">
                <a:moveTo>
                  <a:pt x="0" y="0"/>
                </a:moveTo>
                <a:lnTo>
                  <a:pt x="123" y="0"/>
                </a:lnTo>
                <a:lnTo>
                  <a:pt x="123" y="437"/>
                </a:lnTo>
                <a:lnTo>
                  <a:pt x="0" y="437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942160" y="2332080"/>
            <a:ext cx="196560" cy="1035000"/>
          </a:xfrm>
          <a:custGeom>
            <a:avLst/>
            <a:gdLst/>
            <a:ahLst/>
            <a:rect l="l" t="t" r="r" b="b"/>
            <a:pathLst>
              <a:path w="124" h="652">
                <a:moveTo>
                  <a:pt x="0" y="0"/>
                </a:moveTo>
                <a:lnTo>
                  <a:pt x="123" y="0"/>
                </a:lnTo>
                <a:lnTo>
                  <a:pt x="123" y="651"/>
                </a:lnTo>
                <a:lnTo>
                  <a:pt x="0" y="651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427800" y="1876320"/>
            <a:ext cx="198360" cy="1490760"/>
          </a:xfrm>
          <a:custGeom>
            <a:avLst/>
            <a:gdLst/>
            <a:ahLst/>
            <a:rect l="l" t="t" r="r" b="b"/>
            <a:pathLst>
              <a:path w="125" h="939">
                <a:moveTo>
                  <a:pt x="0" y="0"/>
                </a:moveTo>
                <a:lnTo>
                  <a:pt x="124" y="0"/>
                </a:lnTo>
                <a:lnTo>
                  <a:pt x="124" y="938"/>
                </a:lnTo>
                <a:lnTo>
                  <a:pt x="0" y="938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6916680" y="1836720"/>
            <a:ext cx="195480" cy="1530360"/>
          </a:xfrm>
          <a:custGeom>
            <a:avLst/>
            <a:gdLst/>
            <a:ahLst/>
            <a:rect l="l" t="t" r="r" b="b"/>
            <a:pathLst>
              <a:path w="123" h="964">
                <a:moveTo>
                  <a:pt x="0" y="0"/>
                </a:moveTo>
                <a:lnTo>
                  <a:pt x="122" y="0"/>
                </a:lnTo>
                <a:lnTo>
                  <a:pt x="122" y="963"/>
                </a:lnTo>
                <a:lnTo>
                  <a:pt x="0" y="963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7404120" y="1776240"/>
            <a:ext cx="195120" cy="1590840"/>
          </a:xfrm>
          <a:custGeom>
            <a:avLst/>
            <a:gdLst/>
            <a:ahLst/>
            <a:rect l="l" t="t" r="r" b="b"/>
            <a:pathLst>
              <a:path w="123" h="1002">
                <a:moveTo>
                  <a:pt x="0" y="0"/>
                </a:moveTo>
                <a:lnTo>
                  <a:pt x="122" y="0"/>
                </a:lnTo>
                <a:lnTo>
                  <a:pt x="122" y="1001"/>
                </a:lnTo>
                <a:lnTo>
                  <a:pt x="0" y="1001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5456160" y="2530440"/>
            <a:ext cx="196920" cy="142920"/>
          </a:xfrm>
          <a:custGeom>
            <a:avLst/>
            <a:gdLst/>
            <a:ahLst/>
            <a:rect l="l" t="t" r="r" b="b"/>
            <a:pathLst>
              <a:path w="124" h="90">
                <a:moveTo>
                  <a:pt x="0" y="0"/>
                </a:moveTo>
                <a:lnTo>
                  <a:pt x="123" y="0"/>
                </a:lnTo>
                <a:lnTo>
                  <a:pt x="123" y="89"/>
                </a:lnTo>
                <a:lnTo>
                  <a:pt x="0" y="89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942160" y="2174760"/>
            <a:ext cx="196560" cy="158760"/>
          </a:xfrm>
          <a:custGeom>
            <a:avLst/>
            <a:gdLst/>
            <a:ahLst/>
            <a:rect l="l" t="t" r="r" b="b"/>
            <a:pathLst>
              <a:path w="124" h="100">
                <a:moveTo>
                  <a:pt x="0" y="0"/>
                </a:moveTo>
                <a:lnTo>
                  <a:pt x="123" y="0"/>
                </a:lnTo>
                <a:lnTo>
                  <a:pt x="123" y="99"/>
                </a:lnTo>
                <a:lnTo>
                  <a:pt x="0" y="99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6427800" y="1657440"/>
            <a:ext cx="198360" cy="218880"/>
          </a:xfrm>
          <a:custGeom>
            <a:avLst/>
            <a:gdLst/>
            <a:ahLst/>
            <a:rect l="l" t="t" r="r" b="b"/>
            <a:pathLst>
              <a:path w="125" h="138">
                <a:moveTo>
                  <a:pt x="0" y="0"/>
                </a:moveTo>
                <a:lnTo>
                  <a:pt x="124" y="0"/>
                </a:lnTo>
                <a:lnTo>
                  <a:pt x="124" y="137"/>
                </a:lnTo>
                <a:lnTo>
                  <a:pt x="0" y="137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6916680" y="1587600"/>
            <a:ext cx="195480" cy="250560"/>
          </a:xfrm>
          <a:custGeom>
            <a:avLst/>
            <a:gdLst/>
            <a:ahLst/>
            <a:rect l="l" t="t" r="r" b="b"/>
            <a:pathLst>
              <a:path w="123" h="158">
                <a:moveTo>
                  <a:pt x="0" y="0"/>
                </a:moveTo>
                <a:lnTo>
                  <a:pt x="122" y="0"/>
                </a:lnTo>
                <a:lnTo>
                  <a:pt x="122" y="157"/>
                </a:lnTo>
                <a:lnTo>
                  <a:pt x="0" y="157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404120" y="1477800"/>
            <a:ext cx="195120" cy="300240"/>
          </a:xfrm>
          <a:custGeom>
            <a:avLst/>
            <a:gdLst/>
            <a:ahLst/>
            <a:rect l="l" t="t" r="r" b="b"/>
            <a:pathLst>
              <a:path w="123" h="189">
                <a:moveTo>
                  <a:pt x="0" y="0"/>
                </a:moveTo>
                <a:lnTo>
                  <a:pt x="122" y="0"/>
                </a:lnTo>
                <a:lnTo>
                  <a:pt x="122" y="188"/>
                </a:lnTo>
                <a:lnTo>
                  <a:pt x="0" y="188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952880" y="336564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952880" y="316872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952880" y="296856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4952880" y="277020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952880" y="257328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952880" y="237348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952880" y="217476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952880" y="197640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4952880" y="177624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952880" y="157968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952880" y="1380960"/>
            <a:ext cx="763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498960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579744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V="1">
            <a:off x="628164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677232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725976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V="1">
            <a:off x="7748640" y="3323880"/>
            <a:ext cx="0" cy="82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4862520" y="3286080"/>
            <a:ext cx="2192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01760" y="3086280"/>
            <a:ext cx="27540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940280" y="288936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40280" y="268920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940280" y="249228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940280" y="229248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25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940280" y="209232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940280" y="189720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940280" y="169560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4940280" y="150012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45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940280" y="1300320"/>
            <a:ext cx="331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500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567040" y="345276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6054480" y="345276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6536880" y="345276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7027560" y="345276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5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516440" y="345276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6384600" y="6630840"/>
            <a:ext cx="6138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Month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403960" y="4311720"/>
            <a:ext cx="2479680" cy="1698480"/>
          </a:xfrm>
          <a:custGeom>
            <a:avLst/>
            <a:gdLst/>
            <a:ahLst/>
            <a:rect l="l" t="t" r="r" b="b"/>
            <a:pathLst>
              <a:path w="1562" h="1070">
                <a:moveTo>
                  <a:pt x="0" y="0"/>
                </a:moveTo>
                <a:lnTo>
                  <a:pt x="1561" y="0"/>
                </a:lnTo>
                <a:lnTo>
                  <a:pt x="1561" y="1069"/>
                </a:lnTo>
                <a:lnTo>
                  <a:pt x="0" y="1069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4759200" y="4235400"/>
            <a:ext cx="3133800" cy="2133720"/>
          </a:xfrm>
          <a:custGeom>
            <a:avLst/>
            <a:gdLst/>
            <a:ahLst/>
            <a:rect l="l" t="t" r="r" b="b"/>
            <a:pathLst>
              <a:path w="1974" h="1344">
                <a:moveTo>
                  <a:pt x="0" y="0"/>
                </a:moveTo>
                <a:lnTo>
                  <a:pt x="1973" y="0"/>
                </a:lnTo>
                <a:lnTo>
                  <a:pt x="1973" y="1343"/>
                </a:lnTo>
                <a:lnTo>
                  <a:pt x="0" y="1343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ff"/>
            </a:solidFill>
            <a:round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524640" y="5803920"/>
            <a:ext cx="747720" cy="125280"/>
          </a:xfrm>
          <a:custGeom>
            <a:avLst/>
            <a:gdLst/>
            <a:ahLst/>
            <a:rect l="l" t="t" r="r" b="b"/>
            <a:pathLst>
              <a:path w="471" h="79">
                <a:moveTo>
                  <a:pt x="0" y="0"/>
                </a:moveTo>
                <a:lnTo>
                  <a:pt x="470" y="0"/>
                </a:lnTo>
                <a:lnTo>
                  <a:pt x="470" y="78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024680" y="5378400"/>
            <a:ext cx="247680" cy="123840"/>
          </a:xfrm>
          <a:custGeom>
            <a:avLst/>
            <a:gdLst/>
            <a:ahLst/>
            <a:rect l="l" t="t" r="r" b="b"/>
            <a:pathLst>
              <a:path w="156" h="78">
                <a:moveTo>
                  <a:pt x="0" y="0"/>
                </a:moveTo>
                <a:lnTo>
                  <a:pt x="155" y="0"/>
                </a:lnTo>
                <a:lnTo>
                  <a:pt x="155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654520" y="4951440"/>
            <a:ext cx="1617840" cy="123840"/>
          </a:xfrm>
          <a:custGeom>
            <a:avLst/>
            <a:gdLst/>
            <a:ahLst/>
            <a:rect l="l" t="t" r="r" b="b"/>
            <a:pathLst>
              <a:path w="1019" h="78">
                <a:moveTo>
                  <a:pt x="0" y="0"/>
                </a:moveTo>
                <a:lnTo>
                  <a:pt x="1018" y="0"/>
                </a:lnTo>
                <a:lnTo>
                  <a:pt x="1018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5900760" y="4524480"/>
            <a:ext cx="1371600" cy="123840"/>
          </a:xfrm>
          <a:custGeom>
            <a:avLst/>
            <a:gdLst/>
            <a:ahLst/>
            <a:rect l="l" t="t" r="r" b="b"/>
            <a:pathLst>
              <a:path w="864" h="78">
                <a:moveTo>
                  <a:pt x="0" y="0"/>
                </a:moveTo>
                <a:lnTo>
                  <a:pt x="863" y="0"/>
                </a:lnTo>
                <a:lnTo>
                  <a:pt x="863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70920" y="5683320"/>
            <a:ext cx="250560" cy="122040"/>
          </a:xfrm>
          <a:custGeom>
            <a:avLst/>
            <a:gdLst/>
            <a:ahLst/>
            <a:rect l="l" t="t" r="r" b="b"/>
            <a:pathLst>
              <a:path w="158" h="77">
                <a:moveTo>
                  <a:pt x="0" y="0"/>
                </a:moveTo>
                <a:lnTo>
                  <a:pt x="157" y="0"/>
                </a:lnTo>
                <a:lnTo>
                  <a:pt x="157" y="76"/>
                </a:lnTo>
                <a:lnTo>
                  <a:pt x="0" y="76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270920" y="5256360"/>
            <a:ext cx="374400" cy="123840"/>
          </a:xfrm>
          <a:custGeom>
            <a:avLst/>
            <a:gdLst/>
            <a:ahLst/>
            <a:rect l="l" t="t" r="r" b="b"/>
            <a:pathLst>
              <a:path w="236" h="78">
                <a:moveTo>
                  <a:pt x="0" y="0"/>
                </a:moveTo>
                <a:lnTo>
                  <a:pt x="235" y="0"/>
                </a:lnTo>
                <a:lnTo>
                  <a:pt x="235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270920" y="4829040"/>
            <a:ext cx="374400" cy="123840"/>
          </a:xfrm>
          <a:custGeom>
            <a:avLst/>
            <a:gdLst/>
            <a:ahLst/>
            <a:rect l="l" t="t" r="r" b="b"/>
            <a:pathLst>
              <a:path w="236" h="78">
                <a:moveTo>
                  <a:pt x="0" y="0"/>
                </a:moveTo>
                <a:lnTo>
                  <a:pt x="235" y="0"/>
                </a:lnTo>
                <a:lnTo>
                  <a:pt x="235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7147080" y="4403880"/>
            <a:ext cx="125280" cy="122040"/>
          </a:xfrm>
          <a:custGeom>
            <a:avLst/>
            <a:gdLst/>
            <a:ahLst/>
            <a:rect l="l" t="t" r="r" b="b"/>
            <a:pathLst>
              <a:path w="79" h="77">
                <a:moveTo>
                  <a:pt x="0" y="0"/>
                </a:moveTo>
                <a:lnTo>
                  <a:pt x="78" y="0"/>
                </a:lnTo>
                <a:lnTo>
                  <a:pt x="78" y="76"/>
                </a:lnTo>
                <a:lnTo>
                  <a:pt x="0" y="76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5403960" y="6338880"/>
            <a:ext cx="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V="1">
            <a:off x="6027840" y="6338880"/>
            <a:ext cx="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6647040" y="6338880"/>
            <a:ext cx="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7270920" y="6338880"/>
            <a:ext cx="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7893000" y="6338880"/>
            <a:ext cx="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flipH="1">
            <a:off x="7268760" y="4235400"/>
            <a:ext cx="1800" cy="2200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6375240"/>
            <a:ext cx="63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238880" y="5589720"/>
            <a:ext cx="63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38880" y="5164200"/>
            <a:ext cx="63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238880" y="4737240"/>
            <a:ext cx="63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238880" y="4311720"/>
            <a:ext cx="63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329440" y="6458040"/>
            <a:ext cx="3456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1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953320" y="6458040"/>
            <a:ext cx="3456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6579720" y="6458040"/>
            <a:ext cx="27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202160" y="64580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822800" y="64580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921800" y="5667480"/>
            <a:ext cx="6807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High End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7920000" y="5808600"/>
            <a:ext cx="705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Desk Top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921080" y="5241960"/>
            <a:ext cx="653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ow End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7920000" y="5373720"/>
            <a:ext cx="705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Desk Top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7920360" y="4879800"/>
            <a:ext cx="536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7921080" y="4454640"/>
            <a:ext cx="69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ortable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146560" y="5500800"/>
            <a:ext cx="765360" cy="5522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237280" y="5621400"/>
            <a:ext cx="135000" cy="112680"/>
          </a:xfrm>
          <a:prstGeom prst="rect">
            <a:avLst/>
          </a:prstGeom>
          <a:solidFill>
            <a:srgbClr val="80206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57520" y="555768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237280" y="5857920"/>
            <a:ext cx="135000" cy="119160"/>
          </a:xfrm>
          <a:prstGeom prst="rect">
            <a:avLst/>
          </a:prstGeom>
          <a:solidFill>
            <a:srgbClr val="808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5357520" y="579924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199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46320" y="4200480"/>
            <a:ext cx="2876400" cy="2141640"/>
          </a:xfrm>
          <a:custGeom>
            <a:avLst/>
            <a:gdLst/>
            <a:ahLst/>
            <a:rect l="l" t="t" r="r" b="b"/>
            <a:pathLst>
              <a:path w="1812" h="1349">
                <a:moveTo>
                  <a:pt x="0" y="0"/>
                </a:moveTo>
                <a:lnTo>
                  <a:pt x="1811" y="0"/>
                </a:lnTo>
                <a:lnTo>
                  <a:pt x="1811" y="1348"/>
                </a:lnTo>
                <a:lnTo>
                  <a:pt x="0" y="13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960480" y="4200480"/>
            <a:ext cx="3289320" cy="2149560"/>
          </a:xfrm>
          <a:custGeom>
            <a:avLst/>
            <a:gdLst/>
            <a:ahLst/>
            <a:rect l="l" t="t" r="r" b="b"/>
            <a:pathLst>
              <a:path w="2072" h="1354">
                <a:moveTo>
                  <a:pt x="0" y="0"/>
                </a:moveTo>
                <a:lnTo>
                  <a:pt x="2071" y="0"/>
                </a:lnTo>
                <a:lnTo>
                  <a:pt x="2071" y="1353"/>
                </a:lnTo>
                <a:lnTo>
                  <a:pt x="0" y="1353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ff"/>
            </a:solidFill>
            <a:round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368360" y="5275440"/>
            <a:ext cx="166680" cy="215640"/>
          </a:xfrm>
          <a:custGeom>
            <a:avLst/>
            <a:gdLst/>
            <a:ahLst/>
            <a:rect l="l" t="t" r="r" b="b"/>
            <a:pathLst>
              <a:path w="105" h="136">
                <a:moveTo>
                  <a:pt x="0" y="0"/>
                </a:moveTo>
                <a:lnTo>
                  <a:pt x="104" y="0"/>
                </a:lnTo>
                <a:lnTo>
                  <a:pt x="104" y="135"/>
                </a:lnTo>
                <a:lnTo>
                  <a:pt x="0" y="135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944720" y="4414680"/>
            <a:ext cx="168120" cy="1076400"/>
          </a:xfrm>
          <a:custGeom>
            <a:avLst/>
            <a:gdLst/>
            <a:ahLst/>
            <a:rect l="l" t="t" r="r" b="b"/>
            <a:pathLst>
              <a:path w="106" h="678">
                <a:moveTo>
                  <a:pt x="0" y="0"/>
                </a:moveTo>
                <a:lnTo>
                  <a:pt x="105" y="0"/>
                </a:lnTo>
                <a:lnTo>
                  <a:pt x="105" y="677"/>
                </a:lnTo>
                <a:lnTo>
                  <a:pt x="0" y="677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522520" y="5059440"/>
            <a:ext cx="16668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0" y="0"/>
                </a:moveTo>
                <a:lnTo>
                  <a:pt x="104" y="0"/>
                </a:lnTo>
                <a:lnTo>
                  <a:pt x="10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098880" y="4200480"/>
            <a:ext cx="166680" cy="1290600"/>
          </a:xfrm>
          <a:custGeom>
            <a:avLst/>
            <a:gdLst/>
            <a:ahLst/>
            <a:rect l="l" t="t" r="r" b="b"/>
            <a:pathLst>
              <a:path w="105" h="813">
                <a:moveTo>
                  <a:pt x="0" y="0"/>
                </a:moveTo>
                <a:lnTo>
                  <a:pt x="104" y="0"/>
                </a:lnTo>
                <a:lnTo>
                  <a:pt x="104" y="812"/>
                </a:lnTo>
                <a:lnTo>
                  <a:pt x="0" y="812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676680" y="5489640"/>
            <a:ext cx="165240" cy="860400"/>
          </a:xfrm>
          <a:custGeom>
            <a:avLst/>
            <a:gdLst/>
            <a:ahLst/>
            <a:rect l="l" t="t" r="r" b="b"/>
            <a:pathLst>
              <a:path w="104" h="542">
                <a:moveTo>
                  <a:pt x="0" y="0"/>
                </a:moveTo>
                <a:lnTo>
                  <a:pt x="103" y="0"/>
                </a:lnTo>
                <a:lnTo>
                  <a:pt x="103" y="541"/>
                </a:lnTo>
                <a:lnTo>
                  <a:pt x="0" y="541"/>
                </a:lnTo>
                <a:lnTo>
                  <a:pt x="0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1535040" y="5275440"/>
            <a:ext cx="16524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0" y="0"/>
                </a:moveTo>
                <a:lnTo>
                  <a:pt x="103" y="0"/>
                </a:lnTo>
                <a:lnTo>
                  <a:pt x="103" y="135"/>
                </a:lnTo>
                <a:lnTo>
                  <a:pt x="0" y="135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111400" y="5059440"/>
            <a:ext cx="16668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0" y="0"/>
                </a:moveTo>
                <a:lnTo>
                  <a:pt x="104" y="0"/>
                </a:lnTo>
                <a:lnTo>
                  <a:pt x="10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263760" y="4414680"/>
            <a:ext cx="166680" cy="1076400"/>
          </a:xfrm>
          <a:custGeom>
            <a:avLst/>
            <a:gdLst/>
            <a:ahLst/>
            <a:rect l="l" t="t" r="r" b="b"/>
            <a:pathLst>
              <a:path w="105" h="678">
                <a:moveTo>
                  <a:pt x="0" y="0"/>
                </a:moveTo>
                <a:lnTo>
                  <a:pt x="104" y="0"/>
                </a:lnTo>
                <a:lnTo>
                  <a:pt x="104" y="677"/>
                </a:lnTo>
                <a:lnTo>
                  <a:pt x="0" y="677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840120" y="5059440"/>
            <a:ext cx="16668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0" y="0"/>
                </a:moveTo>
                <a:lnTo>
                  <a:pt x="104" y="0"/>
                </a:lnTo>
                <a:lnTo>
                  <a:pt x="104" y="271"/>
                </a:lnTo>
                <a:lnTo>
                  <a:pt x="0" y="271"/>
                </a:lnTo>
                <a:lnTo>
                  <a:pt x="0" y="0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920880" y="63482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920880" y="61340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920880" y="59198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920880" y="57038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920880" y="54896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920880" y="52736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920880" y="50594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920880" y="484488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920880" y="462924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920880" y="441468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920880" y="4200480"/>
            <a:ext cx="44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920880" y="5489280"/>
            <a:ext cx="3330360" cy="12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94284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V="1">
            <a:off x="182088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240048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V="1">
            <a:off x="297648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355284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V="1">
            <a:off x="4129200" y="5452560"/>
            <a:ext cx="0" cy="73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839520" y="6281640"/>
            <a:ext cx="27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839520" y="6064200"/>
            <a:ext cx="27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839520" y="5851440"/>
            <a:ext cx="27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839520" y="5635800"/>
            <a:ext cx="275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823320" y="54212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823320" y="52052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823320" y="49910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823320" y="47768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823320" y="455940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823320" y="43466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823320" y="4132440"/>
            <a:ext cx="232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1358640" y="558180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1936440" y="558180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2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512800" y="558180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3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3087360" y="558180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4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666600" y="5581800"/>
            <a:ext cx="3884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995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1595520" y="5853240"/>
            <a:ext cx="1341360" cy="5428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676520" y="5942160"/>
            <a:ext cx="58680" cy="72720"/>
          </a:xfrm>
          <a:prstGeom prst="rect">
            <a:avLst/>
          </a:prstGeom>
          <a:solidFill>
            <a:srgbClr val="808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440" bIns="2844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757160" y="5908680"/>
            <a:ext cx="8089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New Product -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757880" y="6031080"/>
            <a:ext cx="66096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Competitor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676520" y="6229440"/>
            <a:ext cx="58680" cy="71280"/>
          </a:xfrm>
          <a:prstGeom prst="rect">
            <a:avLst/>
          </a:prstGeom>
          <a:solidFill>
            <a:srgbClr val="80206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7000" bIns="270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756080" y="6192720"/>
            <a:ext cx="115020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New Products - Clien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459800" y="17924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Original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7545240" y="1954080"/>
            <a:ext cx="906480" cy="5698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7642080" y="2027160"/>
            <a:ext cx="120960" cy="90720"/>
          </a:xfrm>
          <a:prstGeom prst="rect">
            <a:avLst/>
          </a:prstGeom>
          <a:solidFill>
            <a:srgbClr val="80206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7785360" y="1990800"/>
            <a:ext cx="60012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Technical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7785720" y="2128680"/>
            <a:ext cx="51948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Suppor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42080" y="2362320"/>
            <a:ext cx="120960" cy="88920"/>
          </a:xfrm>
          <a:prstGeom prst="rect">
            <a:avLst/>
          </a:prstGeom>
          <a:solidFill>
            <a:srgbClr val="808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7785720" y="2324160"/>
            <a:ext cx="62136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800" spc="-1" strike="noStrike">
                <a:solidFill>
                  <a:srgbClr val="0000ff"/>
                </a:solidFill>
                <a:latin typeface="Arial"/>
              </a:rPr>
              <a:t>Engineers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"/>
          <p:cNvSpPr/>
          <p:nvPr/>
        </p:nvSpPr>
        <p:spPr>
          <a:xfrm>
            <a:off x="1482840" y="2502000"/>
            <a:ext cx="6213240" cy="168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1855800" y="2854440"/>
            <a:ext cx="550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ategy and Scenario Analysi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ategy and Scenario Analysi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mulating a strategy requires judgment about the fu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t the future is complex, hard to predi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enarios provide a way to manage this complex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use scenario analys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905120" y="2286000"/>
            <a:ext cx="0" cy="3429000"/>
          </a:xfrm>
          <a:prstGeom prst="line">
            <a:avLst/>
          </a:prstGeom>
          <a:ln w="1260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1905120" y="5715000"/>
            <a:ext cx="47242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825120" y="2516040"/>
            <a:ext cx="64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il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4860360" y="586584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sics of Scenario Analysi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hat it i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way of mapping the future, of focusing attention on critical uncertainti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way of building “robust” strategi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means of generating a common languag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ow it is done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enerate a list of critical uncertainti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hoose the two most critica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raw a “map”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terate and explo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ample: Mapping the future of M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st Key Uncertainti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ll the technologies of distance learning be really successful: will they substitute for learning in person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much education will individuals need? When over the life cycle will they need it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research central to effective teaching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at will happen to public support for higher education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the residence experience a critical part of a university education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ample: Mapping the future of M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hoose Two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ll the technologies of distance learning be really successful: will they substitute for learning in perso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much education will individuals need? When over the life cycle will they need it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research central to effective teaching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hat will happen to public support for higher educatio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the residence experience a critical part of a university education?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ing Choices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Theory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 In Practi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pping the future of M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160" name=""/>
          <p:cNvGrpSpPr/>
          <p:nvPr/>
        </p:nvGrpSpPr>
        <p:grpSpPr>
          <a:xfrm>
            <a:off x="228600" y="1373040"/>
            <a:ext cx="8514360" cy="4951440"/>
            <a:chOff x="228600" y="1373040"/>
            <a:chExt cx="8514360" cy="4951440"/>
          </a:xfrm>
        </p:grpSpPr>
        <p:sp>
          <p:nvSpPr>
            <p:cNvPr id="3161" name=""/>
            <p:cNvSpPr/>
            <p:nvPr/>
          </p:nvSpPr>
          <p:spPr>
            <a:xfrm>
              <a:off x="53352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7180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28600" y="57913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71800" y="57913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165" name=""/>
            <p:cNvGrpSpPr/>
            <p:nvPr/>
          </p:nvGrpSpPr>
          <p:grpSpPr>
            <a:xfrm>
              <a:off x="1219320" y="1752480"/>
              <a:ext cx="6400800" cy="3886200"/>
              <a:chOff x="1219320" y="1752480"/>
              <a:chExt cx="6400800" cy="3886200"/>
            </a:xfrm>
          </p:grpSpPr>
          <p:sp>
            <p:nvSpPr>
              <p:cNvPr id="3166" name=""/>
              <p:cNvSpPr/>
              <p:nvPr/>
            </p:nvSpPr>
            <p:spPr>
              <a:xfrm>
                <a:off x="4419720" y="1752480"/>
                <a:ext cx="0" cy="3886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219320" y="3733920"/>
                <a:ext cx="64008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168" name=""/>
            <p:cNvSpPr/>
            <p:nvPr/>
          </p:nvSpPr>
          <p:spPr>
            <a:xfrm>
              <a:off x="2730600" y="1373040"/>
              <a:ext cx="1765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ublic support fo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education stay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m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730240" y="5180040"/>
              <a:ext cx="1472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ublic support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ollapse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697360" y="3808440"/>
              <a:ext cx="3045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Distance learning 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echnologies clumsy, ineffective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97240" y="3808440"/>
              <a:ext cx="1945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Distance learning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echnologies “work”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pping the future of M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173" name=""/>
          <p:cNvGrpSpPr/>
          <p:nvPr/>
        </p:nvGrpSpPr>
        <p:grpSpPr>
          <a:xfrm>
            <a:off x="228600" y="1373040"/>
            <a:ext cx="8514360" cy="4951440"/>
            <a:chOff x="228600" y="1373040"/>
            <a:chExt cx="8514360" cy="4951440"/>
          </a:xfrm>
        </p:grpSpPr>
        <p:sp>
          <p:nvSpPr>
            <p:cNvPr id="3174" name=""/>
            <p:cNvSpPr/>
            <p:nvPr/>
          </p:nvSpPr>
          <p:spPr>
            <a:xfrm>
              <a:off x="53352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7180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28600" y="57913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71800" y="57913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178" name=""/>
            <p:cNvGrpSpPr/>
            <p:nvPr/>
          </p:nvGrpSpPr>
          <p:grpSpPr>
            <a:xfrm>
              <a:off x="1219320" y="1752480"/>
              <a:ext cx="6400800" cy="3886200"/>
              <a:chOff x="1219320" y="1752480"/>
              <a:chExt cx="6400800" cy="3886200"/>
            </a:xfrm>
          </p:grpSpPr>
          <p:sp>
            <p:nvSpPr>
              <p:cNvPr id="3179" name=""/>
              <p:cNvSpPr/>
              <p:nvPr/>
            </p:nvSpPr>
            <p:spPr>
              <a:xfrm>
                <a:off x="4419720" y="1752480"/>
                <a:ext cx="0" cy="3886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219320" y="3733920"/>
                <a:ext cx="640080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181" name=""/>
            <p:cNvSpPr/>
            <p:nvPr/>
          </p:nvSpPr>
          <p:spPr>
            <a:xfrm>
              <a:off x="2730600" y="1373040"/>
              <a:ext cx="1765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ublic support fo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education stay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m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730240" y="5180040"/>
              <a:ext cx="1472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Public support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ollapse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697360" y="3808440"/>
              <a:ext cx="3045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Distance learning 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echnologies clumsy, ineffective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97240" y="3808440"/>
              <a:ext cx="1945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Distance learning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echnologies “work”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658160" y="2620800"/>
              <a:ext cx="233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ducation for Life”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858560" y="2620800"/>
              <a:ext cx="2448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The Official Future”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734120" y="4451400"/>
              <a:ext cx="2292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Brand Name MIT”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780080" y="4449600"/>
              <a:ext cx="339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evenge of the Ivy League”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may scenario analysis be useful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focuses attention away from “the official future” and allows 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robustnes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strategy to be evalu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focuses attention on critical uncertainties, allowing the organization to track them over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may spark creativity, imagination and a rethinking of core strate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Making choices in theory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 Summar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nancial tools are critically important, but should not substitute for strategic think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chnology development may creat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p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- so that paradoxically the more uncertainty there is, the more valuable they may b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oices must be made as a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ortfoli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so that different projects are explicitly traded off against each oth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may be important to consider th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obustnes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strategy: what will happen if the world looks very, very different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ffective strategies rest on three foundations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202" name=""/>
          <p:cNvGraphicFramePr/>
          <p:nvPr/>
        </p:nvGraphicFramePr>
        <p:xfrm>
          <a:off x="3124080" y="1905120"/>
          <a:ext cx="221004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22100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4" name=""/>
          <p:cNvSpPr/>
          <p:nvPr/>
        </p:nvSpPr>
        <p:spPr>
          <a:xfrm>
            <a:off x="2879640" y="325296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4250520" y="234000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rket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3105360" y="2778120"/>
            <a:ext cx="204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lue Cre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987560" y="3816360"/>
            <a:ext cx="2273400" cy="22352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4273560" y="3816360"/>
            <a:ext cx="2273400" cy="22352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419360" y="4522680"/>
            <a:ext cx="19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petitiv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191680" y="452268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ganizat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answer three key questions..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214" name=""/>
          <p:cNvGraphicFramePr/>
          <p:nvPr/>
        </p:nvGraphicFramePr>
        <p:xfrm>
          <a:off x="3200400" y="1676520"/>
          <a:ext cx="2495520" cy="25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2495520" cy="25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6" name=""/>
          <p:cNvSpPr/>
          <p:nvPr/>
        </p:nvSpPr>
        <p:spPr>
          <a:xfrm>
            <a:off x="3321000" y="335268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386960" y="22096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rket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3137400" y="27986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ow will we create value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502160" y="3892680"/>
            <a:ext cx="2425680" cy="2463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853880" y="4354560"/>
            <a:ext cx="157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ow will w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capture i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n the face of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competition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260080" y="4259160"/>
            <a:ext cx="2126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ow will we build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 organizational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capabiliti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necessary to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deliver it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063880" y="3892680"/>
            <a:ext cx="2425680" cy="2463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derstanding the life cycle is critical since it shapes strategic choices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5720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57200" y="5867280"/>
            <a:ext cx="25146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8720" y="3962160"/>
            <a:ext cx="1886400" cy="1677960"/>
            <a:chOff x="18720" y="3962160"/>
            <a:chExt cx="1886400" cy="1677960"/>
          </a:xfrm>
        </p:grpSpPr>
        <p:sp>
          <p:nvSpPr>
            <p:cNvPr id="3229" name=""/>
            <p:cNvSpPr/>
            <p:nvPr/>
          </p:nvSpPr>
          <p:spPr>
            <a:xfrm>
              <a:off x="18720" y="4935240"/>
              <a:ext cx="1638360" cy="70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51"/>
                  </a:moveTo>
                  <a:arcTo wR="10800" hR="10800" stAng="-15450" swAng="5415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51"/>
                  </a:moveTo>
                  <a:arcTo wR="10800" hR="10800" stAng="-15450" swAng="541545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1657440" y="3962160"/>
              <a:ext cx="247680" cy="132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1905120" y="2363760"/>
            <a:ext cx="1886760" cy="1598760"/>
            <a:chOff x="1905120" y="2363760"/>
            <a:chExt cx="1886760" cy="1598760"/>
          </a:xfrm>
        </p:grpSpPr>
        <p:sp>
          <p:nvSpPr>
            <p:cNvPr id="3232" name=""/>
            <p:cNvSpPr/>
            <p:nvPr/>
          </p:nvSpPr>
          <p:spPr>
            <a:xfrm>
              <a:off x="2154240" y="2363760"/>
              <a:ext cx="163764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3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33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H="1">
              <a:off x="1905120" y="2698920"/>
              <a:ext cx="247680" cy="1263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234" name=""/>
          <p:cNvSpPr/>
          <p:nvPr/>
        </p:nvSpPr>
        <p:spPr>
          <a:xfrm>
            <a:off x="2040120" y="493704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r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69240" y="37180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akeof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2039760" y="2651040"/>
            <a:ext cx="125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tur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65760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63868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62012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464832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6629400" y="2286000"/>
            <a:ext cx="0" cy="3581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4648320" y="1676160"/>
            <a:ext cx="106668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5638680" y="1676160"/>
            <a:ext cx="106704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6629400" y="1676160"/>
            <a:ext cx="106668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1981080" y="3429000"/>
            <a:ext cx="5639040" cy="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752480" y="4648320"/>
            <a:ext cx="5867640" cy="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733920" y="2286000"/>
            <a:ext cx="3962160" cy="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2895480" y="5867280"/>
            <a:ext cx="4724640" cy="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327560" y="1600200"/>
            <a:ext cx="1396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4935600" y="1935000"/>
            <a:ext cx="101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arke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002280" y="160020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peti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991560" y="1935000"/>
            <a:ext cx="151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rganiz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7620120" y="1676160"/>
            <a:ext cx="106668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724280" y="1676520"/>
            <a:ext cx="3962520" cy="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3657600" y="1676160"/>
            <a:ext cx="106668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ue Cre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257" name=""/>
          <p:cNvGraphicFramePr/>
          <p:nvPr/>
        </p:nvGraphicFramePr>
        <p:xfrm>
          <a:off x="3124080" y="2286000"/>
          <a:ext cx="249552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6000"/>
                    <a:ext cx="249552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9" name=""/>
          <p:cNvSpPr/>
          <p:nvPr/>
        </p:nvSpPr>
        <p:spPr>
          <a:xfrm>
            <a:off x="3151080" y="373392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4217400" y="25909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rket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2967480" y="317988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ow will we create value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262" name=""/>
          <p:cNvGrpSpPr/>
          <p:nvPr/>
        </p:nvGrpSpPr>
        <p:grpSpPr>
          <a:xfrm>
            <a:off x="94680" y="1588680"/>
            <a:ext cx="3577320" cy="2295720"/>
            <a:chOff x="94680" y="1588680"/>
            <a:chExt cx="3577320" cy="2295720"/>
          </a:xfrm>
        </p:grpSpPr>
        <p:grpSp>
          <p:nvGrpSpPr>
            <p:cNvPr id="3263" name=""/>
            <p:cNvGrpSpPr/>
            <p:nvPr/>
          </p:nvGrpSpPr>
          <p:grpSpPr>
            <a:xfrm>
              <a:off x="94680" y="2402280"/>
              <a:ext cx="2493360" cy="1482120"/>
              <a:chOff x="94680" y="2402280"/>
              <a:chExt cx="2493360" cy="1482120"/>
            </a:xfrm>
          </p:grpSpPr>
          <p:sp>
            <p:nvSpPr>
              <p:cNvPr id="3264" name=""/>
              <p:cNvSpPr/>
              <p:nvPr/>
            </p:nvSpPr>
            <p:spPr>
              <a:xfrm>
                <a:off x="609480" y="2518200"/>
                <a:ext cx="0" cy="1365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480" y="3884400"/>
                <a:ext cx="15991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94680" y="2402280"/>
                <a:ext cx="2493360" cy="1482120"/>
                <a:chOff x="94680" y="2402280"/>
                <a:chExt cx="2493360" cy="148212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94680" y="2402280"/>
                  <a:ext cx="1245960" cy="13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1341720" y="2490120"/>
                  <a:ext cx="1246320" cy="139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68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6886"/>
                    </a:path>
                  </a:pathLst>
                </a:custGeom>
                <a:noFill/>
                <a:ln cap="rnd"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9" name=""/>
            <p:cNvGrpSpPr/>
            <p:nvPr/>
          </p:nvGrpSpPr>
          <p:grpSpPr>
            <a:xfrm>
              <a:off x="1179000" y="1588680"/>
              <a:ext cx="2493000" cy="1482120"/>
              <a:chOff x="1179000" y="1588680"/>
              <a:chExt cx="2493000" cy="1482120"/>
            </a:xfrm>
          </p:grpSpPr>
          <p:sp>
            <p:nvSpPr>
              <p:cNvPr id="3270" name=""/>
              <p:cNvSpPr/>
              <p:nvPr/>
            </p:nvSpPr>
            <p:spPr>
              <a:xfrm>
                <a:off x="1179000" y="1588680"/>
                <a:ext cx="1246320" cy="139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426040" y="1676520"/>
                <a:ext cx="1245960" cy="139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8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886"/>
                  </a:path>
                </a:pathLst>
              </a:custGeom>
              <a:noFill/>
              <a:ln cap="rnd"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pic>
          <p:nvPicPr>
            <p:cNvPr id="3272" name="sy01265_" descr=""/>
            <p:cNvPicPr/>
            <p:nvPr/>
          </p:nvPicPr>
          <p:blipFill>
            <a:blip r:embed="rId3"/>
            <a:stretch/>
          </p:blipFill>
          <p:spPr>
            <a:xfrm>
              <a:off x="1856520" y="2489760"/>
              <a:ext cx="204840" cy="46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3" name=""/>
          <p:cNvGrpSpPr/>
          <p:nvPr/>
        </p:nvGrpSpPr>
        <p:grpSpPr>
          <a:xfrm>
            <a:off x="685800" y="4343400"/>
            <a:ext cx="3429000" cy="1905120"/>
            <a:chOff x="685800" y="4343400"/>
            <a:chExt cx="3429000" cy="1905120"/>
          </a:xfrm>
        </p:grpSpPr>
        <p:grpSp>
          <p:nvGrpSpPr>
            <p:cNvPr id="3274" name=""/>
            <p:cNvGrpSpPr/>
            <p:nvPr/>
          </p:nvGrpSpPr>
          <p:grpSpPr>
            <a:xfrm>
              <a:off x="685800" y="4343400"/>
              <a:ext cx="2697480" cy="1905120"/>
              <a:chOff x="685800" y="4343400"/>
              <a:chExt cx="2697480" cy="1905120"/>
            </a:xfrm>
          </p:grpSpPr>
          <p:sp>
            <p:nvSpPr>
              <p:cNvPr id="3275" name=""/>
              <p:cNvSpPr/>
              <p:nvPr/>
            </p:nvSpPr>
            <p:spPr>
              <a:xfrm>
                <a:off x="685800" y="4343400"/>
                <a:ext cx="0" cy="1905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85800" y="6248520"/>
                <a:ext cx="26974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277" name=""/>
            <p:cNvSpPr/>
            <p:nvPr/>
          </p:nvSpPr>
          <p:spPr>
            <a:xfrm>
              <a:off x="685800" y="4377240"/>
              <a:ext cx="1508760" cy="1627920"/>
            </a:xfrm>
            <a:custGeom>
              <a:avLst/>
              <a:gdLst/>
              <a:ahLst/>
              <a:rect l="l" t="t" r="r" b="b"/>
              <a:pathLst>
                <a:path w="1584" h="1928">
                  <a:moveTo>
                    <a:pt x="0" y="1016"/>
                  </a:moveTo>
                  <a:cubicBezTo>
                    <a:pt x="228" y="508"/>
                    <a:pt x="456" y="0"/>
                    <a:pt x="720" y="152"/>
                  </a:cubicBezTo>
                  <a:cubicBezTo>
                    <a:pt x="984" y="304"/>
                    <a:pt x="1284" y="1116"/>
                    <a:pt x="1584" y="1928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280160" y="4660560"/>
              <a:ext cx="2834640" cy="979560"/>
            </a:xfrm>
            <a:custGeom>
              <a:avLst/>
              <a:gdLst/>
              <a:ahLst/>
              <a:rect l="l" t="t" r="r" b="b"/>
              <a:pathLst>
                <a:path w="2976" h="1160">
                  <a:moveTo>
                    <a:pt x="0" y="1160"/>
                  </a:moveTo>
                  <a:cubicBezTo>
                    <a:pt x="496" y="588"/>
                    <a:pt x="992" y="16"/>
                    <a:pt x="1488" y="8"/>
                  </a:cubicBezTo>
                  <a:cubicBezTo>
                    <a:pt x="1984" y="0"/>
                    <a:pt x="2480" y="556"/>
                    <a:pt x="2976" y="111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5599080" y="1676520"/>
            <a:ext cx="3476160" cy="1828800"/>
            <a:chOff x="5599080" y="1676520"/>
            <a:chExt cx="3476160" cy="1828800"/>
          </a:xfrm>
        </p:grpSpPr>
        <p:sp>
          <p:nvSpPr>
            <p:cNvPr id="3280" name=""/>
            <p:cNvSpPr/>
            <p:nvPr/>
          </p:nvSpPr>
          <p:spPr>
            <a:xfrm>
              <a:off x="6248520" y="1676520"/>
              <a:ext cx="0" cy="1828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248520" y="3505320"/>
              <a:ext cx="25146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599080" y="1809720"/>
              <a:ext cx="1298520" cy="169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6899400" y="2076480"/>
              <a:ext cx="901800" cy="11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3"/>
                  </a:moveTo>
                  <a:arcTo wR="10800" hR="10800" stAng="-10794608" swAng="539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3"/>
                  </a:moveTo>
                  <a:arcTo wR="10800" hR="10800" stAng="-10794608" swAng="5390135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869160" y="2078280"/>
              <a:ext cx="904680" cy="11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4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460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4200" y="1809720"/>
              <a:ext cx="1301040" cy="169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286" name=""/>
            <p:cNvGrpSpPr/>
            <p:nvPr/>
          </p:nvGrpSpPr>
          <p:grpSpPr>
            <a:xfrm>
              <a:off x="6788520" y="2597400"/>
              <a:ext cx="220680" cy="123840"/>
              <a:chOff x="6788520" y="2597400"/>
              <a:chExt cx="220680" cy="123840"/>
            </a:xfrm>
          </p:grpSpPr>
          <p:sp>
            <p:nvSpPr>
              <p:cNvPr id="3287" name=""/>
              <p:cNvSpPr/>
              <p:nvPr/>
            </p:nvSpPr>
            <p:spPr>
              <a:xfrm>
                <a:off x="6788520" y="2597400"/>
                <a:ext cx="79560" cy="12384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929280" y="2597400"/>
                <a:ext cx="79920" cy="123840"/>
              </a:xfrm>
              <a:prstGeom prst="leftArrow">
                <a:avLst>
                  <a:gd name="adj1" fmla="val 50000"/>
                  <a:gd name="adj2" fmla="val 49995"/>
                </a:avLst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9" name=""/>
          <p:cNvGrpSpPr/>
          <p:nvPr/>
        </p:nvGrpSpPr>
        <p:grpSpPr>
          <a:xfrm>
            <a:off x="5943600" y="4114800"/>
            <a:ext cx="2819160" cy="2209680"/>
            <a:chOff x="5943600" y="4114800"/>
            <a:chExt cx="2819160" cy="2209680"/>
          </a:xfrm>
        </p:grpSpPr>
        <p:grpSp>
          <p:nvGrpSpPr>
            <p:cNvPr id="3290" name=""/>
            <p:cNvGrpSpPr/>
            <p:nvPr/>
          </p:nvGrpSpPr>
          <p:grpSpPr>
            <a:xfrm>
              <a:off x="5943600" y="4287960"/>
              <a:ext cx="2683080" cy="2036520"/>
              <a:chOff x="5943600" y="4287960"/>
              <a:chExt cx="2683080" cy="2036520"/>
            </a:xfrm>
          </p:grpSpPr>
          <p:sp>
            <p:nvSpPr>
              <p:cNvPr id="3291" name=""/>
              <p:cNvSpPr/>
              <p:nvPr/>
            </p:nvSpPr>
            <p:spPr>
              <a:xfrm>
                <a:off x="5943600" y="4287960"/>
                <a:ext cx="0" cy="2036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943600" y="6324480"/>
                <a:ext cx="26830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293" name=""/>
            <p:cNvSpPr/>
            <p:nvPr/>
          </p:nvSpPr>
          <p:spPr>
            <a:xfrm flipV="1">
              <a:off x="6216120" y="4677840"/>
              <a:ext cx="2228400" cy="519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V="1">
              <a:off x="6216120" y="4157640"/>
              <a:ext cx="2000880" cy="95328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6534720" y="5631120"/>
              <a:ext cx="2228040" cy="51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V="1">
              <a:off x="6580080" y="4114800"/>
              <a:ext cx="2091960" cy="19497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ue Captur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073320" y="2585880"/>
            <a:ext cx="2425680" cy="2463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3305880" y="3352680"/>
            <a:ext cx="1954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ow will w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apture Value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02" name=""/>
          <p:cNvGrpSpPr/>
          <p:nvPr/>
        </p:nvGrpSpPr>
        <p:grpSpPr>
          <a:xfrm>
            <a:off x="685800" y="1828440"/>
            <a:ext cx="1600200" cy="2134080"/>
            <a:chOff x="685800" y="1828440"/>
            <a:chExt cx="1600200" cy="2134080"/>
          </a:xfrm>
        </p:grpSpPr>
        <p:sp>
          <p:nvSpPr>
            <p:cNvPr id="3303" name=""/>
            <p:cNvSpPr/>
            <p:nvPr/>
          </p:nvSpPr>
          <p:spPr>
            <a:xfrm>
              <a:off x="685800" y="1828800"/>
              <a:ext cx="160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85800" y="1828440"/>
              <a:ext cx="0" cy="213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2286000" y="1828440"/>
              <a:ext cx="0" cy="213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85800" y="3962520"/>
              <a:ext cx="160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85800" y="2922480"/>
              <a:ext cx="160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1486800" y="1828440"/>
              <a:ext cx="0" cy="213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380880" y="4419720"/>
            <a:ext cx="3651480" cy="2012400"/>
            <a:chOff x="380880" y="4419720"/>
            <a:chExt cx="3651480" cy="2012400"/>
          </a:xfrm>
        </p:grpSpPr>
        <p:sp>
          <p:nvSpPr>
            <p:cNvPr id="3310" name=""/>
            <p:cNvSpPr/>
            <p:nvPr/>
          </p:nvSpPr>
          <p:spPr>
            <a:xfrm>
              <a:off x="1712520" y="4419720"/>
              <a:ext cx="987480" cy="54432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Entrant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712520" y="5887800"/>
              <a:ext cx="987480" cy="54432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ubstitute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80880" y="5153760"/>
              <a:ext cx="987120" cy="54432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upplier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044880" y="5153760"/>
              <a:ext cx="987480" cy="54432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uyer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712520" y="5153760"/>
              <a:ext cx="987480" cy="54432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Rivals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374840" y="5410800"/>
              <a:ext cx="311400" cy="104040"/>
            </a:xfrm>
            <a:prstGeom prst="rightArrow">
              <a:avLst>
                <a:gd name="adj1" fmla="val 75009"/>
                <a:gd name="adj2" fmla="val 149667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26640" y="5410800"/>
              <a:ext cx="311400" cy="104040"/>
            </a:xfrm>
            <a:prstGeom prst="leftArrow">
              <a:avLst>
                <a:gd name="adj1" fmla="val 75009"/>
                <a:gd name="adj2" fmla="val 149640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150280" y="5695200"/>
              <a:ext cx="112680" cy="195480"/>
            </a:xfrm>
            <a:prstGeom prst="upArrow">
              <a:avLst>
                <a:gd name="adj1" fmla="val 75009"/>
                <a:gd name="adj2" fmla="val 86733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150280" y="4961160"/>
              <a:ext cx="112680" cy="195480"/>
            </a:xfrm>
            <a:prstGeom prst="downArrow">
              <a:avLst>
                <a:gd name="adj1" fmla="val 75009"/>
                <a:gd name="adj2" fmla="val 86749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319" name=""/>
          <p:cNvSpPr/>
          <p:nvPr/>
        </p:nvSpPr>
        <p:spPr>
          <a:xfrm>
            <a:off x="592560" y="1415880"/>
            <a:ext cx="20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omplementary Asset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-18720" y="242424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ppr.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21" name=""/>
          <p:cNvGrpSpPr/>
          <p:nvPr/>
        </p:nvGrpSpPr>
        <p:grpSpPr>
          <a:xfrm>
            <a:off x="5867280" y="1523880"/>
            <a:ext cx="2362320" cy="2186280"/>
            <a:chOff x="5867280" y="1523880"/>
            <a:chExt cx="2362320" cy="2186280"/>
          </a:xfrm>
        </p:grpSpPr>
        <p:sp>
          <p:nvSpPr>
            <p:cNvPr id="3322" name=""/>
            <p:cNvSpPr/>
            <p:nvPr/>
          </p:nvSpPr>
          <p:spPr>
            <a:xfrm>
              <a:off x="5867280" y="1523880"/>
              <a:ext cx="0" cy="2186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67280" y="3710160"/>
              <a:ext cx="19170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867280" y="1777680"/>
              <a:ext cx="1985760" cy="1613520"/>
            </a:xfrm>
            <a:custGeom>
              <a:avLst/>
              <a:gdLst/>
              <a:ahLst/>
              <a:rect l="l" t="t" r="r" b="b"/>
              <a:pathLst>
                <a:path w="2784" h="1736">
                  <a:moveTo>
                    <a:pt x="0" y="1728"/>
                  </a:moveTo>
                  <a:cubicBezTo>
                    <a:pt x="348" y="1732"/>
                    <a:pt x="696" y="1736"/>
                    <a:pt x="1008" y="1680"/>
                  </a:cubicBezTo>
                  <a:cubicBezTo>
                    <a:pt x="1320" y="1624"/>
                    <a:pt x="1576" y="1672"/>
                    <a:pt x="1872" y="1392"/>
                  </a:cubicBezTo>
                  <a:cubicBezTo>
                    <a:pt x="2168" y="1112"/>
                    <a:pt x="2476" y="556"/>
                    <a:pt x="2784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867280" y="3026880"/>
              <a:ext cx="2362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76920" y="4114800"/>
            <a:ext cx="3809880" cy="2514600"/>
            <a:chOff x="4876920" y="4114800"/>
            <a:chExt cx="3809880" cy="2514600"/>
          </a:xfrm>
        </p:grpSpPr>
        <p:sp>
          <p:nvSpPr>
            <p:cNvPr id="3327" name=""/>
            <p:cNvSpPr/>
            <p:nvPr/>
          </p:nvSpPr>
          <p:spPr>
            <a:xfrm>
              <a:off x="4876920" y="6382080"/>
              <a:ext cx="10947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53360" y="6382080"/>
              <a:ext cx="1664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756400" y="4118040"/>
              <a:ext cx="2926800" cy="226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5752800" y="4114800"/>
              <a:ext cx="2934000" cy="2267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5796360" y="4155840"/>
              <a:ext cx="2846520" cy="2225880"/>
              <a:chOff x="5796360" y="4155840"/>
              <a:chExt cx="2846520" cy="2225880"/>
            </a:xfrm>
          </p:grpSpPr>
          <p:sp>
            <p:nvSpPr>
              <p:cNvPr id="3332" name=""/>
              <p:cNvSpPr/>
              <p:nvPr/>
            </p:nvSpPr>
            <p:spPr>
              <a:xfrm>
                <a:off x="5796360" y="5227560"/>
                <a:ext cx="1445040" cy="1154160"/>
              </a:xfrm>
              <a:custGeom>
                <a:avLst/>
                <a:gdLst/>
                <a:ahLst/>
                <a:rect l="l" t="t" r="r" b="b"/>
                <a:pathLst>
                  <a:path w="1776" h="1440">
                    <a:moveTo>
                      <a:pt x="0" y="1440"/>
                    </a:moveTo>
                    <a:cubicBezTo>
                      <a:pt x="600" y="1392"/>
                      <a:pt x="1200" y="1344"/>
                      <a:pt x="1488" y="1104"/>
                    </a:cubicBezTo>
                    <a:cubicBezTo>
                      <a:pt x="1776" y="864"/>
                      <a:pt x="1752" y="432"/>
                      <a:pt x="1728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H="1" flipV="1">
                <a:off x="7153920" y="4155840"/>
                <a:ext cx="1488960" cy="1154160"/>
              </a:xfrm>
              <a:custGeom>
                <a:avLst/>
                <a:gdLst/>
                <a:ahLst/>
                <a:rect l="l" t="t" r="r" b="b"/>
                <a:pathLst>
                  <a:path w="1776" h="1440">
                    <a:moveTo>
                      <a:pt x="0" y="1440"/>
                    </a:moveTo>
                    <a:cubicBezTo>
                      <a:pt x="600" y="1392"/>
                      <a:pt x="1200" y="1344"/>
                      <a:pt x="1488" y="1104"/>
                    </a:cubicBezTo>
                    <a:cubicBezTo>
                      <a:pt x="1776" y="864"/>
                      <a:pt x="1752" y="432"/>
                      <a:pt x="1728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334" name=""/>
            <p:cNvSpPr/>
            <p:nvPr/>
          </p:nvSpPr>
          <p:spPr>
            <a:xfrm>
              <a:off x="7285320" y="4527000"/>
              <a:ext cx="875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V="1">
              <a:off x="8161200" y="4237920"/>
              <a:ext cx="0" cy="28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1200" y="4238280"/>
              <a:ext cx="350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337" name=""/>
            <p:cNvGrpSpPr/>
            <p:nvPr/>
          </p:nvGrpSpPr>
          <p:grpSpPr>
            <a:xfrm>
              <a:off x="5839920" y="5351400"/>
              <a:ext cx="1357560" cy="989280"/>
              <a:chOff x="5839920" y="5351400"/>
              <a:chExt cx="1357560" cy="989280"/>
            </a:xfrm>
          </p:grpSpPr>
          <p:sp>
            <p:nvSpPr>
              <p:cNvPr id="3338" name=""/>
              <p:cNvSpPr/>
              <p:nvPr/>
            </p:nvSpPr>
            <p:spPr>
              <a:xfrm flipH="1">
                <a:off x="6190200" y="6052320"/>
                <a:ext cx="8758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190560" y="6052320"/>
                <a:ext cx="0" cy="288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5839920" y="6340680"/>
                <a:ext cx="3502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066440" y="5392440"/>
                <a:ext cx="0" cy="659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7066440" y="5351400"/>
                <a:ext cx="1310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 flipV="1">
              <a:off x="7329240" y="4485600"/>
              <a:ext cx="0" cy="65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197840" y="5186520"/>
              <a:ext cx="131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rocess for doing technology strate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ols for making decis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ue Deliver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073320" y="2585880"/>
            <a:ext cx="2425680" cy="2463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3306600" y="3352680"/>
            <a:ext cx="1841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ow will w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eliver Value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838080" y="3581280"/>
            <a:ext cx="3041640" cy="2819520"/>
            <a:chOff x="838080" y="3581280"/>
            <a:chExt cx="3041640" cy="2819520"/>
          </a:xfrm>
        </p:grpSpPr>
        <p:sp>
          <p:nvSpPr>
            <p:cNvPr id="3351" name=""/>
            <p:cNvSpPr/>
            <p:nvPr/>
          </p:nvSpPr>
          <p:spPr>
            <a:xfrm>
              <a:off x="838080" y="3581280"/>
              <a:ext cx="3041640" cy="281952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557720" y="5103000"/>
              <a:ext cx="1598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215360" y="5729400"/>
              <a:ext cx="228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824480" y="4565880"/>
              <a:ext cx="10656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533520" y="1600200"/>
            <a:ext cx="2437920" cy="2438280"/>
            <a:chOff x="533520" y="1600200"/>
            <a:chExt cx="2437920" cy="2438280"/>
          </a:xfrm>
        </p:grpSpPr>
        <p:sp>
          <p:nvSpPr>
            <p:cNvPr id="3356" name=""/>
            <p:cNvSpPr/>
            <p:nvPr/>
          </p:nvSpPr>
          <p:spPr>
            <a:xfrm>
              <a:off x="1295280" y="1600200"/>
              <a:ext cx="0" cy="1828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295280" y="3429000"/>
              <a:ext cx="16761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533520" y="3429000"/>
              <a:ext cx="761760" cy="609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15000" y="3962520"/>
            <a:ext cx="2819520" cy="2438280"/>
            <a:chOff x="5715000" y="3962520"/>
            <a:chExt cx="2819520" cy="2438280"/>
          </a:xfrm>
        </p:grpSpPr>
        <p:sp>
          <p:nvSpPr>
            <p:cNvPr id="3360" name=""/>
            <p:cNvSpPr/>
            <p:nvPr/>
          </p:nvSpPr>
          <p:spPr>
            <a:xfrm>
              <a:off x="5715000" y="3962520"/>
              <a:ext cx="0" cy="2438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15000" y="6400800"/>
              <a:ext cx="28195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715000" y="5211360"/>
              <a:ext cx="28195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715000" y="4694400"/>
              <a:ext cx="727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442200" y="4694400"/>
              <a:ext cx="0" cy="136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442200" y="6062400"/>
              <a:ext cx="20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2209680" y="2057400"/>
            <a:ext cx="533520" cy="457200"/>
          </a:xfrm>
          <a:prstGeom prst="star5">
            <a:avLst/>
          </a:prstGeom>
          <a:solidFill>
            <a:srgbClr val="ff66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2826000" y="19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676520" y="5257800"/>
            <a:ext cx="129528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5185080" y="1606680"/>
            <a:ext cx="3688560" cy="2177280"/>
            <a:chOff x="5185080" y="1606680"/>
            <a:chExt cx="3688560" cy="2177280"/>
          </a:xfrm>
        </p:grpSpPr>
        <p:sp>
          <p:nvSpPr>
            <p:cNvPr id="3370" name=""/>
            <p:cNvSpPr/>
            <p:nvPr/>
          </p:nvSpPr>
          <p:spPr>
            <a:xfrm>
              <a:off x="5929200" y="1606680"/>
              <a:ext cx="0" cy="1898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929200" y="3505320"/>
              <a:ext cx="2605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012080" y="1805040"/>
              <a:ext cx="0" cy="1700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639120" y="1963800"/>
              <a:ext cx="745560" cy="18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5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5169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675480" y="1965600"/>
              <a:ext cx="742680" cy="181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5"/>
                  </a:moveTo>
                  <a:arcTo wR="10800" hR="10800" stAng="-10795174" swAng="5386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5"/>
                  </a:moveTo>
                  <a:arcTo wR="10800" hR="10800" stAng="-10795174" swAng="5386422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185080" y="2239200"/>
              <a:ext cx="1490040" cy="126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4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4376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385040" y="2239200"/>
              <a:ext cx="1488600" cy="126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26560" y="2635560"/>
              <a:ext cx="0" cy="869760"/>
            </a:xfrm>
            <a:prstGeom prst="line">
              <a:avLst/>
            </a:prstGeom>
            <a:ln w="12600">
              <a:solidFill>
                <a:srgbClr val="fb053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tually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echnology Strateg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379" name=""/>
          <p:cNvGraphicFramePr/>
          <p:nvPr/>
        </p:nvGraphicFramePr>
        <p:xfrm>
          <a:off x="3429000" y="1905120"/>
          <a:ext cx="175248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17524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1" name=""/>
          <p:cNvSpPr/>
          <p:nvPr/>
        </p:nvSpPr>
        <p:spPr>
          <a:xfrm>
            <a:off x="4952880" y="3965400"/>
            <a:ext cx="1676520" cy="13687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2209680" y="3965400"/>
            <a:ext cx="1676520" cy="13687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887280" y="243828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334480" y="43466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ptu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0920" y="4422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liv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rot="18711600">
            <a:off x="3009960" y="3314520"/>
            <a:ext cx="1295280" cy="609840"/>
          </a:xfrm>
          <a:prstGeom prst="leftRightArrow">
            <a:avLst>
              <a:gd name="adj1" fmla="val 50000"/>
              <a:gd name="adj2" fmla="val 42283"/>
            </a:avLst>
          </a:prstGeom>
          <a:solidFill>
            <a:srgbClr val="ff6633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 flipH="1" rot="2888400">
            <a:off x="4304880" y="3314520"/>
            <a:ext cx="1295280" cy="609480"/>
          </a:xfrm>
          <a:prstGeom prst="leftRightArrow">
            <a:avLst>
              <a:gd name="adj1" fmla="val 50000"/>
              <a:gd name="adj2" fmla="val 42308"/>
            </a:avLst>
          </a:prstGeom>
          <a:solidFill>
            <a:srgbClr val="ff6633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 flipH="1" rot="24600">
            <a:off x="3733920" y="4343400"/>
            <a:ext cx="1295280" cy="609480"/>
          </a:xfrm>
          <a:prstGeom prst="leftRightArrow">
            <a:avLst>
              <a:gd name="adj1" fmla="val 50000"/>
              <a:gd name="adj2" fmla="val 42308"/>
            </a:avLst>
          </a:prstGeom>
          <a:solidFill>
            <a:srgbClr val="ff6633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89" name=""/>
          <p:cNvGrpSpPr/>
          <p:nvPr/>
        </p:nvGrpSpPr>
        <p:grpSpPr>
          <a:xfrm>
            <a:off x="5715000" y="1828440"/>
            <a:ext cx="2921040" cy="1576440"/>
            <a:chOff x="5715000" y="1828440"/>
            <a:chExt cx="2921040" cy="1576440"/>
          </a:xfrm>
        </p:grpSpPr>
        <p:sp>
          <p:nvSpPr>
            <p:cNvPr id="3390" name=""/>
            <p:cNvSpPr/>
            <p:nvPr/>
          </p:nvSpPr>
          <p:spPr>
            <a:xfrm>
              <a:off x="7637400" y="2971800"/>
              <a:ext cx="8208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391" name=""/>
            <p:cNvGrpSpPr/>
            <p:nvPr/>
          </p:nvGrpSpPr>
          <p:grpSpPr>
            <a:xfrm>
              <a:off x="5715000" y="1828440"/>
              <a:ext cx="2921040" cy="1576440"/>
              <a:chOff x="5715000" y="1828440"/>
              <a:chExt cx="2921040" cy="1576440"/>
            </a:xfrm>
          </p:grpSpPr>
          <p:sp>
            <p:nvSpPr>
              <p:cNvPr id="3392" name=""/>
              <p:cNvSpPr/>
              <p:nvPr/>
            </p:nvSpPr>
            <p:spPr>
              <a:xfrm>
                <a:off x="5715000" y="1828800"/>
                <a:ext cx="27748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262560" y="2251080"/>
                <a:ext cx="0" cy="1127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262560" y="2251080"/>
                <a:ext cx="22273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669080" y="2955960"/>
                <a:ext cx="0" cy="422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043760" y="2673360"/>
                <a:ext cx="0" cy="704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043760" y="2673360"/>
                <a:ext cx="14461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715000" y="3378240"/>
                <a:ext cx="27748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V="1">
                <a:off x="8489880" y="1828800"/>
                <a:ext cx="0" cy="1549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V="1">
                <a:off x="5715000" y="1828440"/>
                <a:ext cx="0" cy="1576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943600" y="2057400"/>
                <a:ext cx="126720" cy="130320"/>
              </a:xfrm>
              <a:prstGeom prst="ellipse">
                <a:avLst/>
              </a:prstGeom>
              <a:gradFill rotWithShape="0">
                <a:gsLst>
                  <a:gs pos="0">
                    <a:srgbClr val="ff6633"/>
                  </a:gs>
                  <a:gs pos="50000">
                    <a:srgbClr val="752f17"/>
                  </a:gs>
                  <a:gs pos="100000">
                    <a:srgbClr val="ff66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400800" y="2133720"/>
                <a:ext cx="558720" cy="5652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696080" y="3124440"/>
                <a:ext cx="127080" cy="129960"/>
              </a:xfrm>
              <a:prstGeom prst="ellipse">
                <a:avLst/>
              </a:prstGeom>
              <a:gradFill rotWithShape="0">
                <a:gsLst>
                  <a:gs pos="0">
                    <a:srgbClr val="ff6633"/>
                  </a:gs>
                  <a:gs pos="50000">
                    <a:srgbClr val="752f17"/>
                  </a:gs>
                  <a:gs pos="100000">
                    <a:srgbClr val="ff66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076960" y="2819520"/>
                <a:ext cx="559080" cy="5652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62560" y="2895840"/>
                <a:ext cx="339840" cy="34920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248160" y="2438640"/>
                <a:ext cx="338400" cy="34920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619760" y="2590920"/>
                <a:ext cx="357480" cy="34920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8" name=""/>
          <p:cNvGrpSpPr/>
          <p:nvPr/>
        </p:nvGrpSpPr>
        <p:grpSpPr>
          <a:xfrm>
            <a:off x="457200" y="4876920"/>
            <a:ext cx="2819520" cy="1600200"/>
            <a:chOff x="457200" y="4876920"/>
            <a:chExt cx="2819520" cy="1600200"/>
          </a:xfrm>
        </p:grpSpPr>
        <p:grpSp>
          <p:nvGrpSpPr>
            <p:cNvPr id="3409" name=""/>
            <p:cNvGrpSpPr/>
            <p:nvPr/>
          </p:nvGrpSpPr>
          <p:grpSpPr>
            <a:xfrm>
              <a:off x="533520" y="4876920"/>
              <a:ext cx="2438280" cy="1600200"/>
              <a:chOff x="533520" y="4876920"/>
              <a:chExt cx="2438280" cy="1600200"/>
            </a:xfrm>
          </p:grpSpPr>
          <p:sp>
            <p:nvSpPr>
              <p:cNvPr id="3410" name=""/>
              <p:cNvSpPr/>
              <p:nvPr/>
            </p:nvSpPr>
            <p:spPr>
              <a:xfrm>
                <a:off x="533520" y="5010120"/>
                <a:ext cx="2403000" cy="500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568800" y="5843160"/>
                <a:ext cx="2403000" cy="500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098720" y="4876920"/>
                <a:ext cx="0" cy="1600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841040" y="4876920"/>
                <a:ext cx="0" cy="1600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2512440" y="4876920"/>
                <a:ext cx="0" cy="1600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>
              <a:off x="1219320" y="5867640"/>
              <a:ext cx="533160" cy="15228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743200" y="556272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05120" y="5486400"/>
              <a:ext cx="533160" cy="15264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50000">
                  <a:srgbClr val="000099"/>
                </a:gs>
                <a:gs pos="100000">
                  <a:srgbClr val="000046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057400" y="563904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7200" y="518184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09480" y="533412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304920" y="1523880"/>
            <a:ext cx="2894760" cy="2590200"/>
            <a:chOff x="304920" y="1523880"/>
            <a:chExt cx="2894760" cy="2590200"/>
          </a:xfrm>
        </p:grpSpPr>
        <p:sp>
          <p:nvSpPr>
            <p:cNvPr id="3422" name=""/>
            <p:cNvSpPr/>
            <p:nvPr/>
          </p:nvSpPr>
          <p:spPr>
            <a:xfrm>
              <a:off x="304920" y="2800080"/>
              <a:ext cx="64080" cy="770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1270080" y="1523880"/>
              <a:ext cx="996840" cy="1236960"/>
              <a:chOff x="1270080" y="1523880"/>
              <a:chExt cx="996840" cy="1236960"/>
            </a:xfrm>
          </p:grpSpPr>
          <p:sp>
            <p:nvSpPr>
              <p:cNvPr id="3424" name=""/>
              <p:cNvSpPr/>
              <p:nvPr/>
            </p:nvSpPr>
            <p:spPr>
              <a:xfrm>
                <a:off x="1270080" y="210384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V="1">
                <a:off x="1270080" y="156204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270080" y="214236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2202840" y="268380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2202840" y="152388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429" name=""/>
            <p:cNvGrpSpPr/>
            <p:nvPr/>
          </p:nvGrpSpPr>
          <p:grpSpPr>
            <a:xfrm>
              <a:off x="2202840" y="2103840"/>
              <a:ext cx="996840" cy="1236960"/>
              <a:chOff x="2202840" y="2103840"/>
              <a:chExt cx="996840" cy="1236960"/>
            </a:xfrm>
          </p:grpSpPr>
          <p:sp>
            <p:nvSpPr>
              <p:cNvPr id="3430" name=""/>
              <p:cNvSpPr/>
              <p:nvPr/>
            </p:nvSpPr>
            <p:spPr>
              <a:xfrm>
                <a:off x="2202840" y="268380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V="1">
                <a:off x="2202840" y="214200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2202840" y="272232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3135600" y="326376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3135600" y="210384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435" name=""/>
            <p:cNvGrpSpPr/>
            <p:nvPr/>
          </p:nvGrpSpPr>
          <p:grpSpPr>
            <a:xfrm>
              <a:off x="1270080" y="2877120"/>
              <a:ext cx="996840" cy="1236960"/>
              <a:chOff x="1270080" y="2877120"/>
              <a:chExt cx="996840" cy="1236960"/>
            </a:xfrm>
          </p:grpSpPr>
          <p:sp>
            <p:nvSpPr>
              <p:cNvPr id="3436" name=""/>
              <p:cNvSpPr/>
              <p:nvPr/>
            </p:nvSpPr>
            <p:spPr>
              <a:xfrm>
                <a:off x="1270080" y="345708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270080" y="291528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1270080" y="3495600"/>
                <a:ext cx="932760" cy="579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202840" y="403704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202840" y="2877120"/>
                <a:ext cx="64080" cy="7704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41" name=""/>
            <p:cNvSpPr/>
            <p:nvPr/>
          </p:nvSpPr>
          <p:spPr>
            <a:xfrm flipV="1">
              <a:off x="336960" y="2142000"/>
              <a:ext cx="932760" cy="695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36960" y="2838600"/>
              <a:ext cx="932760" cy="657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5715000" y="4419720"/>
            <a:ext cx="2819520" cy="2133360"/>
            <a:chOff x="5715000" y="4419720"/>
            <a:chExt cx="2819520" cy="2133360"/>
          </a:xfrm>
        </p:grpSpPr>
        <p:sp>
          <p:nvSpPr>
            <p:cNvPr id="3444" name=""/>
            <p:cNvSpPr/>
            <p:nvPr/>
          </p:nvSpPr>
          <p:spPr>
            <a:xfrm>
              <a:off x="7124760" y="4419720"/>
              <a:ext cx="0" cy="2133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715000" y="5507280"/>
              <a:ext cx="28195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chnology strategy on one slide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449" name=""/>
          <p:cNvGraphicFramePr/>
          <p:nvPr/>
        </p:nvGraphicFramePr>
        <p:xfrm>
          <a:off x="3581280" y="2666880"/>
          <a:ext cx="1486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666880"/>
                    <a:ext cx="1486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1" name=""/>
          <p:cNvSpPr/>
          <p:nvPr/>
        </p:nvSpPr>
        <p:spPr>
          <a:xfrm>
            <a:off x="4346640" y="3692520"/>
            <a:ext cx="1444680" cy="1139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2895480" y="3692520"/>
            <a:ext cx="1444680" cy="1139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453" name=""/>
          <p:cNvGrpSpPr/>
          <p:nvPr/>
        </p:nvGrpSpPr>
        <p:grpSpPr>
          <a:xfrm>
            <a:off x="223200" y="1994040"/>
            <a:ext cx="2681640" cy="1663200"/>
            <a:chOff x="223200" y="1994040"/>
            <a:chExt cx="2681640" cy="1663200"/>
          </a:xfrm>
        </p:grpSpPr>
        <p:grpSp>
          <p:nvGrpSpPr>
            <p:cNvPr id="3454" name=""/>
            <p:cNvGrpSpPr/>
            <p:nvPr/>
          </p:nvGrpSpPr>
          <p:grpSpPr>
            <a:xfrm>
              <a:off x="223200" y="2584080"/>
              <a:ext cx="1869120" cy="1073160"/>
              <a:chOff x="223200" y="2584080"/>
              <a:chExt cx="1869120" cy="1073160"/>
            </a:xfrm>
          </p:grpSpPr>
          <p:sp>
            <p:nvSpPr>
              <p:cNvPr id="3455" name=""/>
              <p:cNvSpPr/>
              <p:nvPr/>
            </p:nvSpPr>
            <p:spPr>
              <a:xfrm>
                <a:off x="609480" y="2667960"/>
                <a:ext cx="0" cy="989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09480" y="3657240"/>
                <a:ext cx="11991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3457" name=""/>
              <p:cNvGrpSpPr/>
              <p:nvPr/>
            </p:nvGrpSpPr>
            <p:grpSpPr>
              <a:xfrm>
                <a:off x="223200" y="2584080"/>
                <a:ext cx="1869120" cy="1073160"/>
                <a:chOff x="223200" y="2584080"/>
                <a:chExt cx="1869120" cy="107316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223200" y="2584080"/>
                  <a:ext cx="934200" cy="100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1158120" y="2647440"/>
                  <a:ext cx="934200" cy="100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68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6886"/>
                    </a:path>
                  </a:pathLst>
                </a:custGeom>
                <a:noFill/>
                <a:ln cap="rnd"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0" name=""/>
            <p:cNvGrpSpPr/>
            <p:nvPr/>
          </p:nvGrpSpPr>
          <p:grpSpPr>
            <a:xfrm>
              <a:off x="1036800" y="1994040"/>
              <a:ext cx="1868040" cy="1073160"/>
              <a:chOff x="1036800" y="1994040"/>
              <a:chExt cx="1868040" cy="1073160"/>
            </a:xfrm>
          </p:grpSpPr>
          <p:sp>
            <p:nvSpPr>
              <p:cNvPr id="3461" name=""/>
              <p:cNvSpPr/>
              <p:nvPr/>
            </p:nvSpPr>
            <p:spPr>
              <a:xfrm>
                <a:off x="1036800" y="1994040"/>
                <a:ext cx="933480" cy="100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971360" y="2057400"/>
                <a:ext cx="933480" cy="100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8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886"/>
                  </a:path>
                </a:pathLst>
              </a:cu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63" name="sy01265_" descr=""/>
          <p:cNvPicPr/>
          <p:nvPr/>
        </p:nvPicPr>
        <p:blipFill>
          <a:blip r:embed="rId3"/>
          <a:stretch/>
        </p:blipFill>
        <p:spPr>
          <a:xfrm>
            <a:off x="1933560" y="2357280"/>
            <a:ext cx="217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3464" name=""/>
          <p:cNvGrpSpPr/>
          <p:nvPr/>
        </p:nvGrpSpPr>
        <p:grpSpPr>
          <a:xfrm>
            <a:off x="4923360" y="1600200"/>
            <a:ext cx="1790280" cy="1219320"/>
            <a:chOff x="4923360" y="1600200"/>
            <a:chExt cx="1790280" cy="1219320"/>
          </a:xfrm>
        </p:grpSpPr>
        <p:sp>
          <p:nvSpPr>
            <p:cNvPr id="3465" name=""/>
            <p:cNvSpPr/>
            <p:nvPr/>
          </p:nvSpPr>
          <p:spPr>
            <a:xfrm>
              <a:off x="5257800" y="1600200"/>
              <a:ext cx="0" cy="12193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257800" y="2819520"/>
              <a:ext cx="12952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923360" y="1689120"/>
              <a:ext cx="668520" cy="11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592960" y="1866600"/>
              <a:ext cx="46404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3"/>
                  </a:moveTo>
                  <a:arcTo wR="10800" hR="10800" stAng="-10794608" swAng="539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3"/>
                  </a:moveTo>
                  <a:arcTo wR="10800" hR="10800" stAng="-10794608" swAng="5390135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577480" y="1868040"/>
              <a:ext cx="46548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4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4608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043680" y="1689120"/>
              <a:ext cx="669960" cy="11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71" name=""/>
            <p:cNvGrpSpPr/>
            <p:nvPr/>
          </p:nvGrpSpPr>
          <p:grpSpPr>
            <a:xfrm>
              <a:off x="5535720" y="2214000"/>
              <a:ext cx="113400" cy="82440"/>
              <a:chOff x="5535720" y="2214000"/>
              <a:chExt cx="113400" cy="82440"/>
            </a:xfrm>
          </p:grpSpPr>
          <p:sp>
            <p:nvSpPr>
              <p:cNvPr id="3472" name=""/>
              <p:cNvSpPr/>
              <p:nvPr/>
            </p:nvSpPr>
            <p:spPr>
              <a:xfrm>
                <a:off x="5535720" y="2214000"/>
                <a:ext cx="41040" cy="8244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608080" y="2214000"/>
                <a:ext cx="41040" cy="82440"/>
              </a:xfrm>
              <a:prstGeom prst="leftArrow">
                <a:avLst>
                  <a:gd name="adj1" fmla="val 50000"/>
                  <a:gd name="adj2" fmla="val 49995"/>
                </a:avLst>
              </a:prstGeom>
              <a:solidFill>
                <a:srgbClr val="ff66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4" name=""/>
          <p:cNvGrpSpPr/>
          <p:nvPr/>
        </p:nvGrpSpPr>
        <p:grpSpPr>
          <a:xfrm>
            <a:off x="6858000" y="2057400"/>
            <a:ext cx="1371600" cy="1371600"/>
            <a:chOff x="6858000" y="2057400"/>
            <a:chExt cx="1371600" cy="1371600"/>
          </a:xfrm>
        </p:grpSpPr>
        <p:grpSp>
          <p:nvGrpSpPr>
            <p:cNvPr id="3475" name=""/>
            <p:cNvGrpSpPr/>
            <p:nvPr/>
          </p:nvGrpSpPr>
          <p:grpSpPr>
            <a:xfrm>
              <a:off x="6858000" y="2164680"/>
              <a:ext cx="1305360" cy="1264320"/>
              <a:chOff x="6858000" y="2164680"/>
              <a:chExt cx="1305360" cy="1264320"/>
            </a:xfrm>
          </p:grpSpPr>
          <p:sp>
            <p:nvSpPr>
              <p:cNvPr id="3476" name=""/>
              <p:cNvSpPr/>
              <p:nvPr/>
            </p:nvSpPr>
            <p:spPr>
              <a:xfrm>
                <a:off x="6858000" y="2164680"/>
                <a:ext cx="0" cy="1264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858000" y="3429000"/>
                <a:ext cx="13053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78" name=""/>
            <p:cNvSpPr/>
            <p:nvPr/>
          </p:nvSpPr>
          <p:spPr>
            <a:xfrm flipV="1">
              <a:off x="6990480" y="2406960"/>
              <a:ext cx="1083960" cy="322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6990480" y="2083680"/>
              <a:ext cx="973440" cy="59148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7145640" y="2998800"/>
              <a:ext cx="1083960" cy="322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7167600" y="2057400"/>
              <a:ext cx="1017720" cy="12103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482" name=""/>
          <p:cNvGrpSpPr/>
          <p:nvPr/>
        </p:nvGrpSpPr>
        <p:grpSpPr>
          <a:xfrm>
            <a:off x="6019920" y="3809880"/>
            <a:ext cx="2701440" cy="1341720"/>
            <a:chOff x="6019920" y="3809880"/>
            <a:chExt cx="2701440" cy="1341720"/>
          </a:xfrm>
        </p:grpSpPr>
        <p:sp>
          <p:nvSpPr>
            <p:cNvPr id="3483" name=""/>
            <p:cNvSpPr/>
            <p:nvPr/>
          </p:nvSpPr>
          <p:spPr>
            <a:xfrm>
              <a:off x="7005240" y="3809880"/>
              <a:ext cx="730440" cy="36288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005240" y="4788720"/>
              <a:ext cx="730440" cy="36288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019920" y="4299120"/>
              <a:ext cx="730440" cy="36288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990920" y="4299120"/>
              <a:ext cx="730440" cy="36288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005240" y="4299120"/>
              <a:ext cx="730440" cy="362880"/>
            </a:xfrm>
            <a:prstGeom prst="rect">
              <a:avLst/>
            </a:prstGeom>
            <a:noFill/>
            <a:ln w="12600">
              <a:solidFill>
                <a:srgbClr val="fb0536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755400" y="4470480"/>
              <a:ext cx="230400" cy="69120"/>
            </a:xfrm>
            <a:prstGeom prst="rightArrow">
              <a:avLst>
                <a:gd name="adj1" fmla="val 75009"/>
                <a:gd name="adj2" fmla="val 166682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755840" y="4470480"/>
              <a:ext cx="230400" cy="69120"/>
            </a:xfrm>
            <a:prstGeom prst="leftArrow">
              <a:avLst>
                <a:gd name="adj1" fmla="val 75009"/>
                <a:gd name="adj2" fmla="val 166651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328880" y="4660200"/>
              <a:ext cx="83160" cy="130320"/>
            </a:xfrm>
            <a:prstGeom prst="upArrow">
              <a:avLst>
                <a:gd name="adj1" fmla="val 75009"/>
                <a:gd name="adj2" fmla="val 78347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328880" y="4170600"/>
              <a:ext cx="83160" cy="130320"/>
            </a:xfrm>
            <a:prstGeom prst="downArrow">
              <a:avLst>
                <a:gd name="adj1" fmla="val 75009"/>
                <a:gd name="adj2" fmla="val 78362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492" name=""/>
          <p:cNvGrpSpPr/>
          <p:nvPr/>
        </p:nvGrpSpPr>
        <p:grpSpPr>
          <a:xfrm>
            <a:off x="4419720" y="5105160"/>
            <a:ext cx="2209680" cy="1371600"/>
            <a:chOff x="4419720" y="5105160"/>
            <a:chExt cx="2209680" cy="1371600"/>
          </a:xfrm>
        </p:grpSpPr>
        <p:sp>
          <p:nvSpPr>
            <p:cNvPr id="3493" name=""/>
            <p:cNvSpPr/>
            <p:nvPr/>
          </p:nvSpPr>
          <p:spPr>
            <a:xfrm>
              <a:off x="4419720" y="6342120"/>
              <a:ext cx="6350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334120" y="6342120"/>
              <a:ext cx="9651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929840" y="5107320"/>
              <a:ext cx="1697400" cy="123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4927680" y="5105160"/>
              <a:ext cx="1701720" cy="1236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97" name=""/>
            <p:cNvGrpSpPr/>
            <p:nvPr/>
          </p:nvGrpSpPr>
          <p:grpSpPr>
            <a:xfrm>
              <a:off x="4952880" y="5127480"/>
              <a:ext cx="1650600" cy="1214640"/>
              <a:chOff x="4952880" y="5127480"/>
              <a:chExt cx="1650600" cy="1214640"/>
            </a:xfrm>
          </p:grpSpPr>
          <p:sp>
            <p:nvSpPr>
              <p:cNvPr id="3498" name=""/>
              <p:cNvSpPr/>
              <p:nvPr/>
            </p:nvSpPr>
            <p:spPr>
              <a:xfrm>
                <a:off x="4952880" y="5712480"/>
                <a:ext cx="838080" cy="629640"/>
              </a:xfrm>
              <a:custGeom>
                <a:avLst/>
                <a:gdLst/>
                <a:ahLst/>
                <a:rect l="l" t="t" r="r" b="b"/>
                <a:pathLst>
                  <a:path w="1776" h="1440">
                    <a:moveTo>
                      <a:pt x="0" y="1440"/>
                    </a:moveTo>
                    <a:cubicBezTo>
                      <a:pt x="600" y="1392"/>
                      <a:pt x="1200" y="1344"/>
                      <a:pt x="1488" y="1104"/>
                    </a:cubicBezTo>
                    <a:cubicBezTo>
                      <a:pt x="1776" y="864"/>
                      <a:pt x="1752" y="432"/>
                      <a:pt x="1728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 flipV="1">
                <a:off x="5739480" y="5127120"/>
                <a:ext cx="863640" cy="629640"/>
              </a:xfrm>
              <a:custGeom>
                <a:avLst/>
                <a:gdLst/>
                <a:ahLst/>
                <a:rect l="l" t="t" r="r" b="b"/>
                <a:pathLst>
                  <a:path w="1776" h="1440">
                    <a:moveTo>
                      <a:pt x="0" y="1440"/>
                    </a:moveTo>
                    <a:cubicBezTo>
                      <a:pt x="600" y="1392"/>
                      <a:pt x="1200" y="1344"/>
                      <a:pt x="1488" y="1104"/>
                    </a:cubicBezTo>
                    <a:cubicBezTo>
                      <a:pt x="1776" y="864"/>
                      <a:pt x="1752" y="432"/>
                      <a:pt x="1728" y="0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500" name=""/>
            <p:cNvSpPr/>
            <p:nvPr/>
          </p:nvSpPr>
          <p:spPr>
            <a:xfrm>
              <a:off x="5816520" y="5330160"/>
              <a:ext cx="507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6324480" y="5172480"/>
              <a:ext cx="0" cy="157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324480" y="5172840"/>
              <a:ext cx="203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503" name=""/>
            <p:cNvGrpSpPr/>
            <p:nvPr/>
          </p:nvGrpSpPr>
          <p:grpSpPr>
            <a:xfrm>
              <a:off x="4978440" y="5780160"/>
              <a:ext cx="786600" cy="539640"/>
              <a:chOff x="4978440" y="5780160"/>
              <a:chExt cx="786600" cy="539640"/>
            </a:xfrm>
          </p:grpSpPr>
          <p:sp>
            <p:nvSpPr>
              <p:cNvPr id="3504" name=""/>
              <p:cNvSpPr/>
              <p:nvPr/>
            </p:nvSpPr>
            <p:spPr>
              <a:xfrm flipH="1">
                <a:off x="5181120" y="6162480"/>
                <a:ext cx="5079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81480" y="6162480"/>
                <a:ext cx="0" cy="157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4978440" y="6319800"/>
                <a:ext cx="2030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689440" y="5802480"/>
                <a:ext cx="0" cy="359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5689080" y="5780160"/>
                <a:ext cx="759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509" name=""/>
            <p:cNvSpPr/>
            <p:nvPr/>
          </p:nvSpPr>
          <p:spPr>
            <a:xfrm flipV="1">
              <a:off x="5842080" y="5307480"/>
              <a:ext cx="0" cy="35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765760" y="5690160"/>
              <a:ext cx="75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838080" y="5029200"/>
            <a:ext cx="1143000" cy="1371600"/>
            <a:chOff x="838080" y="5029200"/>
            <a:chExt cx="1143000" cy="1371600"/>
          </a:xfrm>
        </p:grpSpPr>
        <p:sp>
          <p:nvSpPr>
            <p:cNvPr id="3512" name=""/>
            <p:cNvSpPr/>
            <p:nvPr/>
          </p:nvSpPr>
          <p:spPr>
            <a:xfrm>
              <a:off x="838080" y="5029200"/>
              <a:ext cx="1143000" cy="1371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108440" y="5769360"/>
              <a:ext cx="600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979920" y="6074280"/>
              <a:ext cx="858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208520" y="5508000"/>
              <a:ext cx="400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151920" y="4038480"/>
            <a:ext cx="1524600" cy="1142640"/>
            <a:chOff x="151920" y="4038480"/>
            <a:chExt cx="1524600" cy="1142640"/>
          </a:xfrm>
        </p:grpSpPr>
        <p:sp>
          <p:nvSpPr>
            <p:cNvPr id="3517" name=""/>
            <p:cNvSpPr/>
            <p:nvPr/>
          </p:nvSpPr>
          <p:spPr>
            <a:xfrm>
              <a:off x="628560" y="4038480"/>
              <a:ext cx="0" cy="857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28560" y="4895640"/>
              <a:ext cx="10479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151920" y="4895640"/>
              <a:ext cx="476280" cy="285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1828800" y="4038480"/>
            <a:ext cx="762120" cy="1441440"/>
            <a:chOff x="1828800" y="4038480"/>
            <a:chExt cx="762120" cy="1441440"/>
          </a:xfrm>
        </p:grpSpPr>
        <p:sp>
          <p:nvSpPr>
            <p:cNvPr id="3521" name=""/>
            <p:cNvSpPr/>
            <p:nvPr/>
          </p:nvSpPr>
          <p:spPr>
            <a:xfrm>
              <a:off x="1828800" y="4038480"/>
              <a:ext cx="762120" cy="4424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863720" y="4590360"/>
              <a:ext cx="692280" cy="33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828800" y="5037480"/>
              <a:ext cx="762120" cy="4424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142720" y="4485240"/>
              <a:ext cx="133920" cy="10080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142720" y="4932360"/>
              <a:ext cx="133920" cy="1004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66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2895480" y="5105520"/>
            <a:ext cx="1143000" cy="1371600"/>
            <a:chOff x="2895480" y="5105520"/>
            <a:chExt cx="1143000" cy="1371600"/>
          </a:xfrm>
        </p:grpSpPr>
        <p:sp>
          <p:nvSpPr>
            <p:cNvPr id="3527" name=""/>
            <p:cNvSpPr/>
            <p:nvPr/>
          </p:nvSpPr>
          <p:spPr>
            <a:xfrm>
              <a:off x="2895480" y="5105520"/>
              <a:ext cx="0" cy="1371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895480" y="6477120"/>
              <a:ext cx="11430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895480" y="5807880"/>
              <a:ext cx="11430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895480" y="5517360"/>
              <a:ext cx="294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190320" y="5517360"/>
              <a:ext cx="0" cy="76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190320" y="6286680"/>
              <a:ext cx="848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3887280" y="304812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572360" y="4038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ptu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3048120" y="40384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liv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536" name=""/>
          <p:cNvGrpSpPr/>
          <p:nvPr/>
        </p:nvGrpSpPr>
        <p:grpSpPr>
          <a:xfrm>
            <a:off x="6781680" y="5334120"/>
            <a:ext cx="2234880" cy="1295280"/>
            <a:chOff x="6781680" y="5334120"/>
            <a:chExt cx="2234880" cy="1295280"/>
          </a:xfrm>
        </p:grpSpPr>
        <p:sp>
          <p:nvSpPr>
            <p:cNvPr id="3537" name=""/>
            <p:cNvSpPr/>
            <p:nvPr/>
          </p:nvSpPr>
          <p:spPr>
            <a:xfrm>
              <a:off x="8252640" y="6273000"/>
              <a:ext cx="627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781680" y="5334120"/>
              <a:ext cx="2234880" cy="1295280"/>
              <a:chOff x="6781680" y="5334120"/>
              <a:chExt cx="2234880" cy="1295280"/>
            </a:xfrm>
          </p:grpSpPr>
          <p:sp>
            <p:nvSpPr>
              <p:cNvPr id="3539" name=""/>
              <p:cNvSpPr/>
              <p:nvPr/>
            </p:nvSpPr>
            <p:spPr>
              <a:xfrm>
                <a:off x="6781680" y="5334120"/>
                <a:ext cx="21232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200360" y="5680800"/>
                <a:ext cx="0" cy="9259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200360" y="5680800"/>
                <a:ext cx="170424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8276760" y="6260040"/>
                <a:ext cx="0" cy="346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798320" y="6027840"/>
                <a:ext cx="0" cy="578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798320" y="6027840"/>
                <a:ext cx="110664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781680" y="6607080"/>
                <a:ext cx="21232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V="1">
                <a:off x="8904960" y="5334120"/>
                <a:ext cx="0" cy="1272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6781680" y="5334120"/>
                <a:ext cx="0" cy="1295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956280" y="5521680"/>
                <a:ext cx="96840" cy="106920"/>
              </a:xfrm>
              <a:prstGeom prst="ellipse">
                <a:avLst/>
              </a:prstGeom>
              <a:gradFill rotWithShape="0">
                <a:gsLst>
                  <a:gs pos="0">
                    <a:srgbClr val="ff6633"/>
                  </a:gs>
                  <a:gs pos="50000">
                    <a:srgbClr val="752f17"/>
                  </a:gs>
                  <a:gs pos="100000">
                    <a:srgbClr val="ff66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306200" y="5584320"/>
                <a:ext cx="427320" cy="4644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8297640" y="6398640"/>
                <a:ext cx="97200" cy="106560"/>
              </a:xfrm>
              <a:prstGeom prst="ellipse">
                <a:avLst/>
              </a:prstGeom>
              <a:gradFill rotWithShape="0">
                <a:gsLst>
                  <a:gs pos="0">
                    <a:srgbClr val="ff6633"/>
                  </a:gs>
                  <a:gs pos="50000">
                    <a:srgbClr val="752f17"/>
                  </a:gs>
                  <a:gs pos="100000">
                    <a:srgbClr val="ff66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8588880" y="6148080"/>
                <a:ext cx="427680" cy="4644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889400" y="6210720"/>
                <a:ext cx="259920" cy="2869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89560" y="5834880"/>
                <a:ext cx="258840" cy="2869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8238960" y="5960160"/>
                <a:ext cx="273240" cy="2869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50000">
                    <a:srgbClr val="175e17"/>
                  </a:gs>
                  <a:gs pos="100000">
                    <a:srgbClr val="33cc33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5" name=""/>
          <p:cNvGrpSpPr/>
          <p:nvPr/>
        </p:nvGrpSpPr>
        <p:grpSpPr>
          <a:xfrm>
            <a:off x="2590920" y="1447920"/>
            <a:ext cx="2209320" cy="1447560"/>
            <a:chOff x="2590920" y="1447920"/>
            <a:chExt cx="2209320" cy="1447560"/>
          </a:xfrm>
        </p:grpSpPr>
        <p:grpSp>
          <p:nvGrpSpPr>
            <p:cNvPr id="3556" name=""/>
            <p:cNvGrpSpPr/>
            <p:nvPr/>
          </p:nvGrpSpPr>
          <p:grpSpPr>
            <a:xfrm>
              <a:off x="2650680" y="1447920"/>
              <a:ext cx="1910880" cy="1447560"/>
              <a:chOff x="2650680" y="1447920"/>
              <a:chExt cx="1910880" cy="1447560"/>
            </a:xfrm>
          </p:grpSpPr>
          <p:sp>
            <p:nvSpPr>
              <p:cNvPr id="3557" name=""/>
              <p:cNvSpPr/>
              <p:nvPr/>
            </p:nvSpPr>
            <p:spPr>
              <a:xfrm>
                <a:off x="2650680" y="1568160"/>
                <a:ext cx="1883160" cy="45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V="1">
                <a:off x="2678400" y="2322360"/>
                <a:ext cx="1883160" cy="45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093840" y="1447920"/>
                <a:ext cx="0" cy="14475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675240" y="1447920"/>
                <a:ext cx="0" cy="14475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201560" y="1447920"/>
                <a:ext cx="0" cy="14475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3188160" y="2343960"/>
              <a:ext cx="417600" cy="13752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382280" y="2068200"/>
              <a:ext cx="417960" cy="1375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725640" y="1999080"/>
              <a:ext cx="417600" cy="13788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50000">
                  <a:srgbClr val="000099"/>
                </a:gs>
                <a:gs pos="100000">
                  <a:srgbClr val="000046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844800" y="2137320"/>
              <a:ext cx="417960" cy="1375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590920" y="1723680"/>
              <a:ext cx="417960" cy="1375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710080" y="1861200"/>
              <a:ext cx="417960" cy="1375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happens on Monday morning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: Getting there from 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dtronic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irkham Instrume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expectations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1905120" y="2286000"/>
            <a:ext cx="0" cy="3276720"/>
          </a:xfrm>
          <a:prstGeom prst="line">
            <a:avLst/>
          </a:prstGeom>
          <a:ln w="1260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905120" y="5562720"/>
            <a:ext cx="50292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16000" y="2343240"/>
            <a:ext cx="135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926320" y="569124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2207520" y="40384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istoric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584" name=""/>
          <p:cNvGrpSpPr/>
          <p:nvPr/>
        </p:nvGrpSpPr>
        <p:grpSpPr>
          <a:xfrm>
            <a:off x="1905120" y="2057040"/>
            <a:ext cx="4800600" cy="1828800"/>
            <a:chOff x="1905120" y="2057040"/>
            <a:chExt cx="4800600" cy="1828800"/>
          </a:xfrm>
        </p:grpSpPr>
        <p:sp>
          <p:nvSpPr>
            <p:cNvPr id="3585" name=""/>
            <p:cNvSpPr/>
            <p:nvPr/>
          </p:nvSpPr>
          <p:spPr>
            <a:xfrm flipV="1">
              <a:off x="1905120" y="3733560"/>
              <a:ext cx="2133360" cy="152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4038480" y="2819520"/>
              <a:ext cx="762120" cy="9144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4800600" y="2057040"/>
              <a:ext cx="1905120" cy="762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588" name=""/>
          <p:cNvSpPr/>
          <p:nvPr/>
        </p:nvSpPr>
        <p:spPr>
          <a:xfrm>
            <a:off x="5789160" y="242244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nticipated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200760" y="28954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reality of chang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1905120" y="2286000"/>
            <a:ext cx="0" cy="3276720"/>
          </a:xfrm>
          <a:prstGeom prst="line">
            <a:avLst/>
          </a:prstGeom>
          <a:ln w="1260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905120" y="5562720"/>
            <a:ext cx="50292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216000" y="2343240"/>
            <a:ext cx="135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926320" y="569124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2207520" y="40384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istoric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5789160" y="242244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nticipated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1905120" y="3733560"/>
            <a:ext cx="2133360" cy="152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4800600" y="2057040"/>
            <a:ext cx="1905120" cy="762120"/>
          </a:xfrm>
          <a:prstGeom prst="line">
            <a:avLst/>
          </a:prstGeom>
          <a:ln w="1260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4800960" y="3581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038480" y="3733920"/>
            <a:ext cx="457200" cy="9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4495680" y="2819160"/>
            <a:ext cx="304920" cy="1904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ccessful Implementation: Common Less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nior management commitment &amp; involv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ior steering committe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mpowered champ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gnostic phas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igned with the marke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 well as with the existing culture and organization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designed implementation pl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p fron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ppropriate expect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cating resources to match the design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30592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 Portfolio Planning and Product Development Phases and Execution Ti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188424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iagnosi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426888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sig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nd Pilo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666900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rganizatio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ide Roll-out &amp; 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39680" y="18288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hase Dur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39680" y="2895480"/>
            <a:ext cx="1671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ho’s Involved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188280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.5-3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2022480" y="2908440"/>
            <a:ext cx="2036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26096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6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672948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6-12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4317840" y="2908440"/>
            <a:ext cx="2054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dicated project tea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ccess to pilot team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139680" y="4483080"/>
            <a:ext cx="1671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Key Activiti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022480" y="4483080"/>
            <a:ext cx="2133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nterviews w/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cess mapp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ssessment of key issu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reate steering tea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4317840" y="4483080"/>
            <a:ext cx="2230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stomize and create process and tool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ilot and test  tools/ process in “real time”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efine and enhance tool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n-going review and assessment with senior manag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6742080" y="4483080"/>
            <a:ext cx="1752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aining of new tools / proces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ocumentation of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tomation of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ganizational change and cultural align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128520" y="2357280"/>
            <a:ext cx="1866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re Project Team (FTEs)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2130480" y="2359080"/>
            <a:ext cx="167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-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4541760" y="2359080"/>
            <a:ext cx="16718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6877080" y="2347920"/>
            <a:ext cx="167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154080" y="2219400"/>
            <a:ext cx="8839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152280" y="2870280"/>
            <a:ext cx="8839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152280" y="4508640"/>
            <a:ext cx="8839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87956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417816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660384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742080" y="2908440"/>
            <a:ext cx="2054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dicated project team shifts memb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Whole organiz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se Ex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dical Device Manufacturer (1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miconductor Supplier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dical Device Manufacturer (2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asurement Device Manufactur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lecommunication Equipment Manufactur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n to Small Groups of Managers at Company XYZ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3960" y="1847880"/>
            <a:ext cx="661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. Identify the salient characteristics of your organization’s innovation funn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Draw a diagram of the innovation funnel that captures these characteristic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353880" y="659880"/>
            <a:ext cx="85615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evice Company – Extensive portfolio management implementation across 9 div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38280" y="3166920"/>
            <a:ext cx="8192880" cy="119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urgency for portfolio management was felt throughout the organization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ck of synergy and alignment to strategy across multiple divisions who were making independent product development decis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80880" y="1401840"/>
            <a:ext cx="8458200" cy="3045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561960" y="2097000"/>
            <a:ext cx="14479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31640" y="2135160"/>
            <a:ext cx="172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3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ssessment &amp; Program Design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533520" y="1792440"/>
            <a:ext cx="1371600" cy="228600"/>
          </a:xfrm>
          <a:prstGeom prst="rect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1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2968560" y="1792440"/>
            <a:ext cx="2667240" cy="228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 fontScale="51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914560" y="2097000"/>
            <a:ext cx="279396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5165640" y="2097000"/>
            <a:ext cx="37242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200400" y="2135160"/>
            <a:ext cx="215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rtfolio Planning Developed and Pilot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5616720" y="2135160"/>
            <a:ext cx="32893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rtfolio Planning Implemented at  Divisional, Group &amp; Corp. Level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546120" y="1386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 month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3632040" y="138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4 month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6603840" y="1386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4 month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5807160" y="1805040"/>
            <a:ext cx="2971800" cy="216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 fontScale="46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009880" y="1690560"/>
            <a:ext cx="0" cy="406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5713560" y="1738440"/>
            <a:ext cx="0" cy="3301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909880" y="1671480"/>
            <a:ext cx="0" cy="419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 rot="16200000">
            <a:off x="-152280" y="3582360"/>
            <a:ext cx="1204920" cy="379440"/>
          </a:xfrm>
          <a:prstGeom prst="rect">
            <a:avLst/>
          </a:pr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rot="16200000">
            <a:off x="-587880" y="5204520"/>
            <a:ext cx="2076480" cy="379440"/>
          </a:xfrm>
          <a:prstGeom prst="rect">
            <a:avLst/>
          </a:prstGeom>
          <a:solidFill>
            <a:srgbClr val="f7631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38280" y="4352760"/>
            <a:ext cx="8192880" cy="209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nior management played the critical role of champion and driver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riven from top down; strong belief it would only work if implemented across all the divis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volvement from the divisions was driven by incentiv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nce the process was piloted, divisions had more influence in the new decision-making process when their portfolio was presented and discussed using the new, common structur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202680" y="517320"/>
            <a:ext cx="721044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mi-conductor Manufacturer – Transitioning to complete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1811160" y="1486080"/>
            <a:ext cx="6909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752560" y="136692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3672000" y="136692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556160" y="136692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5421240" y="136692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7254720" y="136692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801800" y="1990800"/>
            <a:ext cx="3618000" cy="10008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279520" y="2216160"/>
            <a:ext cx="1855800" cy="9828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684600" y="2452680"/>
            <a:ext cx="4483080" cy="9036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3560" bIns="4356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760840" y="3040200"/>
            <a:ext cx="3097080" cy="11412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4160" y="1566720"/>
            <a:ext cx="21049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7360" indent="-1173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PD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am Structur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ortfolio Manag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mplementation &amp; Autom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559400" y="3271680"/>
            <a:ext cx="3689280" cy="968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812960" y="1359000"/>
            <a:ext cx="0" cy="23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744200" y="110160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3580920" y="110160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2664720" y="110160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4473000" y="110160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5341320" y="110160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199560" y="110160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7109280" y="110160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343560" y="136044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137440" y="136044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7998480" y="110160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673200" y="1098720"/>
            <a:ext cx="2104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7360" indent="-1173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nths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-37800" y="4125240"/>
            <a:ext cx="1204920" cy="379440"/>
          </a:xfrm>
          <a:prstGeom prst="rect">
            <a:avLst/>
          </a:pr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-223560" y="5511240"/>
            <a:ext cx="1576440" cy="379440"/>
          </a:xfrm>
          <a:prstGeom prst="rect">
            <a:avLst/>
          </a:prstGeom>
          <a:solidFill>
            <a:srgbClr val="f7631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758880" y="3716280"/>
            <a:ext cx="7994520" cy="11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w complexity in the business made it difficult to tolerate: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onsistent senior management role in decision making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fficulty in making trade-offs between different project investment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758880" y="4916520"/>
            <a:ext cx="7994520" cy="158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nior management lead the implementation supported by a cross-functional steering committee of eigh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28728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lementation took longer then expected due to: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anagement struggled to understand the causes of their problem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ck of availability of senior management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38684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dical Device Manufacturer –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or understanding makes a dif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798560" y="1409760"/>
            <a:ext cx="6656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8920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354492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36572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16744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87384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801800" y="1666800"/>
            <a:ext cx="873000" cy="1238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5586480" y="2870280"/>
            <a:ext cx="838080" cy="1080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5165640" y="2654280"/>
            <a:ext cx="3313080" cy="10332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6861240" y="3084480"/>
            <a:ext cx="1617480" cy="10332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204840" y="1566720"/>
            <a:ext cx="21049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 Mapp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pacity Analysi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PD Process &amp; Initial 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lvl="1" marL="230040" indent="-115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ign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lvl="1" marL="230040" indent="-115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am Structur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lvl="1" marL="230040" indent="-115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8481960" y="129060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1812960" y="128268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1744200" y="102564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3441240" y="102564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601360" y="102564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4269960" y="102564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074560" y="1025640"/>
            <a:ext cx="1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5882040" y="102564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728400" y="102564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8332920" y="102564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6026040" y="128412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705800" y="128412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553880" y="1025640"/>
            <a:ext cx="2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204840" y="324324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ull Process 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3516480" y="1920960"/>
            <a:ext cx="873000" cy="1238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812880" y="996840"/>
            <a:ext cx="2104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7360" indent="-1173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nths: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861240" y="3449520"/>
            <a:ext cx="1836720" cy="10332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555480" y="3774960"/>
            <a:ext cx="8417160" cy="10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rganization was struggling with on-time product launches and stagnant revenue growth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ew products typically late to market and over budget by 2 or 3 x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gnant market share, while aggressive No. 1 and No. 3 players grow quickl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 rot="16200000">
            <a:off x="-209520" y="4182480"/>
            <a:ext cx="1204920" cy="379440"/>
          </a:xfrm>
          <a:prstGeom prst="rect">
            <a:avLst/>
          </a:pr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69880" y="4875120"/>
            <a:ext cx="8402760" cy="16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rectors of functional areas lead the implementation, while senior management provide oversight, focus, and implementation priorit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PD Process – 8 member, director level client team dedicated 20% of their tim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nior management steering committe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lementation progressed according to well-defined steps, sometimes separated in tim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rot="16200000">
            <a:off x="-437400" y="5510520"/>
            <a:ext cx="1660680" cy="379440"/>
          </a:xfrm>
          <a:prstGeom prst="rect">
            <a:avLst/>
          </a:prstGeom>
          <a:solidFill>
            <a:srgbClr val="f7631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"/>
          <p:cNvSpPr/>
          <p:nvPr/>
        </p:nvSpPr>
        <p:spPr>
          <a:xfrm>
            <a:off x="5880240" y="2725560"/>
            <a:ext cx="2441520" cy="381240"/>
          </a:xfrm>
          <a:prstGeom prst="rightArrow">
            <a:avLst>
              <a:gd name="adj1" fmla="val 50000"/>
              <a:gd name="adj2" fmla="val 160104"/>
            </a:avLst>
          </a:prstGeom>
          <a:gradFill rotWithShape="0">
            <a:gsLst>
              <a:gs pos="0">
                <a:srgbClr val="bd0328"/>
              </a:gs>
              <a:gs pos="100000">
                <a:srgbClr val="fb0536"/>
              </a:gs>
            </a:gsLst>
            <a:lin ang="108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01820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asurement Device Manufacturer – Uses multi-phased iterative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482760" y="1724040"/>
            <a:ext cx="1752480" cy="241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457880" y="1727280"/>
            <a:ext cx="2336760" cy="237960"/>
          </a:xfrm>
          <a:custGeom>
            <a:avLst/>
            <a:gdLst>
              <a:gd name="textAreaLeft" fmla="*/ 0 w 2336760"/>
              <a:gd name="textAreaRight" fmla="*/ 2337120 w 23367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235240" y="1727280"/>
            <a:ext cx="2176560" cy="225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84280" y="171936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hase 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559760" y="171936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hase II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324160" y="17193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hase I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06440" y="1971720"/>
            <a:ext cx="1795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ortfolio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ssessment/Design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2120760" y="1971720"/>
            <a:ext cx="23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ortfolio Process Piloting and Testin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4457880" y="1971720"/>
            <a:ext cx="220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oll-out and Implement New Development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807240" y="1727280"/>
            <a:ext cx="1998720" cy="23796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099920" y="171756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hase III+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6673680" y="1971720"/>
            <a:ext cx="219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olidify Implementation of Process – Drive Organizational Chang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72480" y="1390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 week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736" name=""/>
          <p:cNvGrpSpPr/>
          <p:nvPr/>
        </p:nvGrpSpPr>
        <p:grpSpPr>
          <a:xfrm>
            <a:off x="1773000" y="2363760"/>
            <a:ext cx="667080" cy="571680"/>
            <a:chOff x="1773000" y="2363760"/>
            <a:chExt cx="667080" cy="571680"/>
          </a:xfrm>
        </p:grpSpPr>
        <p:sp>
          <p:nvSpPr>
            <p:cNvPr id="3737" name=""/>
            <p:cNvSpPr/>
            <p:nvPr/>
          </p:nvSpPr>
          <p:spPr>
            <a:xfrm>
              <a:off x="1834920" y="2636640"/>
              <a:ext cx="605160" cy="298800"/>
            </a:xfrm>
            <a:custGeom>
              <a:avLst/>
              <a:gdLst>
                <a:gd name="textAreaLeft" fmla="*/ 105840 w 605160"/>
                <a:gd name="textAreaRight" fmla="*/ 438840 w 605160"/>
                <a:gd name="textAreaTop" fmla="*/ 39960 h 298800"/>
                <a:gd name="textAreaBottom" fmla="*/ 258840 h 2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>
              <a:off x="1772640" y="2363760"/>
              <a:ext cx="605160" cy="298800"/>
            </a:xfrm>
            <a:custGeom>
              <a:avLst/>
              <a:gdLst>
                <a:gd name="textAreaLeft" fmla="*/ 105840 w 605160"/>
                <a:gd name="textAreaRight" fmla="*/ 438840 w 605160"/>
                <a:gd name="textAreaTop" fmla="*/ 39960 h 298800"/>
                <a:gd name="textAreaBottom" fmla="*/ 258840 h 2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739" name=""/>
          <p:cNvSpPr/>
          <p:nvPr/>
        </p:nvSpPr>
        <p:spPr>
          <a:xfrm>
            <a:off x="2413440" y="252720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Design and improve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4193640" y="2363760"/>
            <a:ext cx="667080" cy="571680"/>
            <a:chOff x="4193640" y="2363760"/>
            <a:chExt cx="667080" cy="571680"/>
          </a:xfrm>
        </p:grpSpPr>
        <p:sp>
          <p:nvSpPr>
            <p:cNvPr id="3741" name=""/>
            <p:cNvSpPr/>
            <p:nvPr/>
          </p:nvSpPr>
          <p:spPr>
            <a:xfrm>
              <a:off x="4255560" y="2636640"/>
              <a:ext cx="605160" cy="298800"/>
            </a:xfrm>
            <a:custGeom>
              <a:avLst/>
              <a:gdLst>
                <a:gd name="textAreaLeft" fmla="*/ 105840 w 605160"/>
                <a:gd name="textAreaRight" fmla="*/ 438840 w 605160"/>
                <a:gd name="textAreaTop" fmla="*/ 39960 h 298800"/>
                <a:gd name="textAreaBottom" fmla="*/ 258840 h 2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4193280" y="2363760"/>
              <a:ext cx="605160" cy="298800"/>
            </a:xfrm>
            <a:custGeom>
              <a:avLst/>
              <a:gdLst>
                <a:gd name="textAreaLeft" fmla="*/ 105840 w 605160"/>
                <a:gd name="textAreaRight" fmla="*/ 438840 w 605160"/>
                <a:gd name="textAreaTop" fmla="*/ 39960 h 298800"/>
                <a:gd name="textAreaBottom" fmla="*/ 258840 h 2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4770720" y="252720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Design and improve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6532560" y="2971800"/>
            <a:ext cx="8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mplement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4890960" y="13921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2697120" y="13921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 rot="16200000">
            <a:off x="-73800" y="3618000"/>
            <a:ext cx="933480" cy="379440"/>
          </a:xfrm>
          <a:prstGeom prst="rect">
            <a:avLst/>
          </a:pr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 rot="16200000">
            <a:off x="-730080" y="5203800"/>
            <a:ext cx="2246400" cy="379440"/>
          </a:xfrm>
          <a:prstGeom prst="rect">
            <a:avLst/>
          </a:prstGeom>
          <a:solidFill>
            <a:srgbClr val="f7631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584280" y="3338640"/>
            <a:ext cx="8245440" cy="9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339840" indent="-2224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ct development cycle time too slow – competitors gaining market shar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84280" y="4267080"/>
            <a:ext cx="8245440" cy="22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339840" indent="-2224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lementation of portfolio tools tied to meeting customer need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ew customer focused approach involved early/rapid prototype with lead customers – reduced redesign efforts post launch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39840" indent="-2224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nior Management ability to fast-track new innovative products enhanced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ew identification processes developed to rapidly assess potential products – allowed senior management to fast track new products and servic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39840" indent="-2224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P level, cross-divisional steering committee helped to drive rapid implementation during phase III and III+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"/>
          <p:cNvSpPr/>
          <p:nvPr/>
        </p:nvSpPr>
        <p:spPr>
          <a:xfrm>
            <a:off x="592200" y="4624560"/>
            <a:ext cx="8231040" cy="16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vision heads responsible for driving alignment between development efforts and strategy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lementation process scheduled to coincide with current standing senior management review processe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39840" indent="-235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rong focus on “tools” for driving new processes and organizational change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315720" y="584280"/>
            <a:ext cx="859932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lecommunication Equipment Manufacturer – Used implementation of portfolio to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681120" y="1398600"/>
            <a:ext cx="8234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8298720" y="1089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ve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40800" y="1089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n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987200" y="10890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w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3224880" y="108900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re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4352400" y="1089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ou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5646960" y="10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iv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7082640" y="1089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x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8456760" y="1365120"/>
            <a:ext cx="38088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719680" y="1365120"/>
            <a:ext cx="38124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3360600" y="1365120"/>
            <a:ext cx="38124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062080" y="1365120"/>
            <a:ext cx="38124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712800" y="1365120"/>
            <a:ext cx="38088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7115040" y="1365120"/>
            <a:ext cx="38124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441360" y="1695600"/>
            <a:ext cx="2251080" cy="352440"/>
          </a:xfrm>
          <a:prstGeom prst="rightArrow">
            <a:avLst>
              <a:gd name="adj1" fmla="val 60657"/>
              <a:gd name="adj2" fmla="val 63516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Strategic Tool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660920" y="2670120"/>
            <a:ext cx="2530440" cy="399960"/>
          </a:xfrm>
          <a:prstGeom prst="rightArrow">
            <a:avLst>
              <a:gd name="adj1" fmla="val 52630"/>
              <a:gd name="adj2" fmla="val 64732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e toolset for Port. Mgt.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800600" y="3460680"/>
            <a:ext cx="3886200" cy="358920"/>
          </a:xfrm>
          <a:prstGeom prst="rightArrow">
            <a:avLst>
              <a:gd name="adj1" fmla="val 50981"/>
              <a:gd name="adj2" fmla="val 109678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oll-out and Implement Portfolio Mgmt Proces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457200" y="2052720"/>
            <a:ext cx="1981080" cy="65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Agreed actionable Strategic Goal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52560" indent="-5256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Develop Portfolio Mgmt Tool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1752480" y="3057480"/>
            <a:ext cx="4724640" cy="41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evelop complete suite of portfolio tool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st tools and Portfolio Mgmt process through pilot program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4800600" y="3844800"/>
            <a:ext cx="3962520" cy="5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BU staff trained in Tool methodology &amp; population proces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Business Unit - data rich portfolio review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mplementation plan for final portfolio review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4446720" y="1365120"/>
            <a:ext cx="380880" cy="3812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gt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Rev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1752480" y="2697120"/>
            <a:ext cx="2895840" cy="358920"/>
          </a:xfrm>
          <a:prstGeom prst="rightArrow">
            <a:avLst>
              <a:gd name="adj1" fmla="val 50981"/>
              <a:gd name="adj2" fmla="val 81728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ilot process for portfolio mgmt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61920" y="113040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Month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16200000">
            <a:off x="-430200" y="5260320"/>
            <a:ext cx="1646280" cy="379440"/>
          </a:xfrm>
          <a:prstGeom prst="rect">
            <a:avLst/>
          </a:prstGeom>
          <a:solidFill>
            <a:srgbClr val="f7631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 Portfolio Planning and Product Development Phases and Execution Ti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88424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iagnosi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426888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sig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nd Pilo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6669000" y="1044720"/>
            <a:ext cx="2313000" cy="69192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d467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rganizatio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ide Roll-out &amp; 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139680" y="18288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hase Dur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139680" y="2895480"/>
            <a:ext cx="1671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ho’s Involved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188280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.5-3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2022480" y="2908440"/>
            <a:ext cx="2036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426096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6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6729480" y="1841400"/>
            <a:ext cx="16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6-12 month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317840" y="2908440"/>
            <a:ext cx="2054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dicated project tea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ccess to pilot team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39680" y="4483080"/>
            <a:ext cx="1671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Key Activiti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2022480" y="4483080"/>
            <a:ext cx="2133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nterviews w/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cess mapping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ssessment of key issu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reate steering tea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4317840" y="4483080"/>
            <a:ext cx="2230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stomize and create process and tool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ilot and test  tools/ process in “real time”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efine and enhance tool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n-going review and assessment with senior manag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6742080" y="4483080"/>
            <a:ext cx="1752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aining of new tools / proces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ocumentation of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tomation of proc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ganizational change and cultural align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28520" y="2357280"/>
            <a:ext cx="1866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re Project Team (FTEs)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2130480" y="2359080"/>
            <a:ext cx="167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-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4541760" y="2359080"/>
            <a:ext cx="16718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6877080" y="2347920"/>
            <a:ext cx="167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-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154080" y="2219400"/>
            <a:ext cx="8839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152280" y="2870280"/>
            <a:ext cx="8839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52280" y="4508640"/>
            <a:ext cx="8839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87956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417816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6603840" y="1838160"/>
            <a:ext cx="0" cy="460080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6742080" y="2908440"/>
            <a:ext cx="2054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dicated project team shifts memb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Whole organiz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ey stakehold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 management spons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ccessful Implementation: Common Less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nior management commitment &amp; involv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ior steering committe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mpowered champ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gnostic phas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igned with the marke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 well as with the existing culture and organization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designed implementation pl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p fron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ppropriate expectation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053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cating resources to match the design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od Luck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oup 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240760" y="5027400"/>
            <a:ext cx="223920" cy="41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841880" y="5040360"/>
            <a:ext cx="21132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3680" y="2292480"/>
            <a:ext cx="25884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79400" y="4178160"/>
            <a:ext cx="2178360" cy="7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562040" y="4317840"/>
            <a:ext cx="2190960" cy="7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73120" y="2641680"/>
            <a:ext cx="217512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240" y="2635200"/>
            <a:ext cx="1163520" cy="2427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9840" y="4970520"/>
            <a:ext cx="190800" cy="20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57200" y="3078000"/>
            <a:ext cx="189000" cy="206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57360" y="4081320"/>
            <a:ext cx="189000" cy="206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43080" y="4297320"/>
            <a:ext cx="189000" cy="219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5400" y="3852720"/>
            <a:ext cx="188640" cy="219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6680" y="3192480"/>
            <a:ext cx="189000" cy="206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4280" y="2747880"/>
            <a:ext cx="177840" cy="20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4120" y="3078000"/>
            <a:ext cx="190440" cy="206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4280" y="3738600"/>
            <a:ext cx="177840" cy="21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7720" y="4183200"/>
            <a:ext cx="190440" cy="21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7880" y="4525920"/>
            <a:ext cx="189000" cy="206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6240" y="2963880"/>
            <a:ext cx="177840" cy="21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90400" y="4834080"/>
            <a:ext cx="899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creen 1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8200" y="1965240"/>
            <a:ext cx="15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rketing Input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6840" y="2925720"/>
            <a:ext cx="247680" cy="1730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9200" y="4354560"/>
            <a:ext cx="60804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59200" y="2719440"/>
            <a:ext cx="561960" cy="60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1160" y="271620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67240" y="5014800"/>
            <a:ext cx="11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16720" y="2716200"/>
            <a:ext cx="4111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629320" y="4343040"/>
            <a:ext cx="42048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83360" y="3598920"/>
            <a:ext cx="434880" cy="460440"/>
            <a:chOff x="5283360" y="3598920"/>
            <a:chExt cx="434880" cy="460440"/>
          </a:xfrm>
        </p:grpSpPr>
        <p:sp>
          <p:nvSpPr>
            <p:cNvPr id="264" name=""/>
            <p:cNvSpPr/>
            <p:nvPr/>
          </p:nvSpPr>
          <p:spPr>
            <a:xfrm>
              <a:off x="5459400" y="3814920"/>
              <a:ext cx="71280" cy="53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35640" y="3598920"/>
              <a:ext cx="119160" cy="218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6800" y="3840120"/>
              <a:ext cx="10800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5480" y="3776760"/>
              <a:ext cx="212760" cy="11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3360" y="3776760"/>
              <a:ext cx="212400" cy="11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9400" y="3801960"/>
              <a:ext cx="71280" cy="6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579920" y="3643200"/>
            <a:ext cx="474840" cy="355320"/>
            <a:chOff x="4579920" y="3643200"/>
            <a:chExt cx="474840" cy="355320"/>
          </a:xfrm>
        </p:grpSpPr>
        <p:sp>
          <p:nvSpPr>
            <p:cNvPr id="271" name=""/>
            <p:cNvSpPr/>
            <p:nvPr/>
          </p:nvSpPr>
          <p:spPr>
            <a:xfrm>
              <a:off x="4579920" y="3649680"/>
              <a:ext cx="166680" cy="34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7400" y="3643200"/>
              <a:ext cx="38736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8200" y="3846240"/>
              <a:ext cx="376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597560" y="271620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7560" y="298296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67200" y="2716200"/>
            <a:ext cx="0" cy="254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97560" y="271620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9920" y="1936800"/>
            <a:ext cx="271440" cy="536400"/>
            <a:chOff x="4579920" y="1936800"/>
            <a:chExt cx="271440" cy="536400"/>
          </a:xfrm>
        </p:grpSpPr>
        <p:sp>
          <p:nvSpPr>
            <p:cNvPr id="279" name=""/>
            <p:cNvSpPr/>
            <p:nvPr/>
          </p:nvSpPr>
          <p:spPr>
            <a:xfrm>
              <a:off x="4614840" y="2355840"/>
              <a:ext cx="225360" cy="11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97280" y="2050920"/>
              <a:ext cx="49320" cy="29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9920" y="1936800"/>
              <a:ext cx="271440" cy="11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631320" y="1406520"/>
            <a:ext cx="7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i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01120" y="140652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31320" y="16095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3240" y="160956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29520" y="18129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njector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760" y="5810400"/>
            <a:ext cx="899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creen 2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27840" y="332568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033960" y="3230640"/>
            <a:ext cx="236520" cy="295200"/>
            <a:chOff x="6033960" y="3230640"/>
            <a:chExt cx="236520" cy="295200"/>
          </a:xfrm>
        </p:grpSpPr>
        <p:sp>
          <p:nvSpPr>
            <p:cNvPr id="290" name=""/>
            <p:cNvSpPr/>
            <p:nvPr/>
          </p:nvSpPr>
          <p:spPr>
            <a:xfrm>
              <a:off x="6033960" y="3319560"/>
              <a:ext cx="154080" cy="12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7760" y="3230640"/>
              <a:ext cx="72720" cy="295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3640" y="3332160"/>
              <a:ext cx="25560" cy="10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021360" y="3332160"/>
            <a:ext cx="12600" cy="10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39000" y="4119480"/>
            <a:ext cx="242640" cy="295200"/>
            <a:chOff x="6039000" y="4119480"/>
            <a:chExt cx="242640" cy="295200"/>
          </a:xfrm>
        </p:grpSpPr>
        <p:sp>
          <p:nvSpPr>
            <p:cNvPr id="295" name=""/>
            <p:cNvSpPr/>
            <p:nvPr/>
          </p:nvSpPr>
          <p:spPr>
            <a:xfrm>
              <a:off x="6208560" y="4233960"/>
              <a:ext cx="14400" cy="10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45120" y="4233960"/>
              <a:ext cx="14400" cy="10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045120" y="4119480"/>
              <a:ext cx="236520" cy="295200"/>
              <a:chOff x="6045120" y="4119480"/>
              <a:chExt cx="236520" cy="29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6045120" y="4208400"/>
                <a:ext cx="154080" cy="130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08560" y="4119480"/>
                <a:ext cx="73080" cy="29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86600" y="4221000"/>
                <a:ext cx="25200" cy="10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6039000" y="42022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V="1">
            <a:off x="6039000" y="39733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27840" y="3452760"/>
            <a:ext cx="2221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9960" y="3973680"/>
            <a:ext cx="3510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249960" y="3300120"/>
            <a:ext cx="36360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13560" y="3301920"/>
            <a:ext cx="1033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716880" y="3313080"/>
            <a:ext cx="16488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1760" y="3313080"/>
            <a:ext cx="1285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600960" y="3963960"/>
            <a:ext cx="93600" cy="38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94560" y="3960720"/>
            <a:ext cx="17460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869160" y="3960720"/>
            <a:ext cx="1411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010280" y="3325680"/>
            <a:ext cx="1288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64320" y="2305080"/>
            <a:ext cx="534960" cy="1058760"/>
            <a:chOff x="6664320" y="2305080"/>
            <a:chExt cx="534960" cy="1058760"/>
          </a:xfrm>
        </p:grpSpPr>
        <p:grpSp>
          <p:nvGrpSpPr>
            <p:cNvPr id="314" name=""/>
            <p:cNvGrpSpPr/>
            <p:nvPr/>
          </p:nvGrpSpPr>
          <p:grpSpPr>
            <a:xfrm>
              <a:off x="7128000" y="2641680"/>
              <a:ext cx="69840" cy="722160"/>
              <a:chOff x="7128000" y="2641680"/>
              <a:chExt cx="69840" cy="7221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128000" y="2647800"/>
                <a:ext cx="69840" cy="716040"/>
                <a:chOff x="7128000" y="2647800"/>
                <a:chExt cx="69840" cy="71604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7128000" y="2647800"/>
                  <a:ext cx="69840" cy="703440"/>
                  <a:chOff x="7128000" y="2647800"/>
                  <a:chExt cx="69840" cy="7034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134120" y="2647800"/>
                    <a:ext cx="60480" cy="70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128000" y="3351240"/>
                    <a:ext cx="69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>
                  <a:off x="7128000" y="3325680"/>
                  <a:ext cx="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7128000" y="264168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6823440" y="2465280"/>
              <a:ext cx="30708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14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14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10120" y="2478240"/>
              <a:ext cx="30780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14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147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10120" y="2478240"/>
              <a:ext cx="30780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14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147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86520" y="2400480"/>
              <a:ext cx="212760" cy="255240"/>
            </a:xfrm>
            <a:custGeom>
              <a:avLst/>
              <a:gdLst/>
              <a:ahLst/>
              <a:rect l="l" t="t" r="r" b="b"/>
              <a:pathLst>
                <a:path w="134" h="161">
                  <a:moveTo>
                    <a:pt x="133" y="160"/>
                  </a:moveTo>
                  <a:lnTo>
                    <a:pt x="133" y="152"/>
                  </a:lnTo>
                  <a:lnTo>
                    <a:pt x="133" y="144"/>
                  </a:lnTo>
                  <a:lnTo>
                    <a:pt x="133" y="136"/>
                  </a:lnTo>
                  <a:lnTo>
                    <a:pt x="133" y="128"/>
                  </a:lnTo>
                  <a:lnTo>
                    <a:pt x="133" y="120"/>
                  </a:lnTo>
                  <a:lnTo>
                    <a:pt x="133" y="112"/>
                  </a:lnTo>
                  <a:lnTo>
                    <a:pt x="133" y="104"/>
                  </a:lnTo>
                  <a:lnTo>
                    <a:pt x="125" y="104"/>
                  </a:lnTo>
                  <a:lnTo>
                    <a:pt x="125" y="96"/>
                  </a:lnTo>
                  <a:lnTo>
                    <a:pt x="125" y="88"/>
                  </a:lnTo>
                  <a:lnTo>
                    <a:pt x="118" y="88"/>
                  </a:lnTo>
                  <a:lnTo>
                    <a:pt x="118" y="80"/>
                  </a:lnTo>
                  <a:lnTo>
                    <a:pt x="118" y="72"/>
                  </a:lnTo>
                  <a:lnTo>
                    <a:pt x="110" y="72"/>
                  </a:lnTo>
                  <a:lnTo>
                    <a:pt x="110" y="64"/>
                  </a:lnTo>
                  <a:lnTo>
                    <a:pt x="103" y="64"/>
                  </a:lnTo>
                  <a:lnTo>
                    <a:pt x="103" y="56"/>
                  </a:lnTo>
                  <a:lnTo>
                    <a:pt x="96" y="56"/>
                  </a:lnTo>
                  <a:lnTo>
                    <a:pt x="96" y="48"/>
                  </a:lnTo>
                  <a:lnTo>
                    <a:pt x="88" y="48"/>
                  </a:lnTo>
                  <a:lnTo>
                    <a:pt x="88" y="40"/>
                  </a:lnTo>
                  <a:lnTo>
                    <a:pt x="81" y="40"/>
                  </a:lnTo>
                  <a:lnTo>
                    <a:pt x="81" y="32"/>
                  </a:lnTo>
                  <a:lnTo>
                    <a:pt x="73" y="32"/>
                  </a:lnTo>
                  <a:lnTo>
                    <a:pt x="66" y="24"/>
                  </a:lnTo>
                  <a:lnTo>
                    <a:pt x="59" y="24"/>
                  </a:lnTo>
                  <a:lnTo>
                    <a:pt x="59" y="16"/>
                  </a:lnTo>
                  <a:lnTo>
                    <a:pt x="51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6" y="8"/>
                  </a:lnTo>
                  <a:lnTo>
                    <a:pt x="29" y="8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94640" y="2406600"/>
              <a:ext cx="1778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75360" y="240048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88160" y="240048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6716520" y="2311200"/>
              <a:ext cx="82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716880" y="2463840"/>
              <a:ext cx="71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64320" y="2305080"/>
              <a:ext cx="61920" cy="257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197840" y="33256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197840" y="3313080"/>
            <a:ext cx="1173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5200" y="3313080"/>
            <a:ext cx="17604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3960720"/>
            <a:ext cx="9396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595920" y="4113360"/>
            <a:ext cx="520920" cy="1076040"/>
            <a:chOff x="6595920" y="4113360"/>
            <a:chExt cx="520920" cy="1076040"/>
          </a:xfrm>
        </p:grpSpPr>
        <p:grpSp>
          <p:nvGrpSpPr>
            <p:cNvPr id="336" name=""/>
            <p:cNvGrpSpPr/>
            <p:nvPr/>
          </p:nvGrpSpPr>
          <p:grpSpPr>
            <a:xfrm>
              <a:off x="6595920" y="4125960"/>
              <a:ext cx="520920" cy="1063440"/>
              <a:chOff x="6595920" y="4125960"/>
              <a:chExt cx="520920" cy="10634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6595920" y="4125960"/>
                <a:ext cx="520920" cy="1063440"/>
                <a:chOff x="6595920" y="4125960"/>
                <a:chExt cx="520920" cy="106344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7058160" y="4125960"/>
                  <a:ext cx="56880" cy="723960"/>
                  <a:chOff x="7058160" y="4125960"/>
                  <a:chExt cx="56880" cy="723960"/>
                </a:xfrm>
              </p:grpSpPr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7058160" y="4132440"/>
                    <a:ext cx="56880" cy="717480"/>
                    <a:chOff x="7058160" y="4132440"/>
                    <a:chExt cx="56880" cy="71748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7058160" y="4132440"/>
                      <a:ext cx="56880" cy="704520"/>
                      <a:chOff x="7058160" y="4132440"/>
                      <a:chExt cx="56880" cy="704520"/>
                    </a:xfrm>
                  </p:grpSpPr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7064280" y="4132440"/>
                        <a:ext cx="47880" cy="701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 flipH="1">
                        <a:off x="7058160" y="4836960"/>
                        <a:ext cx="568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7115040" y="4811760"/>
                      <a:ext cx="0" cy="38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 flipH="1">
                    <a:off x="7058160" y="4125960"/>
                    <a:ext cx="568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6916680" y="4836960"/>
                  <a:ext cx="200160" cy="255600"/>
                </a:xfrm>
                <a:custGeom>
                  <a:avLst/>
                  <a:gdLst/>
                  <a:ahLst/>
                  <a:rect l="l" t="t" r="r" b="b"/>
                  <a:pathLst>
                    <a:path w="126" h="161">
                      <a:moveTo>
                        <a:pt x="125" y="0"/>
                      </a:moveTo>
                      <a:lnTo>
                        <a:pt x="125" y="8"/>
                      </a:lnTo>
                      <a:lnTo>
                        <a:pt x="125" y="16"/>
                      </a:lnTo>
                      <a:lnTo>
                        <a:pt x="125" y="24"/>
                      </a:lnTo>
                      <a:lnTo>
                        <a:pt x="125" y="32"/>
                      </a:lnTo>
                      <a:lnTo>
                        <a:pt x="125" y="40"/>
                      </a:lnTo>
                      <a:lnTo>
                        <a:pt x="125" y="48"/>
                      </a:lnTo>
                      <a:lnTo>
                        <a:pt x="125" y="56"/>
                      </a:lnTo>
                      <a:lnTo>
                        <a:pt x="125" y="64"/>
                      </a:lnTo>
                      <a:lnTo>
                        <a:pt x="125" y="72"/>
                      </a:lnTo>
                      <a:lnTo>
                        <a:pt x="117" y="72"/>
                      </a:lnTo>
                      <a:lnTo>
                        <a:pt x="117" y="80"/>
                      </a:lnTo>
                      <a:lnTo>
                        <a:pt x="117" y="88"/>
                      </a:lnTo>
                      <a:lnTo>
                        <a:pt x="110" y="88"/>
                      </a:lnTo>
                      <a:lnTo>
                        <a:pt x="110" y="96"/>
                      </a:lnTo>
                      <a:lnTo>
                        <a:pt x="102" y="96"/>
                      </a:lnTo>
                      <a:lnTo>
                        <a:pt x="102" y="104"/>
                      </a:lnTo>
                      <a:lnTo>
                        <a:pt x="95" y="104"/>
                      </a:lnTo>
                      <a:lnTo>
                        <a:pt x="95" y="112"/>
                      </a:lnTo>
                      <a:lnTo>
                        <a:pt x="88" y="112"/>
                      </a:lnTo>
                      <a:lnTo>
                        <a:pt x="88" y="120"/>
                      </a:lnTo>
                      <a:lnTo>
                        <a:pt x="80" y="120"/>
                      </a:lnTo>
                      <a:lnTo>
                        <a:pt x="80" y="128"/>
                      </a:lnTo>
                      <a:lnTo>
                        <a:pt x="73" y="128"/>
                      </a:lnTo>
                      <a:lnTo>
                        <a:pt x="66" y="136"/>
                      </a:lnTo>
                      <a:lnTo>
                        <a:pt x="58" y="136"/>
                      </a:lnTo>
                      <a:lnTo>
                        <a:pt x="58" y="144"/>
                      </a:lnTo>
                      <a:lnTo>
                        <a:pt x="51" y="144"/>
                      </a:lnTo>
                      <a:lnTo>
                        <a:pt x="44" y="144"/>
                      </a:lnTo>
                      <a:lnTo>
                        <a:pt x="36" y="144"/>
                      </a:lnTo>
                      <a:lnTo>
                        <a:pt x="36" y="152"/>
                      </a:lnTo>
                      <a:lnTo>
                        <a:pt x="29" y="152"/>
                      </a:lnTo>
                      <a:lnTo>
                        <a:pt x="22" y="152"/>
                      </a:lnTo>
                      <a:lnTo>
                        <a:pt x="22" y="160"/>
                      </a:lnTo>
                      <a:lnTo>
                        <a:pt x="14" y="160"/>
                      </a:lnTo>
                      <a:lnTo>
                        <a:pt x="7" y="16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6595920" y="4633920"/>
                  <a:ext cx="464760" cy="555480"/>
                  <a:chOff x="6595920" y="4633920"/>
                  <a:chExt cx="464760" cy="5554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753240" y="4647240"/>
                    <a:ext cx="30744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7" y="10528"/>
                        </a:moveTo>
                        <a:arcTo wR="10800" hR="10800" stAng="-86561" swAng="55221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7" y="10528"/>
                        </a:moveTo>
                        <a:arcTo wR="10800" hR="10800" stAng="-86561" swAng="5522184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740280" y="4633920"/>
                    <a:ext cx="307800" cy="38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7" y="10530"/>
                        </a:moveTo>
                        <a:arcTo wR="10800" hR="10800" stAng="-86104" swAng="54861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7" y="10530"/>
                        </a:moveTo>
                        <a:arcTo wR="10800" hR="10800" stAng="-86104" swAng="5486104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740280" y="4633920"/>
                    <a:ext cx="307800" cy="38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7" y="10530"/>
                        </a:moveTo>
                        <a:arcTo wR="10800" hR="10800" stAng="-86104" swAng="54861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7" y="10530"/>
                        </a:moveTo>
                        <a:arcTo wR="10800" hR="10800" stAng="-86104" swAng="5486104"/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723000" y="5033880"/>
                    <a:ext cx="177840" cy="54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6905520" y="5027760"/>
                    <a:ext cx="0" cy="63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6716880" y="5027760"/>
                    <a:ext cx="0" cy="63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>
                    <a:off x="6646680" y="5091120"/>
                    <a:ext cx="824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flipV="1">
                    <a:off x="6647040" y="4951440"/>
                    <a:ext cx="69840" cy="76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595920" y="4932360"/>
                    <a:ext cx="59040" cy="25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6810480" y="4799160"/>
                <a:ext cx="247680" cy="291960"/>
                <a:chOff x="6810480" y="4799160"/>
                <a:chExt cx="247680" cy="291960"/>
              </a:xfrm>
            </p:grpSpPr>
            <p:sp>
              <p:nvSpPr>
                <p:cNvPr id="357" name=""/>
                <p:cNvSpPr/>
                <p:nvPr/>
              </p:nvSpPr>
              <p:spPr>
                <a:xfrm flipV="1">
                  <a:off x="7058160" y="4799160"/>
                  <a:ext cx="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10480" y="5027760"/>
                  <a:ext cx="106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3080" y="5091120"/>
                  <a:ext cx="93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" name=""/>
            <p:cNvSpPr/>
            <p:nvPr/>
          </p:nvSpPr>
          <p:spPr>
            <a:xfrm>
              <a:off x="7058160" y="41133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7326000" y="3884760"/>
            <a:ext cx="1760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7221240" y="3998880"/>
            <a:ext cx="1047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115040" y="3998880"/>
            <a:ext cx="10656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85120" y="3726000"/>
            <a:ext cx="6127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78640" y="3719520"/>
            <a:ext cx="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39080" y="3720960"/>
            <a:ext cx="32976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0" y="4"/>
                </a:moveTo>
                <a:arcTo wR="10800" hR="10800" stAng="-5498665" swAng="5432238"/>
                <a:lnTo>
                  <a:pt x="10800" y="10800"/>
                </a:lnTo>
                <a:close/>
              </a:path>
              <a:path fill="none" w="21600" h="21600">
                <a:moveTo>
                  <a:pt x="10490" y="4"/>
                </a:moveTo>
                <a:arcTo wR="10800" hR="10800" stAng="-5498665" swAng="5432238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39080" y="3720960"/>
            <a:ext cx="32976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0" y="4"/>
                </a:moveTo>
                <a:arcTo wR="10800" hR="10800" stAng="-5498665" swAng="5432238"/>
                <a:lnTo>
                  <a:pt x="10800" y="10800"/>
                </a:lnTo>
                <a:close/>
              </a:path>
              <a:path fill="none" w="21600" h="21600">
                <a:moveTo>
                  <a:pt x="10490" y="4"/>
                </a:moveTo>
                <a:arcTo wR="10800" hR="10800" stAng="-5498665" swAng="543223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01080" y="37321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64520" y="38847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01080" y="38847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94600" y="4005360"/>
            <a:ext cx="17784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6200" y="5175360"/>
            <a:ext cx="187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partment Chang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26400" y="4818240"/>
            <a:ext cx="646200" cy="33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48520" y="5464080"/>
            <a:ext cx="189000" cy="6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42400" y="5457960"/>
            <a:ext cx="19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50760" y="6165720"/>
            <a:ext cx="145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inal Evalu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7240" y="4665600"/>
            <a:ext cx="83880" cy="219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83440" y="4157640"/>
            <a:ext cx="84240" cy="219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59680" y="4691160"/>
            <a:ext cx="84240" cy="21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42320" y="4437000"/>
            <a:ext cx="84240" cy="219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26400" y="5425920"/>
            <a:ext cx="82440" cy="219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9040" y="5072040"/>
            <a:ext cx="83880" cy="219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77040" y="4411800"/>
            <a:ext cx="84240" cy="21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24480" y="3192480"/>
            <a:ext cx="189000" cy="206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86320" y="4322880"/>
            <a:ext cx="189000" cy="206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70560" y="4424400"/>
            <a:ext cx="190440" cy="206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05160" y="3459240"/>
            <a:ext cx="189000" cy="206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26000" y="3154320"/>
            <a:ext cx="190440" cy="206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84960" y="3852720"/>
            <a:ext cx="190440" cy="206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03960" y="3662280"/>
            <a:ext cx="190440" cy="206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54760" y="41511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98240" y="3948120"/>
            <a:ext cx="131040" cy="1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3" y="21483"/>
                </a:moveTo>
                <a:arcTo wR="10800" hR="10800" stAng="4894232" swAng="1860948"/>
                <a:lnTo>
                  <a:pt x="10800" y="10800"/>
                </a:lnTo>
                <a:close/>
              </a:path>
              <a:path fill="none" w="21600" h="21600">
                <a:moveTo>
                  <a:pt x="12383" y="21483"/>
                </a:moveTo>
                <a:arcTo wR="10800" hR="10800" stAng="4894232" swAng="186094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054760" y="404964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51520" y="4221000"/>
            <a:ext cx="95400" cy="10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62640" y="27162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66840" y="27162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940080" y="240048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40440" y="246384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042400" y="545760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8240760" y="54446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18200" y="2311560"/>
            <a:ext cx="27000" cy="3481200"/>
          </a:xfrm>
          <a:custGeom>
            <a:avLst/>
            <a:gdLst/>
            <a:ahLst/>
            <a:rect l="l" t="t" r="r" b="b"/>
            <a:pathLst>
              <a:path w="17" h="2193">
                <a:moveTo>
                  <a:pt x="0" y="0"/>
                </a:moveTo>
                <a:lnTo>
                  <a:pt x="16" y="0"/>
                </a:lnTo>
                <a:lnTo>
                  <a:pt x="16" y="2192"/>
                </a:lnTo>
                <a:lnTo>
                  <a:pt x="0" y="2192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6T17:09:26Z</dcterms:created>
  <dc:creator>Rebecca Henderson</dc:creator>
  <dc:description/>
  <dc:language>en-US</dc:language>
  <cp:lastModifiedBy>Rhenders</cp:lastModifiedBy>
  <cp:lastPrinted>1998-11-27T20:12:38Z</cp:lastPrinted>
  <dcterms:modified xsi:type="dcterms:W3CDTF">2001-05-07T07:06:48Z</dcterms:modified>
  <cp:revision>0</cp:revision>
  <dc:subject/>
  <dc:title>Pause IV : Organizational Architecture</dc:title>
</cp:coreProperties>
</file>